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3F2-E4B5-41A3-8746-5359CD72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3855-8003-4E48-8789-8A962B63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D61A-1D60-4560-B3F6-83EB4E25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4E7D-D6AE-4C19-B97D-57A75B25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D3DB-E01B-4388-8753-FCE19145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C779-7166-470F-B787-62A63738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F9BC-6277-47E3-AACA-F15E1E2A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C265-DB37-4E90-A597-9F21B8CB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7453-774D-439B-9042-A4342C67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ECAD-B277-442F-BF4A-B49E6193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BFF7-FA12-4A11-BDF8-5561AA9D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68F-D548-4DF2-A767-77959B5E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7741-B7B4-4D49-9EEF-5C7A4DC3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925B-9B26-4BDB-9C38-63B2B749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D5F2-77E8-4B1F-B898-31557AD5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C3CE-968E-45E8-AD8F-AC61C7E3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439F-E950-4F6B-BF06-E283DACF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8AE-B3A0-4BD1-9055-0248E828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B81B-FF75-4694-9515-1FBB6541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452B-79D8-40E5-B28C-86419C0B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4E83-E2E0-40BF-A5A8-01BB53E9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24E9-FBB4-4A3A-A5D9-2CD88DBA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D53-C4D5-4A83-99E1-1250083F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D945-21CA-4044-9B51-8673951E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3F59-7BC1-4D96-963B-83611627AE75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c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c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33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c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3300"/>
                </a:solidFill>
                <a:latin typeface="Arial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746A-9668-4559-8000-FC32F2E3DE4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33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33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33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33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yandex.ru/yandsearch?text=&#1082;&#1072;&#1088;&#1090;&#1080;&#1085;&#1082;&#1080;%20&#1075;&#1072;&#1083;&#1072;&#1087;&#1072;&#1075;&#1086;&#1089;&#1089;&#1082;&#1080;&#1077;%20&#1095;&#1077;&#1088;&#1077;&#1087;&#1072;&#1093;&#1080;&amp;img_url=www.newt.com%2Fwohler%2Fevents%2F2004%2Fgalapagos%2Fsanta-cruz%2Ftortoise-lori-big.jpg&amp;pos=8&amp;rpt=simage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Видообразование</a:t>
            </a:r>
            <a:endParaRPr b="0" lang="en-US" sz="40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Симпатрическое (экологическое) видообразование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Начинается с разделения первично единой популяции на две или более группы организмов, которые затем продолжают видообразование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. Это может происходить в результате экологической специализации.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Симпатрическое видообразование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601040" cy="2847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42520" y="4365720"/>
            <a:ext cx="782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Экологическая изоляция наблюдается при несовпадении 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мест обитания различных форм одного вида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или нескольких близких видов, например лесного (слева) 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и лугового (справа) коньков.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Экологическое видообразование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Иногда в пределах единого ареала отдельные популяции (1-5) различаются условиями обитания. Из-за этого изменяется фенология особей, а в дальнейшем и их морфология. </a:t>
            </a:r>
            <a:endParaRPr b="0" lang="en-US" sz="2400" spc="-1" strike="noStrike">
              <a:solidFill>
                <a:srgbClr val="cc33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Севанская форель</a:t>
            </a:r>
            <a:endParaRPr b="0" lang="en-US" sz="24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356000" y="1916280"/>
            <a:ext cx="4246560" cy="30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Симпатрическое видообразование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3280" y="1268280"/>
            <a:ext cx="38102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Tahoma"/>
              </a:rPr>
              <a:t>В африканским оз. Виктория, которое образовалось </a:t>
            </a:r>
            <a:endParaRPr b="0" lang="en-US" sz="2400" spc="-1" strike="noStrike">
              <a:solidFill>
                <a:srgbClr val="cc33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00"/>
                </a:solidFill>
                <a:latin typeface="Tahoma"/>
              </a:rPr>
              <a:t>12 тыс. лет назад, обитают более 500 видов рыб-цихлид, отличающиеся друг от друга по морфологии, образу жизни, поведению и ряду других признаков</a:t>
            </a:r>
            <a:endParaRPr b="0" lang="en-US" sz="24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43" name="cichlid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41004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ahoma"/>
              </a:rPr>
              <a:t>Сетчатое видообразование</a:t>
            </a: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В последние десятилетия накапливаются данные о третьем способе — сетчатом видообразовании, связанном не с расхождением признаков в популяции, 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а с гибридизацией близких видов. Такое видообразование доказано для некоторых видов ящериц, рыб и цветковых растений. Изоляция гибридов от родительских видов обусловлена полиплоидностью гибридов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ahoma"/>
              </a:rPr>
              <a:t>Полиплоидия</a:t>
            </a: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Новые виды могут образоваться в результате полиплоидизации - внезапного увеличения числа хромосом. 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Например, культурная слива возникла в результате скрещивания терна и алычи, с последующим удвоением числа хромосом у гибридов.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523000" cy="52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ahoma"/>
              </a:rPr>
              <a:t>Микроэволюция</a:t>
            </a: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это совокупность эволюционных процессов, протекающих внутри отдельных или смежных популяций вида, приводящих к изменению генетической структуры этих популяций, возникновению различий между организмами и образованию новых видов.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ahoma"/>
              </a:rPr>
              <a:t>Видообразование</a:t>
            </a: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Это процесс возникновения новых видов в результате эволюции популяций исходного вида. Происходит в тех случаях, когда биологические виды расщепляются на два или более новых вида.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Условия осуществления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 видообразования</a:t>
            </a:r>
            <a:endParaRPr b="0" lang="en-US" sz="28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При видообразовании действуют </a:t>
            </a:r>
            <a:r>
              <a:rPr b="0" lang="ru-RU" sz="2800" spc="-1" strike="noStrike" u="sng">
                <a:solidFill>
                  <a:srgbClr val="808000"/>
                </a:solidFill>
                <a:uFillTx/>
                <a:latin typeface="Tahoma"/>
              </a:rPr>
              <a:t>естественный отбор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, который приспосабливает популяции к условиям среды их обитания, 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и </a:t>
            </a:r>
            <a:r>
              <a:rPr b="0" lang="ru-RU" sz="2800" spc="-1" strike="noStrike" u="sng">
                <a:solidFill>
                  <a:srgbClr val="808000"/>
                </a:solidFill>
                <a:uFillTx/>
                <a:latin typeface="Tahoma"/>
              </a:rPr>
              <a:t>репродуктивная изоляция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, которая обосабливает генофонды популяций 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и обеспечивает обособление расхождение признаков видов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ahoma"/>
              </a:rPr>
              <a:t>Способы видообразования</a:t>
            </a: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географическое                экологическое         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аллопатрическое)       (симпатрическое)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если изоляция           если изоляция 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географическая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        </a:t>
            </a:r>
            <a:r>
              <a:rPr b="1" lang="ru-RU" sz="3200" spc="-1" strike="noStrike">
                <a:solidFill>
                  <a:srgbClr val="cc3300"/>
                </a:solidFill>
                <a:latin typeface="Tahoma"/>
              </a:rPr>
              <a:t>биологическая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1280" y="3500280"/>
            <a:ext cx="3313080" cy="3097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076720" y="3500280"/>
            <a:ext cx="3311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Аллопатрическое (географическое) видообразование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63128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Видообразование на разных территориях — обусловлено географической (пространственной) изоляцией. 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Причиной такой изоляции могут быть: *большие реки для сухопутных животных, 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*горы — для равнинных и тому подобные препятствия, затрудняющие миграцию животных или распространение семян растений. 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Аллопатрическое видообразование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3959280" cy="3340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Галапагосские вьюрки     Галапагосские черепахи</a:t>
            </a:r>
            <a:endParaRPr b="0" lang="en-US" sz="28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2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1989000"/>
            <a:ext cx="41767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Аллопатрическое видообразование</a:t>
            </a:r>
            <a:endParaRPr b="0" lang="en-US" sz="32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Суслик серый            Суслик крапчатый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Их разделяет 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р.Днепр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241440" cy="3184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932360" y="1989000"/>
            <a:ext cx="3657600" cy="32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rot="5400000">
            <a:off x="1619280" y="3212280"/>
            <a:ext cx="5185080" cy="1297080"/>
          </a:xfrm>
          <a:custGeom>
            <a:avLst/>
            <a:gdLst>
              <a:gd name="textAreaLeft" fmla="*/ 0 w 5185080"/>
              <a:gd name="textAreaRight" fmla="*/ 5185080 w 5185080"/>
              <a:gd name="textAreaTop" fmla="*/ 168120 h 1297080"/>
              <a:gd name="textAreaBottom" fmla="*/ 11289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ahoma"/>
              </a:rPr>
              <a:t>Географическая изоляция</a:t>
            </a:r>
            <a:endParaRPr b="0" lang="en-US" sz="3600" spc="-1" strike="noStrike">
              <a:solidFill>
                <a:srgbClr val="99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Наблюдается при разделении исходного ареала вида различными природными барьерами. В результате разделенные популяции не могут свободно скрещиваться друг с другом, что приводит к возникновению различных подвидов.</a:t>
            </a:r>
            <a:endParaRPr b="0" lang="en-US" sz="3200" spc="-1" strike="noStrike">
              <a:solidFill>
                <a:srgbClr val="cc33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2:16:36Z</dcterms:created>
  <dc:creator>user</dc:creator>
  <dc:description/>
  <dc:language>en-US</dc:language>
  <cp:lastModifiedBy>наталья</cp:lastModifiedBy>
  <dcterms:modified xsi:type="dcterms:W3CDTF">2012-10-23T22:34:30Z</dcterms:modified>
  <cp:revision>5</cp:revision>
  <dc:subject/>
  <dc:title>Видообразование</dc:title>
</cp:coreProperties>
</file>