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2D01-34B0-4BBC-8939-FFCF9AAF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C522-418D-46A0-B958-DDF969E7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CBC5-3737-41D6-867D-9B338280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C3C9-0CC9-461E-9ABD-CE4366DE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A9FD-51E4-4850-8127-49B310E40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263F-F608-423F-9D4A-95AE686A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79F5-B6B3-4A9E-913F-1C8FCB96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6708-DF96-442D-8534-052A54CB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4710-1646-4F40-A8D4-ED7EBA74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574B-2B72-4685-B282-A5F17C0B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FD79-ACA6-4639-80B8-A605F0FE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BC73-40D7-4322-A7EB-C435786B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82B0-3E71-4143-AF48-C476418C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CCC2-4D02-4133-B64D-F8769714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E0E1-67EF-49D3-AE20-69E8AA1C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E205-01E1-48AC-9993-9B40339F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351C-8B0E-4556-8A2C-8B34F629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CF8F-9B97-4EA1-8178-C388D5A6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2AF9-5694-4AD4-BAC9-7061C67A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22E2-BBDD-4E8D-B70F-752E308F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3C48-0E5A-4D8A-9FBC-BB256A94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BAE9-A24B-435D-A013-898FA1AE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3556-E1D8-454D-81D7-2128C9EA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08CC-7FC2-43BE-8C5E-FE9F3414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28F2-6F33-4032-B0A8-A948698D4053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c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c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cc33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c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213E-F535-4069-8154-F571609CF2A6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33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33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33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33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yandex.ru/yandsearch?text=&#1082;&#1072;&#1088;&#1090;&#1080;&#1085;&#1082;&#1080;%20&#1075;&#1072;&#1083;&#1072;&#1087;&#1072;&#1075;&#1086;&#1089;&#1089;&#1082;&#1080;&#1077;%20&#1095;&#1077;&#1088;&#1077;&#1087;&#1072;&#1093;&#1080;&amp;img_url=www.newt.com%2Fwohler%2Fevents%2F2004%2Fgalapagos%2Fsanta-cruz%2Ftortoise-lori-big.jpg&amp;pos=8&amp;rpt=simage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Видообразование</a:t>
            </a:r>
            <a:endParaRPr b="0" lang="en-US" sz="40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Симпатрическое (экологическое) видообразование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Начинается с разделения первично единой популяции на две или более группы организмов, которые затем продолжают видообразование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. Это может происходить в результате экологической специализации.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Симпатрическое видообразование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601040" cy="2847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42520" y="4365720"/>
            <a:ext cx="782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Экологическая изоляция наблюдается при несовпадении 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мест обитания различных форм одного вида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или нескольких близких видов, например лесного (слева) 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и лугового (справа) коньков.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Экологическое видообразование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Иногда в пределах единого ареала отдельные популяции (1-5) различаются условиями обитания. Из-за этого изменяется фенология особей, а в дальнейшем и их морфология. </a:t>
            </a:r>
            <a:endParaRPr b="0" lang="en-US" sz="2400" spc="-1" strike="noStrike">
              <a:solidFill>
                <a:srgbClr val="cc33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Севанская форель</a:t>
            </a:r>
            <a:endParaRPr b="0" lang="en-US" sz="24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356000" y="1916280"/>
            <a:ext cx="4246560" cy="30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Симпатрическое видообразование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3280" y="1268280"/>
            <a:ext cx="38102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00"/>
                </a:solidFill>
                <a:latin typeface="Tahoma"/>
              </a:rPr>
              <a:t>В африканским оз. Виктория, которое образовалось </a:t>
            </a:r>
            <a:endParaRPr b="0" lang="en-US" sz="2400" spc="-1" strike="noStrike">
              <a:solidFill>
                <a:srgbClr val="cc33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00"/>
                </a:solidFill>
                <a:latin typeface="Tahoma"/>
              </a:rPr>
              <a:t>12 тыс. лет назад, обитают более 500 видов рыб-цихлид, отличающиеся друг от друга по морфологии, образу жизни, поведению и ряду других признаков</a:t>
            </a:r>
            <a:endParaRPr b="0" lang="en-US" sz="24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43" name="cichlid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41004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ahoma"/>
              </a:rPr>
              <a:t>Сетчатое видообразование</a:t>
            </a: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В последние десятилетия накапливаются данные о третьем способе — сетчатом видообразовании, связанном не с расхождением признаков в популяции, 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а с гибридизацией близких видов. Такое видообразование доказано для некоторых видов ящериц, рыб и цветковых растений. Изоляция гибридов от родительских видов обусловлена полиплоидностью гибридов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ahoma"/>
              </a:rPr>
              <a:t>Полиплоидия</a:t>
            </a: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Новые виды могут образоваться в результате полиплоидизации - внезапного увеличения числа хромосом. 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Например, культурная слива возникла в результате скрещивания терна и алычи, с последующим удвоением числа хромосом у гибридов.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523000" cy="52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ahoma"/>
              </a:rPr>
              <a:t>Микроэволюция</a:t>
            </a: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это совокупность эволюционных процессов, протекающих внутри отдельных или смежных популяций вида, приводящих к изменению генетической структуры этих популяций, возникновению различий между организмами и образованию новых видов.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ahoma"/>
              </a:rPr>
              <a:t>Видообразование</a:t>
            </a: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Это процесс возникновения новых видов в результате эволюции популяций исходного вида. Происходит в тех случаях, когда биологические виды расщепляются на два или более новых вида.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Условия осуществления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 видообразования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При видообразовании действуют </a:t>
            </a:r>
            <a:r>
              <a:rPr b="0" lang="ru-RU" sz="2800" spc="-1" strike="noStrike" u="sng">
                <a:solidFill>
                  <a:srgbClr val="808000"/>
                </a:solidFill>
                <a:uFillTx/>
                <a:latin typeface="Tahoma"/>
              </a:rPr>
              <a:t>естественный отбор</a:t>
            </a: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, который приспосабливает популяции к условиям среды их обитания, 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и </a:t>
            </a:r>
            <a:r>
              <a:rPr b="0" lang="ru-RU" sz="2800" spc="-1" strike="noStrike" u="sng">
                <a:solidFill>
                  <a:srgbClr val="808000"/>
                </a:solidFill>
                <a:uFillTx/>
                <a:latin typeface="Tahoma"/>
              </a:rPr>
              <a:t>репродуктивная изоляция</a:t>
            </a: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, которая обосабливает генофонды популяций 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и обеспечивает обособление расхождение признаков видов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ahoma"/>
              </a:rPr>
              <a:t>Способы видообразования</a:t>
            </a: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35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еографическое                экологическое         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аллопатрическое)       (симпатрическое)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ahoma"/>
              </a:rPr>
              <a:t>если изоляция           если изоляция 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ahoma"/>
              </a:rPr>
              <a:t>географическая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ru-RU" sz="3200" spc="-1" strike="noStrike">
                <a:solidFill>
                  <a:srgbClr val="cc3300"/>
                </a:solidFill>
                <a:latin typeface="Tahoma"/>
              </a:rPr>
              <a:t>биологическая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1280" y="3500280"/>
            <a:ext cx="3313080" cy="3097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076720" y="3500280"/>
            <a:ext cx="33116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Аллопатрическое (географическое) видообразование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63128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Видообразование на разных территориях — обусловлено географической (пространственной) изоляцией. 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Причиной такой изоляции могут быть: *большие реки для сухопутных животных, 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*горы — для равнинных и тому подобные препятствия, затрудняющие миграцию животных или распространение семян растений. 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Аллопатрическое видообразование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3959280" cy="3340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Галапагосские вьюрки     Галапагосские черепахи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2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6360" y="1989000"/>
            <a:ext cx="41767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Аллопатрическое видообразование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Суслик серый            Суслик крапчатый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Их разделяет 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р.Днепр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3241440" cy="3184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932360" y="1989000"/>
            <a:ext cx="3657600" cy="32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rot="5400000">
            <a:off x="1619280" y="3212280"/>
            <a:ext cx="5185080" cy="1297080"/>
          </a:xfrm>
          <a:custGeom>
            <a:avLst/>
            <a:gdLst>
              <a:gd name="textAreaLeft" fmla="*/ 0 w 5185080"/>
              <a:gd name="textAreaRight" fmla="*/ 5185080 w 5185080"/>
              <a:gd name="textAreaTop" fmla="*/ 168120 h 1297080"/>
              <a:gd name="textAreaBottom" fmla="*/ 11289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ahoma"/>
              </a:rPr>
              <a:t>Географическая изоляция</a:t>
            </a: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Наблюдается при разделении исходного ареала вида различными природными барьерами. В результате разделенные популяции не могут свободно скрещиваться друг с другом, что приводит к возникновению различных подвидов.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2:16:36Z</dcterms:created>
  <dc:creator>user</dc:creator>
  <dc:description/>
  <dc:language>en-US</dc:language>
  <cp:lastModifiedBy>наталья</cp:lastModifiedBy>
  <dcterms:modified xsi:type="dcterms:W3CDTF">2012-10-23T22:34:30Z</dcterms:modified>
  <cp:revision>5</cp:revision>
  <dc:subject/>
  <dc:title>Видообразование</dc:title>
</cp:coreProperties>
</file>