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C24-4750-4A72-A84F-02928CA7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F2B-BFED-4D06-B7F2-8651A064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8B1-A836-4F6D-AE87-E815867D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ECA-4C41-4E8D-82C0-EEC6D668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6761-D4C4-4CCB-9CDF-51DD84BE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323A-90F5-4BD6-A99D-38EB22CF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D3AA-B702-4A6D-B89D-0BACBE3D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82A6-33CF-43C6-BE0F-927F76E7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0A7E-9834-4488-B4AB-66BFEC1C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0AF7-DF2A-4D3C-AD8D-C034330B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8A94-F566-4079-9093-72A8D4EF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38A-094B-4B4B-900C-1D41600D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7062-9D33-4A6B-85C5-C61B0BEE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C160-2E07-4FB1-B285-F27CD723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811F-DD52-4AB7-84F4-AE7ECBE2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6121-C5FA-4202-8A09-3CC9CE81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CCFD-E37A-4F7D-BE87-A2DB177F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98E-35E4-4423-B23E-4CEE123F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8B8-6258-4E54-A198-6A251814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5B7-3B4A-4D71-8646-EC465FF8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192-F5EA-4020-8607-7FCEE7BC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3DD-75E9-43CE-AFE8-67D5890C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980-F93A-4ACB-B0B8-A14D67F3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333-CAF1-4795-A348-EAC2464E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A2DA-CD10-4FDC-8100-033044C2B3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3C1A-91BC-4AA1-A05E-60512797DF73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181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0" lang="ru-RU" sz="7200" spc="-1" strike="noStrike">
                <a:solidFill>
                  <a:srgbClr val="ff9900"/>
                </a:solidFill>
                <a:latin typeface="Verdana"/>
              </a:rPr>
              <a:t>Я</a:t>
            </a: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ffff00"/>
                </a:solidFill>
                <a:latin typeface="Verdana"/>
              </a:rPr>
              <a:t>и</a:t>
            </a: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66ff33"/>
                </a:solidFill>
                <a:latin typeface="Verdana"/>
              </a:rPr>
              <a:t>м</a:t>
            </a:r>
            <a:r>
              <a:rPr b="0" lang="ru-RU" sz="7200" spc="-1" strike="noStrike">
                <a:solidFill>
                  <a:srgbClr val="66ccff"/>
                </a:solidFill>
                <a:latin typeface="Verdana"/>
              </a:rPr>
              <a:t>о</a:t>
            </a:r>
            <a:r>
              <a:rPr b="0" lang="ru-RU" sz="7200" spc="-1" strike="noStrike">
                <a:solidFill>
                  <a:srgbClr val="3366ff"/>
                </a:solidFill>
                <a:latin typeface="Verdana"/>
              </a:rPr>
              <a:t>я</a:t>
            </a: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c00ff"/>
                </a:solidFill>
                <a:latin typeface="Verdana"/>
              </a:rPr>
              <a:t>с</a:t>
            </a: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7200" spc="-1" strike="noStrike">
                <a:solidFill>
                  <a:srgbClr val="ff9900"/>
                </a:solidFill>
                <a:latin typeface="Verdana"/>
              </a:rPr>
              <a:t>м</a:t>
            </a:r>
            <a:r>
              <a:rPr b="0" lang="ru-RU" sz="7200" spc="-1" strike="noStrike">
                <a:solidFill>
                  <a:srgbClr val="ffff00"/>
                </a:solidFill>
                <a:latin typeface="Verdana"/>
              </a:rPr>
              <a:t>ь</a:t>
            </a:r>
            <a:r>
              <a:rPr b="0" lang="ru-RU" sz="7200" spc="-1" strike="noStrike">
                <a:solidFill>
                  <a:srgbClr val="66ff33"/>
                </a:solidFill>
                <a:latin typeface="Verdana"/>
              </a:rPr>
              <a:t>я</a:t>
            </a:r>
            <a:r>
              <a:rPr b="0" lang="ru-RU" sz="7200" spc="-1" strike="noStrike">
                <a:solidFill>
                  <a:srgbClr val="66ccff"/>
                </a:solidFill>
                <a:latin typeface="Verdana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684360" y="404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«Летниковская основная общеобразовательная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школа» (филиал) МОУ«Сернурская средняя (полная)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общеобразовательная </a:t>
            </a:r>
            <a:br>
              <a:rPr sz="1800"/>
            </a:b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школа №2 имени Н.А.Заболоцкого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дошкольная групп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5280" y="4508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           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Работу выполнили: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Семёнова Надежда Васильевна и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               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Бикулов Паве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3781080" y="602136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.Летник, 2013 г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Моя семья – мои друзья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7" name="Picture 8" descr="IMG_5108"/>
          <p:cNvPicPr/>
          <p:nvPr/>
        </p:nvPicPr>
        <p:blipFill>
          <a:blip r:embed="rId1"/>
          <a:stretch/>
        </p:blipFill>
        <p:spPr>
          <a:xfrm>
            <a:off x="1670040" y="1600200"/>
            <a:ext cx="1612800" cy="21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IMG_5478"/>
          <p:cNvPicPr/>
          <p:nvPr/>
        </p:nvPicPr>
        <p:blipFill>
          <a:blip r:embed="rId2"/>
          <a:stretch/>
        </p:blipFill>
        <p:spPr>
          <a:xfrm>
            <a:off x="5572080" y="1571760"/>
            <a:ext cx="2868480" cy="2151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IMG_1616"/>
          <p:cNvPicPr/>
          <p:nvPr/>
        </p:nvPicPr>
        <p:blipFill>
          <a:blip r:embed="rId3"/>
          <a:stretch/>
        </p:blipFill>
        <p:spPr>
          <a:xfrm>
            <a:off x="1041480" y="3903840"/>
            <a:ext cx="2870280" cy="2152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IMG_1614"/>
          <p:cNvPicPr/>
          <p:nvPr/>
        </p:nvPicPr>
        <p:blipFill>
          <a:blip r:embed="rId4"/>
          <a:stretch/>
        </p:blipFill>
        <p:spPr>
          <a:xfrm>
            <a:off x="5232240" y="3903840"/>
            <a:ext cx="28702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Мой папа - 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Николай Алексеевич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апа среднего роста, крепкого телосложения, глаза карие, волосы светло – русые. Папа родился в селе Шоркистры Чувашской республики, рос в многодетной семье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Он заботливый отец, спокойный человек. Папа старается не вступать в конфликты с людьми, уважает человеческое достоинство любого, даже ребёнка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апа увлекается рыбалкой, любит ходить за грибами. А ещё папа занимается ремонтом нашего «домика в деревне» (так как по профессии он строитель, шахтёр),  и в этом ему помогаем мы все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3" name="Picture 6" descr="Изображение 019"/>
          <p:cNvPicPr/>
          <p:nvPr/>
        </p:nvPicPr>
        <p:blipFill>
          <a:blip r:embed="rId1"/>
          <a:stretch/>
        </p:blipFill>
        <p:spPr>
          <a:xfrm>
            <a:off x="5435640" y="1628640"/>
            <a:ext cx="33415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Моя мама -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Надежда Васильевн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316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Моя мамочка самая красивая. У неё светло - серые глаза, русые волосы. Мама родилась в Приморском крае  в поселке Углекаменск, в многодетной семье. Она работала в типографии на линотипах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Она очень добрый человек: всегда поможет, поддержит, пожалеет. Каждый её день наполнен множеством дел и хлопот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Её увлечений и не сосчитать: мама много читает, вяжет, вышивает,   заботится о нас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о нашей семье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А ещё мама замечательно готовит!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Picture 6" descr="P1000042"/>
          <p:cNvPicPr/>
          <p:nvPr/>
        </p:nvPicPr>
        <p:blipFill>
          <a:blip r:embed="rId1"/>
          <a:stretch/>
        </p:blipFill>
        <p:spPr>
          <a:xfrm>
            <a:off x="611280" y="227664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Моя сестра Таня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3467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оя старшая сестра Таня. Ей 20 лет. Она учится в МАРГУ на 3 курсе г.Йошкар – Ол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на любит читать, вышивать крестиком, учит иностранные язык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9" name="Picture 6" descr="File0813"/>
          <p:cNvPicPr/>
          <p:nvPr/>
        </p:nvPicPr>
        <p:blipFill>
          <a:blip r:embed="rId1"/>
          <a:stretch/>
        </p:blipFill>
        <p:spPr>
          <a:xfrm>
            <a:off x="5508720" y="1628640"/>
            <a:ext cx="31366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Моя сестра Настя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32000" y="2133720"/>
            <a:ext cx="37432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Моей второй сестр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Насте 17 лет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Она  тоже учится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в г.Йошкар-Ола в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ПГТУ на 1 курсе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Настя люби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танцевать, вышива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крестиком, слуша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музыку, играть с нами.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2" name="Picture 6" descr="P190512_17"/>
          <p:cNvPicPr/>
          <p:nvPr/>
        </p:nvPicPr>
        <p:blipFill>
          <a:blip r:embed="rId1"/>
          <a:stretch/>
        </p:blipFill>
        <p:spPr>
          <a:xfrm>
            <a:off x="5508720" y="1773360"/>
            <a:ext cx="33415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оя сестрёнка Дильнар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3019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Дильнаре 4 года. Она вместе со мной ходит в детский сад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Дильнара  любит рисовать и играть  в «войнушки».Она  очень любознательная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5" name="Picture 6" descr="P1000815"/>
          <p:cNvPicPr/>
          <p:nvPr/>
        </p:nvPicPr>
        <p:blipFill>
          <a:blip r:embed="rId1"/>
          <a:stretch/>
        </p:blipFill>
        <p:spPr>
          <a:xfrm>
            <a:off x="4995720" y="1600200"/>
            <a:ext cx="33418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ой старший брат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352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ой старший брат Алёша учится в 8 классе. Ему 14 лет.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н увлекается компьютером и техникой, занимается физкультурой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Любит      фотографироват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8" name="Picture 7" descr="IMG_5468"/>
          <p:cNvPicPr/>
          <p:nvPr/>
        </p:nvPicPr>
        <p:blipFill>
          <a:blip r:embed="rId1"/>
          <a:srcRect l="53834" t="0" r="0" b="0"/>
          <a:stretch/>
        </p:blipFill>
        <p:spPr>
          <a:xfrm>
            <a:off x="4356000" y="2924280"/>
            <a:ext cx="2314800" cy="3759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IMG_5153"/>
          <p:cNvPicPr/>
          <p:nvPr/>
        </p:nvPicPr>
        <p:blipFill>
          <a:blip r:embed="rId2"/>
          <a:stretch/>
        </p:blipFill>
        <p:spPr>
          <a:xfrm>
            <a:off x="5867280" y="1484280"/>
            <a:ext cx="297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ой брат Кирил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09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ой средний брат Кирилл учится в 4 классе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Ему 10 лет.  Он любит кататься на лыжах, читать книги, пробует вышивать крестиком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2" name="Picture 12" descr="P1000848"/>
          <p:cNvPicPr/>
          <p:nvPr/>
        </p:nvPicPr>
        <p:blipFill>
          <a:blip r:embed="rId1"/>
          <a:stretch/>
        </p:blipFill>
        <p:spPr>
          <a:xfrm>
            <a:off x="6372360" y="1700280"/>
            <a:ext cx="2457360" cy="32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IMG_5479"/>
          <p:cNvPicPr/>
          <p:nvPr/>
        </p:nvPicPr>
        <p:blipFill>
          <a:blip r:embed="rId2"/>
          <a:srcRect l="18001" t="0" r="13998" b="0"/>
          <a:stretch/>
        </p:blipFill>
        <p:spPr>
          <a:xfrm>
            <a:off x="4284720" y="3357720"/>
            <a:ext cx="273528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ой брат Рустам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163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ой младший бра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Рустам. Ему 5 лет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н так же, как и я,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ходит в детский сад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н любит играть с нами, собирать пазлы. Учиться читать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6" name="Picture 6" descr="P1000811"/>
          <p:cNvPicPr/>
          <p:nvPr/>
        </p:nvPicPr>
        <p:blipFill>
          <a:blip r:embed="rId1"/>
          <a:stretch/>
        </p:blipFill>
        <p:spPr>
          <a:xfrm>
            <a:off x="4995720" y="1600200"/>
            <a:ext cx="33418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Фотовыставк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8" name="Picture 6" descr="IMG_3494"/>
          <p:cNvPicPr/>
          <p:nvPr/>
        </p:nvPicPr>
        <p:blipFill>
          <a:blip r:embed="rId1"/>
          <a:stretch/>
        </p:blipFill>
        <p:spPr>
          <a:xfrm>
            <a:off x="1785960" y="1571760"/>
            <a:ext cx="6762600" cy="5072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IMG_3495"/>
          <p:cNvPicPr/>
          <p:nvPr/>
        </p:nvPicPr>
        <p:blipFill>
          <a:blip r:embed="rId2"/>
          <a:stretch/>
        </p:blipFill>
        <p:spPr>
          <a:xfrm>
            <a:off x="1714680" y="1571760"/>
            <a:ext cx="6929280" cy="5089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1" name="Рисунок 10" descr="IMG_3493"/>
          <p:cNvPicPr/>
          <p:nvPr/>
        </p:nvPicPr>
        <p:blipFill>
          <a:blip r:embed="rId3"/>
          <a:srcRect l="12830" t="22499" r="0" b="0"/>
          <a:stretch/>
        </p:blipFill>
        <p:spPr>
          <a:xfrm>
            <a:off x="1643040" y="1571760"/>
            <a:ext cx="7000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Содержание проекта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  <a:hlinkClick r:id="rId1" action="ppaction://hlinksldjump"/>
              </a:rPr>
              <a:t>Актуальнос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  <a:hlinkClick r:id="rId2" action="ppaction://hlinksldjump"/>
              </a:rPr>
              <a:t>Цель и задач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  <a:hlinkClick r:id="rId3" action="ppaction://hlinksldjump"/>
              </a:rPr>
              <a:t>Этапы работы над проектом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Предполагаемый результат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Продукт проектной деятельности</a:t>
            </a:r>
            <a:r>
              <a:rPr b="0" lang="ru-RU" sz="2000" spc="-1" strike="noStrike">
                <a:solidFill>
                  <a:srgbClr val="99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А вот и Я!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Моя семья – мои друзья!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Фотовыставк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Семейное хобб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Близкие и дорогие люди нашей семь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  <a:hlinkClick r:id="rId4" action="ppaction://hlinksldjump"/>
              </a:rPr>
              <a:t>Список используемой литератур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Семейное хобб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3" name="Picture 8" descr="IMG_3498"/>
          <p:cNvPicPr/>
          <p:nvPr/>
        </p:nvPicPr>
        <p:blipFill>
          <a:blip r:embed="rId1"/>
          <a:stretch/>
        </p:blipFill>
        <p:spPr>
          <a:xfrm>
            <a:off x="2143080" y="1865160"/>
            <a:ext cx="5929200" cy="444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MG_3497"/>
          <p:cNvPicPr/>
          <p:nvPr/>
        </p:nvPicPr>
        <p:blipFill>
          <a:blip r:embed="rId2"/>
          <a:stretch/>
        </p:blipFill>
        <p:spPr>
          <a:xfrm>
            <a:off x="2071800" y="1785960"/>
            <a:ext cx="6083280" cy="4562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648320" y="3903480"/>
            <a:ext cx="403848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7" name="Рисунок 10" descr="IMG_3496"/>
          <p:cNvPicPr/>
          <p:nvPr/>
        </p:nvPicPr>
        <p:blipFill>
          <a:blip r:embed="rId3"/>
          <a:srcRect l="0" t="13721" r="0" b="0"/>
          <a:stretch/>
        </p:blipFill>
        <p:spPr>
          <a:xfrm>
            <a:off x="1857240" y="1714680"/>
            <a:ext cx="6357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Близкие и дорогие люди нашей семь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345600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ак испечь большой пирог?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ак связать цветной носок?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то даст правильный совет?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Догадались или нет?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Нету бабушки родней,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Это моя бабушка Зоя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Живёт она в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с. Шоркистры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Чувашской республик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40" name="Picture 6" descr="IMG_4708"/>
          <p:cNvPicPr/>
          <p:nvPr/>
        </p:nvPicPr>
        <p:blipFill>
          <a:blip r:embed="rId1"/>
          <a:stretch/>
        </p:blipFill>
        <p:spPr>
          <a:xfrm>
            <a:off x="4643280" y="2276640"/>
            <a:ext cx="424512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63280" y="1773000"/>
            <a:ext cx="633564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ff"/>
                </a:solidFill>
                <a:latin typeface="Verdana"/>
              </a:rPr>
              <a:t>Спасибо!</a:t>
            </a:r>
            <a:endParaRPr b="0" lang="en-US" sz="8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Актуальность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               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«Семья – это та самая среда,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в которой человек учится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                          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и сам творит добро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В.А.Сухомлинский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Наш проект о том, что объединяет всех нас -  о семье. Есть такая пословица: </a:t>
            </a: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"Счастье не птица, само не прилетит".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Его создают те, у кого в семье царят мир, уважение и любовь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2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02920" y="404280"/>
            <a:ext cx="72946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Цель проекта: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узнать имена членов семьи, их профессии, интересы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Задачи проекта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- расширить сведения о семье (знать имена, отчества родителей, профессию, место работы членов семьи)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- помочь осознать свой статус в семье, оценить значимость семьи в своей жизни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- воспитывать у детей заботливое отношение к близким людям, желание помочь им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66"/>
                </a:solidFill>
                <a:latin typeface="Verdana"/>
              </a:rPr>
              <a:t>3.</a:t>
            </a:r>
            <a:r>
              <a:rPr b="0" lang="ru-RU" sz="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4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Аннотация к проекту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742788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Важным фактором личностного развития ребёнка является удовлетворение его потребности в положительных эмоциональных контактах с близкими людьми. В первую очередь – с родителям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Verdana"/>
              </a:rPr>
              <a:t>«Семья – это цветок, который надо холить, лелеять, любить. Основа хорошего, яркого детства, обучение житейским мудростям, основанным на житейских заповедях».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Именно семья является хранителем традиций, обеспечивает преемственность поколений, сохраняет и развивает лучшие качества людей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Предполагаемый результа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владеть понятием «Семья»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знать информацию о своей семье, профессии родителей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составлять рассказы о своей семье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проявлять заботу и уважение ко всем членам семь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Продукт проектной деятельности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рганизация выставки «Семейное хобби»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презентация проект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Line 54"/>
          <p:cNvSpPr/>
          <p:nvPr/>
        </p:nvSpPr>
        <p:spPr>
          <a:xfrm flipH="1" flipV="1">
            <a:off x="539280" y="2133720"/>
            <a:ext cx="716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частлив тот, кто счастлив дома.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Л. Н. Толстой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Что может быть семьи дороже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Теплом встречает отчий дом,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Здесь ждут тебя всегда с любовью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И провожают в путь с добром!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7" descr="IMG_2815"/>
          <p:cNvPicPr/>
          <p:nvPr/>
        </p:nvPicPr>
        <p:blipFill>
          <a:blip r:embed="rId1"/>
          <a:stretch/>
        </p:blipFill>
        <p:spPr>
          <a:xfrm>
            <a:off x="4572000" y="2637000"/>
            <a:ext cx="431964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02920" y="102960"/>
            <a:ext cx="7489800" cy="296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У каждого  человека есть своя семья, свой дом. Семья–это семь“Я”. Семья - это продолжение нашего рода. И где бы ни были, мы всегда  помним о нем, он притягивает нас своим теплом. Дом – это не только крыша над головой, это твоя семья и близкие тебе люди: родители, сестры, братья, дедушки, бабушки.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Моя семья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- это папа, мама, две старшие сестры, два  старших брата, братишка, сестренка  и я. Мы разные, но всегда стараемся понять друг друга и помочь в трудную минуту.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7" name="Picture 4" descr="IMG_5482"/>
          <p:cNvPicPr/>
          <p:nvPr/>
        </p:nvPicPr>
        <p:blipFill>
          <a:blip r:embed="rId1"/>
          <a:stretch/>
        </p:blipFill>
        <p:spPr>
          <a:xfrm>
            <a:off x="1332000" y="2924280"/>
            <a:ext cx="4895640" cy="3671640"/>
          </a:xfrm>
          <a:prstGeom prst="rect">
            <a:avLst/>
          </a:prstGeom>
          <a:ln w="0">
            <a:noFill/>
          </a:ln>
        </p:spPr>
      </p:pic>
      <p:sp>
        <p:nvSpPr>
          <p:cNvPr id="188" name="Oval 5"/>
          <p:cNvSpPr/>
          <p:nvPr/>
        </p:nvSpPr>
        <p:spPr>
          <a:xfrm>
            <a:off x="6443640" y="2852640"/>
            <a:ext cx="23781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Семья Семёновых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6300720" y="4292640"/>
            <a:ext cx="1440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икулов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7524720" y="5084640"/>
            <a:ext cx="1368360" cy="574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имонов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6804000" y="3789360"/>
            <a:ext cx="216000" cy="503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7885080" y="3860640"/>
            <a:ext cx="647640" cy="1224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А вот и Я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019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еня зовут Бикулов Павел. Я живу в деревне Лаптево. Мне 23 января исполнилось 6 лет. Я посещаю детский сад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Я очень люблю читать книги, помогать маме с папой. Осенью я пойду учиться в школу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огда я вырасту,  хочу стать Президентом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5" name="Picture 6" descr="P1000842"/>
          <p:cNvPicPr/>
          <p:nvPr/>
        </p:nvPicPr>
        <p:blipFill>
          <a:blip r:embed="rId1"/>
          <a:stretch/>
        </p:blipFill>
        <p:spPr>
          <a:xfrm>
            <a:off x="4995720" y="1600200"/>
            <a:ext cx="33418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4:55:57Z</dcterms:created>
  <dc:creator>user</dc:creator>
  <dc:description/>
  <dc:language>en-US</dc:language>
  <cp:lastModifiedBy>user</cp:lastModifiedBy>
  <dcterms:modified xsi:type="dcterms:W3CDTF">2013-05-02T07:04:57Z</dcterms:modified>
  <cp:revision>36</cp:revision>
  <dc:subject/>
  <dc:title>«Я и моя семья»</dc:title>
</cp:coreProperties>
</file>