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615-8307-4E63-9E58-DEBF8CEA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95D-5AC9-408D-BED7-63417FA0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9CD-E21F-4206-AD19-4E5A0726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E48-3269-47E1-9275-80C45449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A0B3-E584-4D02-BC8C-DF4B3175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607B-81CC-4CEA-AD5B-6474546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89B0-9770-4565-B2ED-FBFA784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482B-F7DA-4AF1-A15B-F3B5C65D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55AB-8AA8-44BC-A49C-7D423E4B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9B23-C042-4027-8E9D-CA582A46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F838-9207-48E5-874F-A686E5D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EEE-ED5D-4628-881D-316A45F3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5FA7-039C-472D-AE40-4C2D5727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D249-4A56-4078-995B-B2EB972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8438-56A3-434E-8B97-6E53D0DD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8DF2-7771-43F2-849F-F8878475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E4D9-3D6F-4287-9869-41BC50DA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199-B6F3-470E-B6A0-06480A0C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4FDE-F03E-40A5-8245-324EA5CB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880-491F-4ED1-A1F6-BA948CCA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B52-092C-4A8E-8E21-272E9160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113-13CE-43C0-AC07-B4F21D54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FBA-8054-4EE6-AC8A-EA277851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37A-15A2-4F84-8B7A-477DB32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4428-4F03-46E4-A515-33BD087242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80EA-DF98-4F9C-A994-6BC83A19FEC7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181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0" lang="ru-RU" sz="7200" spc="-1" strike="noStrike">
                <a:solidFill>
                  <a:srgbClr val="ff9900"/>
                </a:solidFill>
                <a:latin typeface="Verdana"/>
              </a:rPr>
              <a:t>Я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ffff00"/>
                </a:solidFill>
                <a:latin typeface="Verdana"/>
              </a:rPr>
              <a:t>и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66ff33"/>
                </a:solidFill>
                <a:latin typeface="Verdana"/>
              </a:rPr>
              <a:t>м</a:t>
            </a:r>
            <a:r>
              <a:rPr b="0" lang="ru-RU" sz="7200" spc="-1" strike="noStrike">
                <a:solidFill>
                  <a:srgbClr val="66ccff"/>
                </a:solidFill>
                <a:latin typeface="Verdana"/>
              </a:rPr>
              <a:t>о</a:t>
            </a:r>
            <a:r>
              <a:rPr b="0" lang="ru-RU" sz="7200" spc="-1" strike="noStrike">
                <a:solidFill>
                  <a:srgbClr val="3366ff"/>
                </a:solidFill>
                <a:latin typeface="Verdana"/>
              </a:rPr>
              <a:t>я</a:t>
            </a:r>
            <a:r>
              <a:rPr b="0" lang="ru-RU" sz="7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7200" spc="-1" strike="noStrike">
                <a:solidFill>
                  <a:srgbClr val="cc00ff"/>
                </a:solidFill>
                <a:latin typeface="Verdana"/>
              </a:rPr>
              <a:t>с</a:t>
            </a:r>
            <a:r>
              <a:rPr b="0" lang="ru-RU" sz="72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0" lang="ru-RU" sz="7200" spc="-1" strike="noStrike">
                <a:solidFill>
                  <a:srgbClr val="ff9900"/>
                </a:solidFill>
                <a:latin typeface="Verdana"/>
              </a:rPr>
              <a:t>м</a:t>
            </a:r>
            <a:r>
              <a:rPr b="0" lang="ru-RU" sz="7200" spc="-1" strike="noStrike">
                <a:solidFill>
                  <a:srgbClr val="ffff00"/>
                </a:solidFill>
                <a:latin typeface="Verdana"/>
              </a:rPr>
              <a:t>ь</a:t>
            </a:r>
            <a:r>
              <a:rPr b="0" lang="ru-RU" sz="7200" spc="-1" strike="noStrike">
                <a:solidFill>
                  <a:srgbClr val="66ff33"/>
                </a:solidFill>
                <a:latin typeface="Verdana"/>
              </a:rPr>
              <a:t>я</a:t>
            </a:r>
            <a:r>
              <a:rPr b="0" lang="ru-RU" sz="7200" spc="-1" strike="noStrike">
                <a:solidFill>
                  <a:srgbClr val="66ccff"/>
                </a:solidFill>
                <a:latin typeface="Verdana"/>
              </a:rPr>
              <a:t>»</a:t>
            </a:r>
            <a:endParaRPr b="0" lang="en-US" sz="7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684360" y="40464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«Летниковская основная общеобразовательная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школа» (филиал) МОУ«Сернурская средняя (полная)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общеобразовательная 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школа №2 имени Н.А.Заболоцкого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дошкольная групп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3635280" y="4508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    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Работу выполнили: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Семёнова Надежда Васильевна 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               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Бикулов Паве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3781080" y="602136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.Летник, 2013 г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я семья – мои друзья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7" name="Picture 8" descr="IMG_5108"/>
          <p:cNvPicPr/>
          <p:nvPr/>
        </p:nvPicPr>
        <p:blipFill>
          <a:blip r:embed="rId1"/>
          <a:stretch/>
        </p:blipFill>
        <p:spPr>
          <a:xfrm>
            <a:off x="1670040" y="1600200"/>
            <a:ext cx="1612800" cy="21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IMG_5478"/>
          <p:cNvPicPr/>
          <p:nvPr/>
        </p:nvPicPr>
        <p:blipFill>
          <a:blip r:embed="rId2"/>
          <a:stretch/>
        </p:blipFill>
        <p:spPr>
          <a:xfrm>
            <a:off x="5572080" y="1571760"/>
            <a:ext cx="2868480" cy="2151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IMG_1616"/>
          <p:cNvPicPr/>
          <p:nvPr/>
        </p:nvPicPr>
        <p:blipFill>
          <a:blip r:embed="rId3"/>
          <a:stretch/>
        </p:blipFill>
        <p:spPr>
          <a:xfrm>
            <a:off x="1041480" y="3903840"/>
            <a:ext cx="2870280" cy="2152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IMG_1614"/>
          <p:cNvPicPr/>
          <p:nvPr/>
        </p:nvPicPr>
        <p:blipFill>
          <a:blip r:embed="rId4"/>
          <a:stretch/>
        </p:blipFill>
        <p:spPr>
          <a:xfrm>
            <a:off x="5232240" y="3903840"/>
            <a:ext cx="28702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й папа - 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Николай Алексеевич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апа среднего роста, крепкого телосложения, глаза карие, волосы светло – русые. Папа родился в селе Шоркистры Чувашской республики, рос в многодетной семье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Он заботливый отец, спокойный человек. Папа старается не вступать в конфликты с людьми, уважает человеческое достоинство любого, даже ребёнка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Папа увлекается рыбалкой, любит ходить за грибами. А ещё папа занимается ремонтом нашего «домика в деревне» (так как по профессии он строитель, шахтёр),  и в этом ему помогаем мы все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3" name="Picture 6" descr="Изображение 019"/>
          <p:cNvPicPr/>
          <p:nvPr/>
        </p:nvPicPr>
        <p:blipFill>
          <a:blip r:embed="rId1"/>
          <a:stretch/>
        </p:blipFill>
        <p:spPr>
          <a:xfrm>
            <a:off x="5435640" y="1628640"/>
            <a:ext cx="33415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я мама -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Надежда Васильевн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316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Моя мамочка самая красивая. У неё светло - серые глаза, русые волосы. Мама родилась в Приморском крае  в поселке Углекаменск, в многодетной семье. Она работала в типографии на линотипах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Она очень добрый человек: всегда поможет, поддержит, пожалеет. Каждый её день наполнен множеством дел и хлопот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Её увлечений и не сосчитать: мама много читает, вяжет, вышивает,   заботится о нас,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о нашей семье.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А ещё мама замечательно готовит!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6" name="Picture 6" descr="P1000042"/>
          <p:cNvPicPr/>
          <p:nvPr/>
        </p:nvPicPr>
        <p:blipFill>
          <a:blip r:embed="rId1"/>
          <a:stretch/>
        </p:blipFill>
        <p:spPr>
          <a:xfrm>
            <a:off x="611280" y="227664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я сестра Тан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3467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оя старшая сестра Таня. Ей 20 лет. Она учится в МАРГУ на 3 курсе г.Йошкар – Ол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а любит читать, вышивать крестиком, учит иностранные язык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09" name="Picture 6" descr="File0813"/>
          <p:cNvPicPr/>
          <p:nvPr/>
        </p:nvPicPr>
        <p:blipFill>
          <a:blip r:embed="rId1"/>
          <a:stretch/>
        </p:blipFill>
        <p:spPr>
          <a:xfrm>
            <a:off x="5508720" y="1628640"/>
            <a:ext cx="31366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Моя сестра Наст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32000" y="2133720"/>
            <a:ext cx="37432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Моей второй сестре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Насте 17 лет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Она  тоже учится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в г.Йошкар-Ола в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ПГТУ на 1 курсе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Настя люби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танцевать, вышива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крестиком, слуша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музыку, играть с нами.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6" descr="P190512_17"/>
          <p:cNvPicPr/>
          <p:nvPr/>
        </p:nvPicPr>
        <p:blipFill>
          <a:blip r:embed="rId1"/>
          <a:stretch/>
        </p:blipFill>
        <p:spPr>
          <a:xfrm>
            <a:off x="5508720" y="1773360"/>
            <a:ext cx="33415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я сестрёнка Дильнар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3019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ильнаре 4 года. Она вместе со мной ходит в детский са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ильнара  любит рисовать и играть  в «войнушки».Она  очень любознательная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5" name="Picture 6" descr="P1000815"/>
          <p:cNvPicPr/>
          <p:nvPr/>
        </p:nvPicPr>
        <p:blipFill>
          <a:blip r:embed="rId1"/>
          <a:stretch/>
        </p:blipFill>
        <p:spPr>
          <a:xfrm>
            <a:off x="4995720" y="1600200"/>
            <a:ext cx="33418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й старший брат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35258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ой старший брат Алёша учится в 8 классе. Ему 14 лет.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 увлекается компьютером и техникой, занимается физкультурой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Любит      фотографировать</a:t>
            </a: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8" name="Picture 7" descr="IMG_5468"/>
          <p:cNvPicPr/>
          <p:nvPr/>
        </p:nvPicPr>
        <p:blipFill>
          <a:blip r:embed="rId1"/>
          <a:srcRect l="53834" t="0" r="0" b="0"/>
          <a:stretch/>
        </p:blipFill>
        <p:spPr>
          <a:xfrm>
            <a:off x="4356000" y="2924280"/>
            <a:ext cx="2314800" cy="3759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IMG_5153"/>
          <p:cNvPicPr/>
          <p:nvPr/>
        </p:nvPicPr>
        <p:blipFill>
          <a:blip r:embed="rId2"/>
          <a:stretch/>
        </p:blipFill>
        <p:spPr>
          <a:xfrm>
            <a:off x="5867280" y="1484280"/>
            <a:ext cx="297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й брат Кирилл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309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ой средний брат Кирилл учится в 4 классе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Ему 10 лет.  Он любит кататься на лыжах, читать книги, пробует вышивать крестиком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2" name="Picture 12" descr="P1000848"/>
          <p:cNvPicPr/>
          <p:nvPr/>
        </p:nvPicPr>
        <p:blipFill>
          <a:blip r:embed="rId1"/>
          <a:stretch/>
        </p:blipFill>
        <p:spPr>
          <a:xfrm>
            <a:off x="6372360" y="1700280"/>
            <a:ext cx="2457360" cy="32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IMG_5479"/>
          <p:cNvPicPr/>
          <p:nvPr/>
        </p:nvPicPr>
        <p:blipFill>
          <a:blip r:embed="rId2"/>
          <a:srcRect l="18001" t="0" r="13998" b="0"/>
          <a:stretch/>
        </p:blipFill>
        <p:spPr>
          <a:xfrm>
            <a:off x="4284720" y="3357720"/>
            <a:ext cx="2735280" cy="31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Мой брат Рустам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163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ой младший бра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Рустам. Ему 5 лет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 так же, как и я,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ходит в детский сад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н любит играть с нами, собирать пазлы. Учиться читать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6" name="Picture 6" descr="P1000811"/>
          <p:cNvPicPr/>
          <p:nvPr/>
        </p:nvPicPr>
        <p:blipFill>
          <a:blip r:embed="rId1"/>
          <a:stretch/>
        </p:blipFill>
        <p:spPr>
          <a:xfrm>
            <a:off x="4995720" y="1600200"/>
            <a:ext cx="33418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Фотовыставка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28" name="Picture 6" descr="IMG_3494"/>
          <p:cNvPicPr/>
          <p:nvPr/>
        </p:nvPicPr>
        <p:blipFill>
          <a:blip r:embed="rId1"/>
          <a:stretch/>
        </p:blipFill>
        <p:spPr>
          <a:xfrm>
            <a:off x="1785960" y="1571760"/>
            <a:ext cx="6762600" cy="5072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IMG_3495"/>
          <p:cNvPicPr/>
          <p:nvPr/>
        </p:nvPicPr>
        <p:blipFill>
          <a:blip r:embed="rId2"/>
          <a:stretch/>
        </p:blipFill>
        <p:spPr>
          <a:xfrm>
            <a:off x="1714680" y="1571760"/>
            <a:ext cx="6929280" cy="5089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1" name="Рисунок 10" descr="IMG_3493"/>
          <p:cNvPicPr/>
          <p:nvPr/>
        </p:nvPicPr>
        <p:blipFill>
          <a:blip r:embed="rId3"/>
          <a:srcRect l="12830" t="22499" r="0" b="0"/>
          <a:stretch/>
        </p:blipFill>
        <p:spPr>
          <a:xfrm>
            <a:off x="1643040" y="1571760"/>
            <a:ext cx="70009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Verdana"/>
              </a:rPr>
              <a:t>Содержание проекта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  <a:hlinkClick r:id="rId1" action="ppaction://hlinksldjump"/>
              </a:rPr>
              <a:t>Актуаль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  <a:hlinkClick r:id="rId2" action="ppaction://hlinksldjump"/>
              </a:rPr>
              <a:t>Цель и задач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  <a:hlinkClick r:id="rId3" action="ppaction://hlinksldjump"/>
              </a:rPr>
              <a:t>Этапы работы над проекто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Предполагаемый результат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Продукт проектной деятельности</a:t>
            </a:r>
            <a:r>
              <a:rPr b="0" lang="ru-RU" sz="2000" spc="-1" strike="noStrike">
                <a:solidFill>
                  <a:srgbClr val="99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А вот и Я!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Моя семья – мои друзья!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Фотовыстав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Семейное хобб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</a:rPr>
              <a:t>Близкие и дорогие люди нашей семь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-549360">
              <a:spcBef>
                <a:spcPts val="499"/>
              </a:spcBef>
              <a:buClr>
                <a:srgbClr val="99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ff"/>
                </a:solidFill>
                <a:uFillTx/>
                <a:latin typeface="Verdana"/>
                <a:hlinkClick r:id="rId4" action="ppaction://hlinksldjump"/>
              </a:rPr>
              <a:t>Список используемой литератур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1798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Семейное хобб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3" name="Picture 8" descr="IMG_3498"/>
          <p:cNvPicPr/>
          <p:nvPr/>
        </p:nvPicPr>
        <p:blipFill>
          <a:blip r:embed="rId1"/>
          <a:stretch/>
        </p:blipFill>
        <p:spPr>
          <a:xfrm>
            <a:off x="2143080" y="1865160"/>
            <a:ext cx="5929200" cy="4446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MG_3497"/>
          <p:cNvPicPr/>
          <p:nvPr/>
        </p:nvPicPr>
        <p:blipFill>
          <a:blip r:embed="rId2"/>
          <a:stretch/>
        </p:blipFill>
        <p:spPr>
          <a:xfrm>
            <a:off x="2071800" y="1785960"/>
            <a:ext cx="6083280" cy="4562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648320" y="3903480"/>
            <a:ext cx="403848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599840"/>
            <a:ext cx="403848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7" name="Рисунок 10" descr="IMG_3496"/>
          <p:cNvPicPr/>
          <p:nvPr/>
        </p:nvPicPr>
        <p:blipFill>
          <a:blip r:embed="rId3"/>
          <a:srcRect l="0" t="13721" r="0" b="0"/>
          <a:stretch/>
        </p:blipFill>
        <p:spPr>
          <a:xfrm>
            <a:off x="1857240" y="1714680"/>
            <a:ext cx="6357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Близкие и дорогие люди нашей семь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34560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ак испечь большой пирог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ак связать цветной носок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то даст правильный совет?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Догадались или нет?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Нету бабушки родней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Это моя бабушка Зоя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Живёт она в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с. Шоркистры,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Чувашской республик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40" name="Picture 6" descr="IMG_4708"/>
          <p:cNvPicPr/>
          <p:nvPr/>
        </p:nvPicPr>
        <p:blipFill>
          <a:blip r:embed="rId1"/>
          <a:stretch/>
        </p:blipFill>
        <p:spPr>
          <a:xfrm>
            <a:off x="4643280" y="2276640"/>
            <a:ext cx="424512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63280" y="1773000"/>
            <a:ext cx="633564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00ff"/>
                </a:solidFill>
                <a:latin typeface="Verdana"/>
              </a:rPr>
              <a:t>Спасибо!</a:t>
            </a:r>
            <a:endParaRPr b="0" lang="en-US" sz="8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5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Verdana"/>
              </a:rPr>
              <a:t>Актуальность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Verdana"/>
              </a:rPr>
              <a:t>           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«Семья – это та самая среда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в которой человек учится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                   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и сам творит добро»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В.А.Сухомлински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Наш проект о том, что объединяет всех нас -  о семье. Есть такая пословица: </a:t>
            </a:r>
            <a:r>
              <a:rPr b="1" i="1" lang="ru-RU" sz="2000" spc="-1" strike="noStrike">
                <a:solidFill>
                  <a:srgbClr val="000066"/>
                </a:solidFill>
                <a:latin typeface="Verdana"/>
              </a:rPr>
              <a:t>"Счастье не птица, само не прилетит".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Его создают те, у кого в семье царят мир, уважение и любовь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2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02920" y="404280"/>
            <a:ext cx="72946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Цель проекта: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узнать имена членов семьи, их профессии, интересы.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Задачи проекта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- расширить сведения о семье (знать имена, отчества родителей, профессию, место работы членов семьи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- помочь осознать свой статус в семье, оценить значимость семьи в своей жизни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- воспитывать у детей заботливое отношение к близким людям, желание помочь им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66"/>
                </a:solidFill>
                <a:latin typeface="Verdana"/>
              </a:rPr>
              <a:t>3.</a:t>
            </a:r>
            <a:r>
              <a:rPr b="0" lang="ru-RU" sz="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4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lang="en-US" sz="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Аннотация к проекту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76000" y="1628280"/>
            <a:ext cx="742788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Важным фактором личностного развития ребёнка является удовлетворение его потребности в положительных эмоциональных контактах с близкими людьми. В первую очередь – с родителям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Verdana"/>
              </a:rPr>
              <a:t>«Семья – это цветок, который надо холить, лелеять, любить. Основа хорошего, яркого детства, обучение житейским мудростям, основанным на житейских заповедях».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Именно семья является хранителем традиций, обеспечивает преемственность поколений, сохраняет и развивает лучшие качества людей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Предполагаемый результа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владеть понятием «Семья»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знать информацию о своей семье, профессии родителей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составлять рассказы о своей семье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роявлять заботу и уважение ко всем членам семьи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Verdana"/>
              </a:rPr>
              <a:t>Продукт проектной деятельности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организация выставки «Семейное хобби»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презентация проекта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Line 54"/>
          <p:cNvSpPr/>
          <p:nvPr/>
        </p:nvSpPr>
        <p:spPr>
          <a:xfrm flipH="1" flipV="1">
            <a:off x="539280" y="2133720"/>
            <a:ext cx="7164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частлив тот, кто счастлив дома.</a:t>
            </a:r>
            <a:br>
              <a:rPr sz="3200"/>
            </a:b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 Л. Н. Толстой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Что может быть семьи дороже?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Теплом встречает отчий дом,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Здесь ждут тебя всегда с любовью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И провожают в путь с добром!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4038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5" name="Picture 7" descr="IMG_2815"/>
          <p:cNvPicPr/>
          <p:nvPr/>
        </p:nvPicPr>
        <p:blipFill>
          <a:blip r:embed="rId1"/>
          <a:stretch/>
        </p:blipFill>
        <p:spPr>
          <a:xfrm>
            <a:off x="4572000" y="2637000"/>
            <a:ext cx="431964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2920" y="102960"/>
            <a:ext cx="7489800" cy="296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У каждого  человека есть своя семья, свой дом. Семья–это семь“Я”. Семья - это продолжение нашего рода. И где бы ни были, мы всегда  помним о нем, он притягивает нас своим теплом. Дом – это не только крыша над головой, это твоя семья и близкие тебе люди: родители, сестры, братья, дедушки, бабушки. 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Моя семья</a:t>
            </a: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 - это папа, мама, две старшие сестры, два  старших брата, братишка, сестренка  и я. Мы разные, но всегда стараемся понять друг друга и помочь в трудную минуту.</a:t>
            </a:r>
            <a:br>
              <a:rPr sz="1800"/>
            </a:b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7" name="Picture 4" descr="IMG_5482"/>
          <p:cNvPicPr/>
          <p:nvPr/>
        </p:nvPicPr>
        <p:blipFill>
          <a:blip r:embed="rId1"/>
          <a:stretch/>
        </p:blipFill>
        <p:spPr>
          <a:xfrm>
            <a:off x="1332000" y="2924280"/>
            <a:ext cx="4895640" cy="3671640"/>
          </a:xfrm>
          <a:prstGeom prst="rect">
            <a:avLst/>
          </a:prstGeom>
          <a:ln w="0">
            <a:noFill/>
          </a:ln>
        </p:spPr>
      </p:pic>
      <p:sp>
        <p:nvSpPr>
          <p:cNvPr id="188" name="Oval 5"/>
          <p:cNvSpPr/>
          <p:nvPr/>
        </p:nvSpPr>
        <p:spPr>
          <a:xfrm>
            <a:off x="6443640" y="2852640"/>
            <a:ext cx="2378160" cy="863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Семья Семёновых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6300720" y="4292640"/>
            <a:ext cx="1440000" cy="57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икулов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7524720" y="5084640"/>
            <a:ext cx="1368360" cy="574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имонов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6804000" y="3789360"/>
            <a:ext cx="216000" cy="503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7885080" y="3860640"/>
            <a:ext cx="647640" cy="12240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А вот и Я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3019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Меня зовут Бикулов Павел. Я живу в деревне Лаптево. Мне 23 января исполнилось 6 лет. Я посещаю детский сад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Я очень люблю читать книги, помогать маме с папой. Осенью я пойду учиться в школу.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Когда я вырасту,  хочу стать Президентом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6" descr="P1000842"/>
          <p:cNvPicPr/>
          <p:nvPr/>
        </p:nvPicPr>
        <p:blipFill>
          <a:blip r:embed="rId1"/>
          <a:stretch/>
        </p:blipFill>
        <p:spPr>
          <a:xfrm>
            <a:off x="4995720" y="1600200"/>
            <a:ext cx="33418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4:55:57Z</dcterms:created>
  <dc:creator>user</dc:creator>
  <dc:description/>
  <dc:language>en-US</dc:language>
  <cp:lastModifiedBy>user</cp:lastModifiedBy>
  <dcterms:modified xsi:type="dcterms:W3CDTF">2013-05-02T07:04:57Z</dcterms:modified>
  <cp:revision>36</cp:revision>
  <dc:subject/>
  <dc:title>«Я и моя семья»</dc:title>
</cp:coreProperties>
</file>