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9728-13C0-4F43-8BAE-739A88CC2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041F-9103-49A5-96F3-D63971418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E8A7-B388-4E8A-A00A-A23F0651E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44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44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C412-2A48-4BF9-80E2-FA5C1A7E0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5FEA-D3A9-4673-8E31-B469E0167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D46E-4D3A-4FC7-B2A1-E62A1B96C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4C4D-3C7B-4930-AEDB-8B4606D97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CD70-1194-42D2-A4D6-05EFBB2A3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6578-6D8E-4F11-AAD1-2D8C06516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AD3B-1DA7-4B4A-987F-6688F5DB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00C8-5F5F-4148-BF6F-4F169F92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99FD-B995-46E2-B5AC-1058C3DA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7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DEF5DA-8884-4852-B821-EAC8FA2984F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7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0360" y="647640"/>
            <a:ext cx="9070920" cy="62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83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000080"/>
                </a:solidFill>
                <a:latin typeface="Arial"/>
              </a:rPr>
              <a:t>Загадк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000080"/>
                </a:solidFill>
                <a:latin typeface="Arial"/>
              </a:rPr>
              <a:t>о животных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000080"/>
                </a:solidFill>
                <a:latin typeface="Arial"/>
              </a:rPr>
              <a:t>Проект учащихс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000080"/>
                </a:solidFill>
                <a:latin typeface="Arial"/>
              </a:rPr>
              <a:t>2 В класса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7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63640" y="1008000"/>
            <a:ext cx="7128000" cy="30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е бык, а с рогами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е человек, а с бородой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032360" y="2664000"/>
            <a:ext cx="5111640" cy="41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7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03280" y="1079640"/>
            <a:ext cx="6551640" cy="35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то зимой все время спит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 летом улья ворошит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743280" y="2735280"/>
            <a:ext cx="5256360" cy="38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7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20720" y="936720"/>
            <a:ext cx="5154480" cy="47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ежит веревк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Шипит плутов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рать ее опасно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кусит. Ясн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319640" y="3168720"/>
            <a:ext cx="4824360" cy="37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7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03280" y="301680"/>
            <a:ext cx="9070920" cy="65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80"/>
                </a:solidFill>
                <a:latin typeface="Arial"/>
              </a:rPr>
              <a:t>В проекте использованы презентац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80"/>
                </a:solidFill>
                <a:latin typeface="Arial"/>
              </a:rPr>
              <a:t>к уроку литературного чт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лышева Павла, Барсегян Ваг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робьёвой Ксении, Зайретдинова Альбер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омовцевой Ольги, Малининой Мари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нюшкина Александ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доровой Елизаветы, Черкасовой Елизав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7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08360" y="2664000"/>
            <a:ext cx="4751640" cy="4032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152360" y="1008000"/>
            <a:ext cx="5040360" cy="42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линные ушки, быстрые лапки. Серый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о не мышк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то это?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7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03280" y="863640"/>
            <a:ext cx="5616360" cy="52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ыже-огненный комочек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хвостиком как парашют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деревьям быстро скаче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ыл он там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перь уж ту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ыстрый он как стрелоч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к ведь это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808600" y="3600360"/>
            <a:ext cx="369576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7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31640" y="1295280"/>
            <a:ext cx="543888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ворчал живой замок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ёг у двери поперёк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ве медали на груд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учше в дом не заходи!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896000" y="4103640"/>
            <a:ext cx="4275000" cy="30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7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20720" y="1079640"/>
            <a:ext cx="5343480" cy="48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дремлю я и пою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есенку тебе свою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о когда я на охоте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 ленивый я в работ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832360" y="3780000"/>
            <a:ext cx="3048120" cy="32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7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03280" y="1079640"/>
            <a:ext cx="5913360" cy="35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есом катится клубок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 него колючий бок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н охотится ночам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 жуками и мыш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029200" y="4103640"/>
            <a:ext cx="3825720" cy="30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7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03280" y="936720"/>
            <a:ext cx="784872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Серый, страшный и зубастый Произвел переполох. 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Все зверята разбежались. 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Напугал зверят тех..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975280" y="3959280"/>
            <a:ext cx="3527640" cy="30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7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03280" y="1008000"/>
            <a:ext cx="7559640" cy="36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Царь зверей он, и не див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Вон какая роскошь -грива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Хоть кошачий рык, но грозный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апы - мощь, и взгляд серьёзный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040360" y="3959280"/>
            <a:ext cx="4248000" cy="291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7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03280" y="1152360"/>
            <a:ext cx="6191280" cy="35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 ежа зверёк похож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есь в иголках, но не ёж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159080" y="3024360"/>
            <a:ext cx="4695840" cy="3455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6T14:42:30Z</dcterms:created>
  <dc:creator/>
  <dc:description/>
  <dc:language>en-US</dc:language>
  <cp:lastModifiedBy/>
  <dcterms:modified xsi:type="dcterms:W3CDTF">2013-01-26T15:30:51Z</dcterms:modified>
  <cp:revision>1</cp:revision>
  <dc:subject/>
  <dc:title/>
</cp:coreProperties>
</file>