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5ED-B5CB-4FC6-8DE2-FED3CFE5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C72-BBCF-4318-BA0D-2D43482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AAA-AC28-4B64-9525-F4A59624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ADF-FBE4-4766-B94A-032449CF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D25-285A-468B-8D84-8AC5C51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7D9-D62D-49C8-9C5D-BF7C0F1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28A-7DBD-4ACA-849A-5BBF6FE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9E7-6679-49F5-89CA-5624729A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49E-AA55-4457-8EED-C878CE0E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E6C-F2E3-4676-B13C-5F6778A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89C-5D0D-4498-B067-40F487B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0FC-DC01-4B99-960E-2A90535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651E6-995D-4697-AA10-865AE7C72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647640"/>
            <a:ext cx="907092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Зага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о животных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Проект учащихс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2 В класс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63640" y="1008000"/>
            <a:ext cx="71280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бык, а с рога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человек, а с бород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2360" y="2664000"/>
            <a:ext cx="5111640" cy="41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1079640"/>
            <a:ext cx="65516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зимой все время сп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летом улья ворошит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43280" y="2735280"/>
            <a:ext cx="5256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936720"/>
            <a:ext cx="515448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жит верев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пит плуто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ть ее опас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усит. Яс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9640" y="316872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01680"/>
            <a:ext cx="907092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В проекте использованы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к уроку литературного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ышева Павла, Барсегян Ва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ёвой Ксении, Зайретдинова Альб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овцевой Ольги, Малининой Ма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юшкина Александ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оровой Елизаветы, Черкасовой Ели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08360" y="2664000"/>
            <a:ext cx="4751640" cy="40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52360" y="1008000"/>
            <a:ext cx="50403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инные ушки, быстрые лапки. Сер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не мыш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это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863640"/>
            <a:ext cx="561636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же-огненный комоч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хвостиком как парашют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ревьям быстро скач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он та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ж т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ый он как стрело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ведь эт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08600" y="3600360"/>
            <a:ext cx="36957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1640" y="1295280"/>
            <a:ext cx="5438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орчал живой зам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г у двери поперё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 медали на гру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чше в дом не заходи!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96000" y="410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0720" y="1079640"/>
            <a:ext cx="53434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ремлю я и по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енку тебе сво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когда я на охот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ленивый я в рабо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2360" y="3780000"/>
            <a:ext cx="304812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1079640"/>
            <a:ext cx="5913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сом катится клуб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него колючий б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охотится ноч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жуками и мыш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103640"/>
            <a:ext cx="38257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936720"/>
            <a:ext cx="7848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рый, страшный и зубастый Произвел переполох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е зверята разбежались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пугал зверят тех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75280" y="3959280"/>
            <a:ext cx="3527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1008000"/>
            <a:ext cx="7559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рь зверей он, и не ди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Вон какая роскошь -грив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ть кошачий рык, но гроз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пы - мощь, и взгляд серьёзны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2480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1152360"/>
            <a:ext cx="61912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ежа зверёк похож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сь в иголках, но не ё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59080" y="3024360"/>
            <a:ext cx="4695840" cy="34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4:42:30Z</dcterms:created>
  <dc:creator/>
  <dc:description/>
  <dc:language>en-US</dc:language>
  <cp:lastModifiedBy/>
  <dcterms:modified xsi:type="dcterms:W3CDTF">2013-01-26T15:30:51Z</dcterms:modified>
  <cp:revision>1</cp:revision>
  <dc:subject/>
  <dc:title/>
</cp:coreProperties>
</file>