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CDAB-02B0-4084-8435-DC36CEC6A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A2A1-454F-442F-8D7C-734260DF5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D4CA-6FA9-4512-BA12-7D67D845C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9278-5A95-48BF-9FC7-F64E31930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BDFD-1BBE-4DF8-AE13-12322FE77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7D7D-1050-40C4-A6D8-601E65709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70F0-5A93-4873-8B04-DA69F1A7C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4921-36C7-4C5E-B179-1472B8974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4CF3-275D-4152-B73D-16E800377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A498-520F-4D23-909D-3C7E494F4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A6C1-C0CC-453D-9F43-580C3EB91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AC4E-10F6-493E-B31E-1DB84810A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D916D-EC00-48CA-B94C-FBC300EAF9C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Окружающий мир.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Тема «Город, в котором мы живем».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УМК «Школа 2100».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1 класс «Б»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Учитель Клеба С.А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2012-2013 учебный год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В городе можно отдыхать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6" name="Picture 2" descr="C:\Users\1\Desktop\677007702127741053597475c82992de.jpg"/>
          <p:cNvPicPr/>
          <p:nvPr/>
        </p:nvPicPr>
        <p:blipFill>
          <a:blip r:embed="rId1"/>
          <a:stretch/>
        </p:blipFill>
        <p:spPr>
          <a:xfrm>
            <a:off x="1158840" y="1600200"/>
            <a:ext cx="6826320" cy="45259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:\Users\1\Desktop\showpix.jpg"/>
          <p:cNvPicPr/>
          <p:nvPr/>
        </p:nvPicPr>
        <p:blipFill>
          <a:blip r:embed="rId1"/>
          <a:stretch/>
        </p:blipFill>
        <p:spPr>
          <a:xfrm>
            <a:off x="468360" y="404640"/>
            <a:ext cx="7775640" cy="56055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C:\Users\1\Desktop\692500.jpg"/>
          <p:cNvPicPr/>
          <p:nvPr/>
        </p:nvPicPr>
        <p:blipFill>
          <a:blip r:embed="rId1"/>
          <a:stretch/>
        </p:blipFill>
        <p:spPr>
          <a:xfrm>
            <a:off x="914400" y="841320"/>
            <a:ext cx="7315200" cy="51753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C:\Users\1\Desktop\052.jpg"/>
          <p:cNvPicPr/>
          <p:nvPr/>
        </p:nvPicPr>
        <p:blipFill>
          <a:blip r:embed="rId1"/>
          <a:stretch/>
        </p:blipFill>
        <p:spPr>
          <a:xfrm>
            <a:off x="762120" y="642960"/>
            <a:ext cx="7619760" cy="55720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C:\Users\1\Desktop\okeanarium.jpg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 городе есть всё необходимое, чтобы жизнь людей была удобной и интересной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 городе люди вместе ведут городское хозяйство. Взрослые работают и пользуются  плодами труда друг друга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Благодаря этому каждый может иметь больше времени для отдыха, семьи и любимых занятий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Конец</a:t>
            </a: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Мы живём в городе Санкт-Петербург.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Чем отличается город от села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4" name="Picture 2" descr="C:\Users\1\Desktop\1_resize.jpg"/>
          <p:cNvPicPr/>
          <p:nvPr/>
        </p:nvPicPr>
        <p:blipFill>
          <a:blip r:embed="rId1"/>
          <a:stretch/>
        </p:blipFill>
        <p:spPr>
          <a:xfrm>
            <a:off x="457200" y="1557360"/>
            <a:ext cx="4038480" cy="4535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C:\Users\1\Desktop\092924_061711_22_73b - копия.jpg"/>
          <p:cNvPicPr/>
          <p:nvPr/>
        </p:nvPicPr>
        <p:blipFill>
          <a:blip r:embed="rId2"/>
          <a:stretch/>
        </p:blipFill>
        <p:spPr>
          <a:xfrm>
            <a:off x="4716360" y="1557360"/>
            <a:ext cx="4038840" cy="44924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Что есть в городе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Городская школа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Сельская школа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9" name="Picture 2" descr="C:\Users\1\Desktop\iCASYAZQ3.jpg"/>
          <p:cNvPicPr/>
          <p:nvPr/>
        </p:nvPicPr>
        <p:blipFill>
          <a:blip r:embed="rId1"/>
          <a:stretch/>
        </p:blipFill>
        <p:spPr>
          <a:xfrm>
            <a:off x="250920" y="2205000"/>
            <a:ext cx="4105080" cy="4032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C:\Users\1\Desktop\iCAEZPVOG.jpg"/>
          <p:cNvPicPr/>
          <p:nvPr/>
        </p:nvPicPr>
        <p:blipFill>
          <a:blip r:embed="rId2"/>
          <a:stretch/>
        </p:blipFill>
        <p:spPr>
          <a:xfrm>
            <a:off x="4572000" y="2205000"/>
            <a:ext cx="4321080" cy="41036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Поликлиники и больницы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2" name="Picture 2" descr="C:\Users\1\Desktop\iCA186K2G.jpg"/>
          <p:cNvPicPr/>
          <p:nvPr/>
        </p:nvPicPr>
        <p:blipFill>
          <a:blip r:embed="rId1"/>
          <a:stretch/>
        </p:blipFill>
        <p:spPr>
          <a:xfrm>
            <a:off x="395280" y="1557360"/>
            <a:ext cx="4105440" cy="4535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C:\Users\1\Desktop\iCAN5U9BL.jpg"/>
          <p:cNvPicPr/>
          <p:nvPr/>
        </p:nvPicPr>
        <p:blipFill>
          <a:blip r:embed="rId2"/>
          <a:stretch/>
        </p:blipFill>
        <p:spPr>
          <a:xfrm>
            <a:off x="4643280" y="1557360"/>
            <a:ext cx="4176720" cy="47512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В городе можно работать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5" name="Picture 2" descr="C:\Users\1\Desktop\p169_rech145.jpg"/>
          <p:cNvPicPr/>
          <p:nvPr/>
        </p:nvPicPr>
        <p:blipFill>
          <a:blip r:embed="rId1"/>
          <a:stretch/>
        </p:blipFill>
        <p:spPr>
          <a:xfrm>
            <a:off x="755640" y="1341360"/>
            <a:ext cx="7704000" cy="51120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Users\1\Desktop\profesiya.jpg"/>
          <p:cNvPicPr/>
          <p:nvPr/>
        </p:nvPicPr>
        <p:blipFill>
          <a:blip r:embed="rId1"/>
          <a:stretch/>
        </p:blipFill>
        <p:spPr>
          <a:xfrm>
            <a:off x="468360" y="333360"/>
            <a:ext cx="8207280" cy="58323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Можно передвигаться на транспорте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8" name="Picture 2" descr="C:\Users\1\Desktop\i.jpg"/>
          <p:cNvPicPr/>
          <p:nvPr/>
        </p:nvPicPr>
        <p:blipFill>
          <a:blip r:embed="rId1"/>
          <a:stretch/>
        </p:blipFill>
        <p:spPr>
          <a:xfrm>
            <a:off x="826920" y="1989000"/>
            <a:ext cx="7274160" cy="41767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0" name="Picture 2" descr="C:\Users\1\Desktop\ее.jpg"/>
          <p:cNvPicPr/>
          <p:nvPr/>
        </p:nvPicPr>
        <p:blipFill>
          <a:blip r:embed="rId1"/>
          <a:stretch/>
        </p:blipFill>
        <p:spPr>
          <a:xfrm>
            <a:off x="250920" y="1628640"/>
            <a:ext cx="4321080" cy="4537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C:\Users\1\Desktop\0_69819_6257b95c_XL.jpg"/>
          <p:cNvPicPr/>
          <p:nvPr/>
        </p:nvPicPr>
        <p:blipFill>
          <a:blip r:embed="rId2"/>
          <a:stretch/>
        </p:blipFill>
        <p:spPr>
          <a:xfrm>
            <a:off x="4716360" y="1628640"/>
            <a:ext cx="4032360" cy="45370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3" name="Picture 2" descr="C:\Users\1\Desktop\15966.jpg"/>
          <p:cNvPicPr/>
          <p:nvPr/>
        </p:nvPicPr>
        <p:blipFill>
          <a:blip r:embed="rId1"/>
          <a:stretch/>
        </p:blipFill>
        <p:spPr>
          <a:xfrm>
            <a:off x="468360" y="1557360"/>
            <a:ext cx="4038480" cy="4613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C:\Users\1\Desktop\6288_01.jpg"/>
          <p:cNvPicPr/>
          <p:nvPr/>
        </p:nvPicPr>
        <p:blipFill>
          <a:blip r:embed="rId2"/>
          <a:stretch/>
        </p:blipFill>
        <p:spPr>
          <a:xfrm>
            <a:off x="4648320" y="1557360"/>
            <a:ext cx="4038480" cy="46083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9T19:27:26Z</dcterms:created>
  <dc:creator>1</dc:creator>
  <dc:description/>
  <dc:language>en-US</dc:language>
  <cp:lastModifiedBy>1</cp:lastModifiedBy>
  <dcterms:modified xsi:type="dcterms:W3CDTF">2013-01-09T20:27:45Z</dcterms:modified>
  <cp:revision>9</cp:revision>
  <dc:subject/>
  <dc:title>Окружающий мир. Тема «Город в котором мы живем».  </dc:title>
</cp:coreProperties>
</file>