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9.png" ContentType="image/png"/>
  <Override PartName="/ppt/media/image3.jpeg" ContentType="image/jpeg"/>
  <Override PartName="/ppt/media/image23.jpeg" ContentType="image/jpeg"/>
  <Override PartName="/ppt/media/image20.gif" ContentType="image/gif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2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BDD6-56BA-4992-86DF-D35F06457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8AFB-40F8-47AA-824E-56182FC0BE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B03-6C13-4230-A164-D6B279DA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78E-E652-46FD-B4EB-A82BE71C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C7C-C6EA-4A3D-8F77-EE8ECD01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560-779B-437D-B504-A5D408C3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ED0-C0A3-4A96-B306-33922B09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7BA4-A02C-4D43-A4C8-DBD5A250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476C-32D1-4EBA-A7A6-D272BF44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54B9-C5D6-4B67-94E8-AD270DAA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980B-EF87-49F8-A6AE-EFEB2A7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7729-2C4B-4654-80C9-139C621C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8DDC-29F3-43DE-A6A9-C5CA28BD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50B-434B-4654-989F-C4F1D639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EDD3-5A7F-4392-BF8A-800B08E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654D-58C3-41B1-9252-5B5535A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7B17-ECB0-4452-8936-2D0D058A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8882-01D4-4CDD-8F66-E0626D39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90DB-F180-4F3E-8333-1EDA7742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5C3-4AF2-48FB-8FC8-EB28CF2D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AD4-C988-46D8-B4EC-B0399F0E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834-8951-4F00-8B89-CA5A03CA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5E6-FCB3-4ACE-BDD6-EAAA2553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0D9-E863-40F4-9A9A-E7704097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C0F-745E-41CF-9B0E-78E909B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E0A-EC68-403B-A8B7-6E0B6C89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BAE8-CCAE-4DE0-97FC-F3E9A602F00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BDC0-7068-4BF3-82E6-4C19892B9F7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mk-piter.ru/2009/07/22/011/titl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ood morning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Текст 12" descr=""/>
          <p:cNvPicPr/>
          <p:nvPr/>
        </p:nvPicPr>
        <p:blipFill>
          <a:blip r:embed="rId1"/>
          <a:stretch/>
        </p:blipFill>
        <p:spPr>
          <a:xfrm>
            <a:off x="1863720" y="1268280"/>
            <a:ext cx="51912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ondon  W 15M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van Bro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eat Bri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5, Wall Stre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Текст 12" descr=""/>
          <p:cNvPicPr/>
          <p:nvPr/>
        </p:nvPicPr>
        <p:blipFill>
          <a:blip r:embed="rId1"/>
          <a:stretch/>
        </p:blipFill>
        <p:spPr>
          <a:xfrm>
            <a:off x="5508720" y="1859040"/>
            <a:ext cx="36352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van Bro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, Wall Stre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London W 15M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reat Bri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Текст 12" descr=""/>
          <p:cNvPicPr/>
          <p:nvPr/>
        </p:nvPicPr>
        <p:blipFill>
          <a:blip r:embed="rId1"/>
          <a:stretch/>
        </p:blipFill>
        <p:spPr>
          <a:xfrm>
            <a:off x="6286680" y="1484280"/>
            <a:ext cx="23572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Documents and Settings\Сергей\Рабочий стол\конверт.JPG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:\Documents and Settings\Сергей\Рабочий стол\Миранда.JPG"/>
          <p:cNvPicPr/>
          <p:nvPr/>
        </p:nvPicPr>
        <p:blipFill>
          <a:blip r:embed="rId1"/>
          <a:stretch/>
        </p:blipFill>
        <p:spPr>
          <a:xfrm>
            <a:off x="1258920" y="1413000"/>
            <a:ext cx="65944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378000" y="-128520"/>
            <a:ext cx="8461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Сергей\Рабочий стол\lamp.JPG"/>
          <p:cNvPicPr/>
          <p:nvPr/>
        </p:nvPicPr>
        <p:blipFill>
          <a:blip r:embed="rId1"/>
          <a:stretch/>
        </p:blipFill>
        <p:spPr>
          <a:xfrm rot="450000">
            <a:off x="4787640" y="1738440"/>
            <a:ext cx="3079800" cy="46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0" y="189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Book Antiqua"/>
              </a:rPr>
              <a:t>Near the letterbox there stands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a) a postm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b)a lamp</a:t>
            </a:r>
            <a:r>
              <a:rPr b="0" lang="ru-RU" sz="4400" spc="-1" strike="noStrike">
                <a:solidFill>
                  <a:srgbClr val="375bb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c) a post off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C:\Documents and Settings\Сергей\Рабочий стол\7.JPG"/>
          <p:cNvPicPr/>
          <p:nvPr/>
        </p:nvPicPr>
        <p:blipFill>
          <a:blip r:embed="rId1"/>
          <a:stretch/>
        </p:blipFill>
        <p:spPr>
          <a:xfrm rot="434400">
            <a:off x="5724000" y="1773000"/>
            <a:ext cx="3284640" cy="4348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240" y="25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a65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Book Antiqua"/>
              </a:rPr>
              <a:t>The lamp shows the people where…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a)to write their letter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b)to get their letter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c)to post their letters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8229600" cy="21272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564000" y="2790720"/>
            <a:ext cx="4744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75bb0"/>
                </a:solidFill>
                <a:latin typeface="Book Antiqua"/>
              </a:rPr>
              <a:t>WB: ex.4, p.5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3" descr="C:\Documents and Settings\Сергей\Рабочий стол\homework.gif"/>
          <p:cNvPicPr/>
          <p:nvPr/>
        </p:nvPicPr>
        <p:blipFill>
          <a:blip r:embed="rId2"/>
          <a:stretch/>
        </p:blipFill>
        <p:spPr>
          <a:xfrm>
            <a:off x="15840" y="2789280"/>
            <a:ext cx="3672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30412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00880" cy="326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age, cage, jam, jump, Jill;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ill gets the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reat , the USA, late, James;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mes is from the U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xford, New York, Kate, clock;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ate is from New Y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onth, run, London, Russia;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am from Russia.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7" descr=""/>
          <p:cNvPicPr/>
          <p:nvPr/>
        </p:nvPicPr>
        <p:blipFill>
          <a:blip r:embed="rId1"/>
          <a:stretch/>
        </p:blipFill>
        <p:spPr>
          <a:xfrm>
            <a:off x="-201600" y="-12600"/>
            <a:ext cx="9601200" cy="1384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3344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Every morning at e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She can hear the</a:t>
            </a: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             kno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Up jumps Jill to open the doo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One</a:t>
            </a: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two</a:t>
            </a: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   </a:t>
            </a: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fou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5" descr="30r6"/>
          <p:cNvPicPr/>
          <p:nvPr/>
        </p:nvPicPr>
        <p:blipFill>
          <a:blip r:embed="rId2"/>
          <a:stretch/>
        </p:blipFill>
        <p:spPr>
          <a:xfrm>
            <a:off x="5508720" y="1125360"/>
            <a:ext cx="1655640" cy="10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2022010076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4362480" y="2421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98" name="Letter"/>
          <p:cNvSpPr/>
          <p:nvPr/>
        </p:nvSpPr>
        <p:spPr>
          <a:xfrm>
            <a:off x="1763640" y="4729320"/>
            <a:ext cx="1584360" cy="792000"/>
          </a:xfrm>
          <a:custGeom>
            <a:avLst/>
            <a:gdLst>
              <a:gd name="textAreaLeft" fmla="*/ 388800 w 1584360"/>
              <a:gd name="textAreaRight" fmla="*/ 1284120 w 1584360"/>
              <a:gd name="textAreaTop" fmla="*/ 338040 h 792000"/>
              <a:gd name="textAreaBottom" fmla="*/ 673920 h 79200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etter"/>
          <p:cNvSpPr/>
          <p:nvPr/>
        </p:nvSpPr>
        <p:spPr>
          <a:xfrm rot="18112800">
            <a:off x="4398840" y="4671720"/>
            <a:ext cx="1714320" cy="1038240"/>
          </a:xfrm>
          <a:custGeom>
            <a:avLst/>
            <a:gdLst>
              <a:gd name="textAreaLeft" fmla="*/ 420840 w 1714320"/>
              <a:gd name="textAreaRight" fmla="*/ 1389240 w 1714320"/>
              <a:gd name="textAreaTop" fmla="*/ 442800 h 1038240"/>
              <a:gd name="textAreaBottom" fmla="*/ 883440 h 103824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etter"/>
          <p:cNvSpPr/>
          <p:nvPr/>
        </p:nvSpPr>
        <p:spPr>
          <a:xfrm rot="16488600">
            <a:off x="4402800" y="4813920"/>
            <a:ext cx="1525680" cy="1111320"/>
          </a:xfrm>
          <a:custGeom>
            <a:avLst/>
            <a:gdLst>
              <a:gd name="textAreaLeft" fmla="*/ 374400 w 1525680"/>
              <a:gd name="textAreaRight" fmla="*/ 1236600 w 1525680"/>
              <a:gd name="textAreaTop" fmla="*/ 474120 h 1111320"/>
              <a:gd name="textAreaBottom" fmla="*/ 945720 h 111132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etter"/>
          <p:cNvSpPr/>
          <p:nvPr/>
        </p:nvSpPr>
        <p:spPr>
          <a:xfrm rot="6552600">
            <a:off x="7172280" y="4590720"/>
            <a:ext cx="1731960" cy="1068480"/>
          </a:xfrm>
          <a:custGeom>
            <a:avLst/>
            <a:gdLst>
              <a:gd name="textAreaLeft" fmla="*/ 425160 w 1731960"/>
              <a:gd name="textAreaRight" fmla="*/ 1403640 w 1731960"/>
              <a:gd name="textAreaTop" fmla="*/ 455760 h 1068480"/>
              <a:gd name="textAreaBottom" fmla="*/ 909000 h 10684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etter"/>
          <p:cNvSpPr/>
          <p:nvPr/>
        </p:nvSpPr>
        <p:spPr>
          <a:xfrm rot="8017800">
            <a:off x="7181640" y="5073480"/>
            <a:ext cx="1776600" cy="992160"/>
          </a:xfrm>
          <a:custGeom>
            <a:avLst/>
            <a:gdLst>
              <a:gd name="textAreaLeft" fmla="*/ 436320 w 1776600"/>
              <a:gd name="textAreaRight" fmla="*/ 1439640 w 1776600"/>
              <a:gd name="textAreaTop" fmla="*/ 423360 h 992160"/>
              <a:gd name="textAreaBottom" fmla="*/ 844200 h 99216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etter"/>
          <p:cNvSpPr/>
          <p:nvPr/>
        </p:nvSpPr>
        <p:spPr>
          <a:xfrm rot="19717200">
            <a:off x="7419960" y="5653080"/>
            <a:ext cx="1328760" cy="860400"/>
          </a:xfrm>
          <a:custGeom>
            <a:avLst/>
            <a:gdLst>
              <a:gd name="textAreaLeft" fmla="*/ 326160 w 1328760"/>
              <a:gd name="textAreaRight" fmla="*/ 1076760 w 1328760"/>
              <a:gd name="textAreaTop" fmla="*/ 367200 h 860400"/>
              <a:gd name="textAreaBottom" fmla="*/ 732240 h 86040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Приложение1.mp3" descr=""/>
          <p:cNvPicPr/>
          <p:nvPr/>
        </p:nvPicPr>
        <p:blipFill>
          <a:blip r:embed="rId4"/>
          <a:stretch/>
        </p:blipFill>
        <p:spPr>
          <a:xfrm>
            <a:off x="8621640" y="6381720"/>
            <a:ext cx="412920" cy="412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155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772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3300"/>
                </a:solidFill>
                <a:latin typeface="Arial"/>
              </a:rPr>
              <a:t>Listen and act ou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Текст 1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13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Текст 1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Текст 12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Текст 12" descr=""/>
          <p:cNvPicPr/>
          <p:nvPr/>
        </p:nvPicPr>
        <p:blipFill>
          <a:blip r:embed="rId3"/>
          <a:stretch/>
        </p:blipFill>
        <p:spPr>
          <a:xfrm>
            <a:off x="5327640" y="3995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Текст 12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8466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7200" y="-122400"/>
            <a:ext cx="8229600" cy="15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Сергей\Рабочий стол\0000000001.jpg"/>
          <p:cNvPicPr/>
          <p:nvPr/>
        </p:nvPicPr>
        <p:blipFill>
          <a:blip r:embed="rId2"/>
          <a:stretch/>
        </p:blipFill>
        <p:spPr>
          <a:xfrm>
            <a:off x="1547640" y="981000"/>
            <a:ext cx="5707080" cy="5707080"/>
          </a:xfrm>
          <a:prstGeom prst="rect">
            <a:avLst/>
          </a:prstGeom>
          <a:ln w="0">
            <a:noFill/>
          </a:ln>
        </p:spPr>
      </p:pic>
      <p:pic>
        <p:nvPicPr>
          <p:cNvPr id="115" name="Приложение4.wma" descr=""/>
          <p:cNvPicPr/>
          <p:nvPr/>
        </p:nvPicPr>
        <p:blipFill>
          <a:blip r:embed="rId3"/>
          <a:stretch/>
        </p:blipFill>
        <p:spPr>
          <a:xfrm>
            <a:off x="6778800" y="6200640"/>
            <a:ext cx="447480" cy="44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6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436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:\для Н.Ю\рисунки\_1_5.JPG"/>
          <p:cNvPicPr/>
          <p:nvPr/>
        </p:nvPicPr>
        <p:blipFill>
          <a:blip r:embed="rId1"/>
          <a:stretch/>
        </p:blipFill>
        <p:spPr>
          <a:xfrm rot="575400">
            <a:off x="2528640" y="4414320"/>
            <a:ext cx="1654200" cy="2205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Картинка 60 из 23032">
            <a:hlinkClick r:id="rId2"/>
          </p:cNvPr>
          <p:cNvPicPr/>
          <p:nvPr/>
        </p:nvPicPr>
        <p:blipFill>
          <a:blip r:embed="rId3"/>
          <a:stretch/>
        </p:blipFill>
        <p:spPr>
          <a:xfrm rot="21105000">
            <a:off x="235080" y="4389120"/>
            <a:ext cx="1969920" cy="225576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1" descr=""/>
          <p:cNvPicPr/>
          <p:nvPr/>
        </p:nvPicPr>
        <p:blipFill>
          <a:blip r:embed="rId4"/>
          <a:stretch/>
        </p:blipFill>
        <p:spPr>
          <a:xfrm>
            <a:off x="457200" y="-42840"/>
            <a:ext cx="8229600" cy="2036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11280" y="1704960"/>
            <a:ext cx="374328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Имя          Фами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№ </a:t>
            </a: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дома     Улиц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Город        Индек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Стра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768320"/>
            <a:ext cx="3743280" cy="24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81160" y="3499920"/>
            <a:ext cx="381636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Evan</a:t>
            </a:r>
            <a:r>
              <a:rPr b="0" lang="ru-RU" sz="3200" spc="-1" strike="noStrike">
                <a:solidFill>
                  <a:srgbClr val="375bb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Br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15 Green Str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London</a:t>
            </a:r>
            <a:r>
              <a:rPr b="0" lang="ru-RU" sz="3200" spc="-1" strike="noStrike">
                <a:solidFill>
                  <a:srgbClr val="375bb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W13 N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Great Bri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788000" y="3500280"/>
            <a:ext cx="3809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1:27:42Z</dcterms:created>
  <dc:creator>Жарова Людмила Владимировна</dc:creator>
  <dc:description>г.Егорьевск МОУ СОШ №15</dc:description>
  <dc:language>en-US</dc:language>
  <cp:lastModifiedBy>рвп</cp:lastModifiedBy>
  <dcterms:modified xsi:type="dcterms:W3CDTF">2013-03-13T07:23:38Z</dcterms:modified>
  <cp:revision>78</cp:revision>
  <dc:subject/>
  <dc:title>Презентация.ppt</dc:title>
</cp:coreProperties>
</file>