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69A-AA3F-4DDF-9309-E27244259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872-9A87-4329-B5EF-2A3D12776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C63C-9CE1-4904-BF71-3A86DD8ED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DEE-F054-4FCB-9A05-737D1282A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F11-722C-4E81-98C2-8CFAADA92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D1D1-20D6-4C86-866F-3B637B5CB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E36-7AE5-4779-B2DD-F62719AFA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AE1-27A7-4BCF-A3EF-6C56C7DC4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28C-EF94-4589-8121-753D9F222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DCE-D8B0-4B64-8E65-7B2025AA2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E9D-366C-4900-89CC-8C22E242C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27C8-8FE2-4496-955C-8F87F1497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763A-6888-468F-8E1B-C23F5B457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ABAE-74C3-47BD-A6FC-6555BC5B7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F4AB-FC76-4BC0-8D79-AD27109A2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A016-DB37-47B8-B5F5-BCFF23550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E96D-93F5-4CD4-B102-49C1153E1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3320-68CB-4BB4-8275-4FF35D087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BA6-EE9B-4251-A741-7C68ADEE5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DCF-87B5-4E64-9D72-D0EC608C0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9C1-5FB5-4504-B034-5F8284F2F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D3C-5FB3-4C06-A8C2-72125CD85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38B-12DA-478F-A4EF-1D63F0F27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609-8B03-42C3-8804-5E87575F4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840-B47E-4A6F-B819-7EC38638E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873-E788-45AD-B368-40F4487C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8D3-8E21-479A-9D5D-71EAE217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D40-F49F-43E1-8F3B-7C5C9763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075-0C23-4507-8903-04863ABF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114-23A3-4D8B-BF52-0E37453A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66F-D358-42D8-BBC4-FB1A30E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EDC-2452-434A-86C6-5B83D4F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9A6-6403-4B7B-B451-E315A11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087-E995-450C-830A-7A35E2C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BEC-5147-4A7A-9E9F-016FF36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483-9ADD-4EE2-B745-D401558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F00-CF6C-4AE2-B9C6-CEE9EC15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417-DDA8-476F-851C-7B7AE545FF5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324000" y="83664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68440" y="1197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40080" y="35733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70880" y="127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2270880" y="1270080"/>
            <a:ext cx="1293120" cy="1178280"/>
            <a:chOff x="2270880" y="1270080"/>
            <a:chExt cx="1293120" cy="1178280"/>
          </a:xfrm>
        </p:grpSpPr>
        <p:grpSp>
          <p:nvGrpSpPr>
            <p:cNvPr id="153" name="Group 15"/>
            <p:cNvGrpSpPr/>
            <p:nvPr/>
          </p:nvGrpSpPr>
          <p:grpSpPr>
            <a:xfrm>
              <a:off x="2843280" y="1270080"/>
              <a:ext cx="720720" cy="792000"/>
              <a:chOff x="2843280" y="1270080"/>
              <a:chExt cx="720720" cy="79200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2843280" y="1341360"/>
                <a:ext cx="720720" cy="720720"/>
                <a:chOff x="2843280" y="1341360"/>
                <a:chExt cx="720720" cy="720720"/>
              </a:xfrm>
            </p:grpSpPr>
            <p:sp>
              <p:nvSpPr>
                <p:cNvPr id="155" name="Line 10"/>
                <p:cNvSpPr/>
                <p:nvPr/>
              </p:nvSpPr>
              <p:spPr>
                <a:xfrm>
                  <a:off x="2843280" y="134136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1"/>
                <p:cNvSpPr/>
                <p:nvPr/>
              </p:nvSpPr>
              <p:spPr>
                <a:xfrm>
                  <a:off x="2843280" y="17017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12"/>
              <p:cNvSpPr/>
              <p:nvPr/>
            </p:nvSpPr>
            <p:spPr>
              <a:xfrm>
                <a:off x="2918160" y="1270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4"/>
            <p:cNvSpPr/>
            <p:nvPr/>
          </p:nvSpPr>
          <p:spPr>
            <a:xfrm>
              <a:off x="2918160" y="170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2270880" y="1557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>
              <a:off x="2340000" y="19890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2411280" y="206064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44720" y="1701720"/>
            <a:ext cx="1293480" cy="1178280"/>
            <a:chOff x="2844720" y="1701720"/>
            <a:chExt cx="1293480" cy="1178280"/>
          </a:xfrm>
        </p:grpSpPr>
        <p:grpSp>
          <p:nvGrpSpPr>
            <p:cNvPr id="163" name="Group 21"/>
            <p:cNvGrpSpPr/>
            <p:nvPr/>
          </p:nvGrpSpPr>
          <p:grpSpPr>
            <a:xfrm>
              <a:off x="3417840" y="1701720"/>
              <a:ext cx="720360" cy="792000"/>
              <a:chOff x="3417840" y="1701720"/>
              <a:chExt cx="720360" cy="792000"/>
            </a:xfrm>
          </p:grpSpPr>
          <p:grpSp>
            <p:nvGrpSpPr>
              <p:cNvPr id="164" name="Group 22"/>
              <p:cNvGrpSpPr/>
              <p:nvPr/>
            </p:nvGrpSpPr>
            <p:grpSpPr>
              <a:xfrm>
                <a:off x="3417840" y="1773000"/>
                <a:ext cx="720360" cy="720720"/>
                <a:chOff x="3417840" y="1773000"/>
                <a:chExt cx="720360" cy="720720"/>
              </a:xfrm>
            </p:grpSpPr>
            <p:sp>
              <p:nvSpPr>
                <p:cNvPr id="165" name="Line 23"/>
                <p:cNvSpPr/>
                <p:nvPr/>
              </p:nvSpPr>
              <p:spPr>
                <a:xfrm>
                  <a:off x="3417840" y="1773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4"/>
                <p:cNvSpPr/>
                <p:nvPr/>
              </p:nvSpPr>
              <p:spPr>
                <a:xfrm>
                  <a:off x="3417840" y="2133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25"/>
              <p:cNvSpPr/>
              <p:nvPr/>
            </p:nvSpPr>
            <p:spPr>
              <a:xfrm>
                <a:off x="3492360" y="170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6"/>
            <p:cNvSpPr/>
            <p:nvPr/>
          </p:nvSpPr>
          <p:spPr>
            <a:xfrm>
              <a:off x="3492720" y="21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7"/>
            <p:cNvSpPr/>
            <p:nvPr/>
          </p:nvSpPr>
          <p:spPr>
            <a:xfrm>
              <a:off x="2844720" y="1989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914560" y="2420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2985840" y="2492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3421080" y="2133720"/>
            <a:ext cx="1293480" cy="1178280"/>
            <a:chOff x="3421080" y="2133720"/>
            <a:chExt cx="1293480" cy="1178280"/>
          </a:xfrm>
        </p:grpSpPr>
        <p:grpSp>
          <p:nvGrpSpPr>
            <p:cNvPr id="173" name="Group 31"/>
            <p:cNvGrpSpPr/>
            <p:nvPr/>
          </p:nvGrpSpPr>
          <p:grpSpPr>
            <a:xfrm>
              <a:off x="3994200" y="2133720"/>
              <a:ext cx="720360" cy="792000"/>
              <a:chOff x="3994200" y="2133720"/>
              <a:chExt cx="720360" cy="792000"/>
            </a:xfrm>
          </p:grpSpPr>
          <p:grpSp>
            <p:nvGrpSpPr>
              <p:cNvPr id="174" name="Group 32"/>
              <p:cNvGrpSpPr/>
              <p:nvPr/>
            </p:nvGrpSpPr>
            <p:grpSpPr>
              <a:xfrm>
                <a:off x="3994200" y="2205000"/>
                <a:ext cx="720360" cy="720720"/>
                <a:chOff x="3994200" y="2205000"/>
                <a:chExt cx="720360" cy="720720"/>
              </a:xfrm>
            </p:grpSpPr>
            <p:sp>
              <p:nvSpPr>
                <p:cNvPr id="175" name="Line 33"/>
                <p:cNvSpPr/>
                <p:nvPr/>
              </p:nvSpPr>
              <p:spPr>
                <a:xfrm>
                  <a:off x="3994200" y="2205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34"/>
                <p:cNvSpPr/>
                <p:nvPr/>
              </p:nvSpPr>
              <p:spPr>
                <a:xfrm>
                  <a:off x="3994200" y="2565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35"/>
              <p:cNvSpPr/>
              <p:nvPr/>
            </p:nvSpPr>
            <p:spPr>
              <a:xfrm>
                <a:off x="4068720" y="213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36"/>
            <p:cNvSpPr/>
            <p:nvPr/>
          </p:nvSpPr>
          <p:spPr>
            <a:xfrm>
              <a:off x="4069080" y="256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7"/>
            <p:cNvSpPr/>
            <p:nvPr/>
          </p:nvSpPr>
          <p:spPr>
            <a:xfrm>
              <a:off x="3421080" y="242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>
              <a:off x="3490920" y="2852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9"/>
            <p:cNvSpPr/>
            <p:nvPr/>
          </p:nvSpPr>
          <p:spPr>
            <a:xfrm>
              <a:off x="3562200" y="2924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0"/>
          <p:cNvGrpSpPr/>
          <p:nvPr/>
        </p:nvGrpSpPr>
        <p:grpSpPr>
          <a:xfrm>
            <a:off x="3997080" y="2565360"/>
            <a:ext cx="1294200" cy="1178280"/>
            <a:chOff x="3997080" y="2565360"/>
            <a:chExt cx="1294200" cy="1178280"/>
          </a:xfrm>
        </p:grpSpPr>
        <p:grpSp>
          <p:nvGrpSpPr>
            <p:cNvPr id="183" name="Group 41"/>
            <p:cNvGrpSpPr/>
            <p:nvPr/>
          </p:nvGrpSpPr>
          <p:grpSpPr>
            <a:xfrm>
              <a:off x="4570560" y="2565360"/>
              <a:ext cx="720720" cy="792000"/>
              <a:chOff x="4570560" y="2565360"/>
              <a:chExt cx="720720" cy="792000"/>
            </a:xfrm>
          </p:grpSpPr>
          <p:grpSp>
            <p:nvGrpSpPr>
              <p:cNvPr id="184" name="Group 42"/>
              <p:cNvGrpSpPr/>
              <p:nvPr/>
            </p:nvGrpSpPr>
            <p:grpSpPr>
              <a:xfrm>
                <a:off x="4570560" y="2636640"/>
                <a:ext cx="720720" cy="720720"/>
                <a:chOff x="4570560" y="2636640"/>
                <a:chExt cx="720720" cy="720720"/>
              </a:xfrm>
            </p:grpSpPr>
            <p:sp>
              <p:nvSpPr>
                <p:cNvPr id="185" name="Line 43"/>
                <p:cNvSpPr/>
                <p:nvPr/>
              </p:nvSpPr>
              <p:spPr>
                <a:xfrm>
                  <a:off x="4570560" y="263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4"/>
                <p:cNvSpPr/>
                <p:nvPr/>
              </p:nvSpPr>
              <p:spPr>
                <a:xfrm>
                  <a:off x="4570560" y="299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45"/>
              <p:cNvSpPr/>
              <p:nvPr/>
            </p:nvSpPr>
            <p:spPr>
              <a:xfrm>
                <a:off x="4645440" y="256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46"/>
            <p:cNvSpPr/>
            <p:nvPr/>
          </p:nvSpPr>
          <p:spPr>
            <a:xfrm>
              <a:off x="4753440" y="31050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3997080" y="2852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>
              <a:off x="4067280" y="328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9"/>
            <p:cNvSpPr/>
            <p:nvPr/>
          </p:nvSpPr>
          <p:spPr>
            <a:xfrm>
              <a:off x="4138560" y="335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61"/>
          <p:cNvSpPr/>
          <p:nvPr/>
        </p:nvSpPr>
        <p:spPr>
          <a:xfrm>
            <a:off x="5292720" y="10890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7"/>
          <p:cNvSpPr/>
          <p:nvPr/>
        </p:nvSpPr>
        <p:spPr>
          <a:xfrm>
            <a:off x="838440" y="45813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906480" y="42940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9"/>
          <p:cNvSpPr/>
          <p:nvPr/>
        </p:nvSpPr>
        <p:spPr>
          <a:xfrm>
            <a:off x="2341080" y="4294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0"/>
          <p:cNvSpPr/>
          <p:nvPr/>
        </p:nvSpPr>
        <p:spPr>
          <a:xfrm>
            <a:off x="2478960" y="45813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1"/>
          <p:cNvSpPr/>
          <p:nvPr/>
        </p:nvSpPr>
        <p:spPr>
          <a:xfrm flipH="1" flipV="1">
            <a:off x="4211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2"/>
          <p:cNvSpPr/>
          <p:nvPr/>
        </p:nvSpPr>
        <p:spPr>
          <a:xfrm flipH="1" flipV="1">
            <a:off x="5435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 rot="18519600">
            <a:off x="2933640" y="19713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63640" y="595008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0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 и 8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3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9"/>
          <p:cNvSpPr/>
          <p:nvPr/>
        </p:nvSpPr>
        <p:spPr>
          <a:xfrm>
            <a:off x="503280" y="297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16 прочитать, вып. зада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8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9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10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8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9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20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9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40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41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84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6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8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1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9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22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25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8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31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6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9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42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6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61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6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9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92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7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10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омашнее задание: п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 читать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.25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1-5 (устно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ания 6,7,8 (письм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55640" y="166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ние №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43280" y="1628640"/>
          <a:ext cx="2670120" cy="4013280"/>
        </p:xfrm>
        <a:graphic>
          <a:graphicData uri="http://schemas.openxmlformats.org/drawingml/2006/table">
            <a:tbl>
              <a:tblPr/>
              <a:tblGrid>
                <a:gridCol w="612720"/>
                <a:gridCol w="514440"/>
                <a:gridCol w="514080"/>
                <a:gridCol w="514440"/>
                <a:gridCol w="514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469800"/>
          <a:ext cx="8229600" cy="6418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50960"/>
                <a:gridCol w="164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162"/>
          <p:cNvSpPr/>
          <p:nvPr/>
        </p:nvSpPr>
        <p:spPr>
          <a:xfrm>
            <a:off x="576360" y="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.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3-01-20T09:42:21Z</dcterms:modified>
  <cp:revision>362</cp:revision>
  <dc:subject/>
  <dc:title>Слайд 1</dc:title>
</cp:coreProperties>
</file>