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3AB-A726-42D0-9FB0-BEF2C403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E7A-38AE-469B-A975-BE83AA87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1499-1192-4B94-B50C-51D06143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4F5-7DB6-43C4-A9F0-4F6BE393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FDEE-898B-4F94-9BA9-7C4FA4A8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FE53-D85F-4DD8-AE50-317816CF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0771-377A-4288-A333-7DA63F3E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F0AE-8C06-4753-B7AE-2D601CEB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3032-0D13-4C38-AC55-4F224E02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8485-AB01-408C-A129-84820305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0D69-C31D-4217-9937-7AEB45EA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EDD-DD88-4485-A269-FA59F0AE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6B14-0C03-45AA-80A6-F5078C06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1456-DD57-4E0D-B05E-38D4DEAB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A325-FC5F-47E1-91D7-BC1B22A7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5BA2-40A1-4605-989E-879E1C6A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37CB-B269-484E-9763-C665CA62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C4B-12E5-4133-850A-F0A39776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3A9-40AC-4399-9570-CD423944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196-3126-427B-A76E-728F8E10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DA20-9F0A-4A8F-872B-3D756C41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48C-2439-4288-A3CF-55F24C4B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D75-2FD8-4461-BDD8-ED072D49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8BB-52E6-4922-9DB4-548F5F8B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C6EB-0988-4CBD-A6A4-40EE0585C4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525F-1F96-487B-9D5C-E35ED75FE0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на повторе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типы величин, может обрабатывать компьюте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такое константы и чем они отличаются от переменны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означает запись -2.6Е7, 5.87Е-15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на языке Паскаль следующ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                          с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выражения в обычной математическ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sqrt(sqr(a)+b)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d*c/2/r+a*3       c) abs(x-y)*(sqr(z)+1)*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значения выражен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.    2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6                г).  2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6                ж).   4 * 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6 /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.    3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4              д).   2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5                   з).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(3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.    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5                е).   2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5 div 3       и).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n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12/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TN_AMDOUBT"/>
          <p:cNvPicPr/>
          <p:nvPr/>
        </p:nvPicPr>
        <p:blipFill>
          <a:blip r:embed="rId1"/>
          <a:stretch/>
        </p:blipFill>
        <p:spPr>
          <a:xfrm>
            <a:off x="8317080" y="5157720"/>
            <a:ext cx="620640" cy="14893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1547640" y="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а: п.33 прочитать, вып. №1-7на карточ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6"/>
              <p:cNvSpPr txBox="1"/>
              <p:nvPr/>
            </p:nvSpPr>
            <p:spPr>
              <a:xfrm>
                <a:off x="1187280" y="3357720"/>
                <a:ext cx="1008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7"/>
              <p:cNvSpPr txBox="1"/>
              <p:nvPr/>
            </p:nvSpPr>
            <p:spPr>
              <a:xfrm>
                <a:off x="3276720" y="3357720"/>
                <a:ext cx="8636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8"/>
              <p:cNvSpPr txBox="1"/>
              <p:nvPr/>
            </p:nvSpPr>
            <p:spPr>
              <a:xfrm>
                <a:off x="5148360" y="3357720"/>
                <a:ext cx="1693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,5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371628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ПЕРЕМЕННАЯ: </a:t>
            </a:r>
            <a:br>
              <a:rPr sz="4400"/>
            </a:b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ИМЯ, ТИП, ЗНАЧЕНИЕ</a:t>
            </a: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655640" y="263700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ры правильных имён переменных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3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VGAV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ры НЕправильных имён переменных:  Г56, ВАНЯ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 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V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908000" y="765000"/>
            <a:ext cx="691200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МЕН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рограммировании – определяет область памяти, где храниться её значение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алгоритме эта область памяти представлена символически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мен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я переменной (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может состоять из латинских букв и цифр, но обязательно начинается с бук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имени переменной НЕЛЬЗЯ использовать : знаки препинания (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, 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? и др.), знаки арифм. действий и сравнения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*/+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. ), пробелы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жебные слова языка Паска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08000" y="3164040"/>
            <a:ext cx="70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6633"/>
                </a:solidFill>
                <a:latin typeface="Times New Roman"/>
              </a:rPr>
              <a:t>Задание :</a:t>
            </a:r>
            <a:r>
              <a:rPr b="0" i="1" lang="ru-RU" sz="1600" spc="-1" strike="noStrike">
                <a:solidFill>
                  <a:srgbClr val="666633"/>
                </a:solidFill>
                <a:latin typeface="Times New Roman"/>
              </a:rPr>
              <a:t> Объясните ошибки в примерах неправильных имён переме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1763640" y="6021360"/>
            <a:ext cx="65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ением переменно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вляе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станта соответствующего тип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300"/>
                            </p:stCondLst>
                            <p:childTnLst>
                              <p:par>
                                <p:cTn id="1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4300"/>
                            </p:stCondLst>
                            <p:childTnLst>
                              <p:par>
                                <p:cTn id="1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185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705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435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684360" y="189000"/>
            <a:ext cx="806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бы переменная получила конкретное значение используют  команд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вода данных с клавиатур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ли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ln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сво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484360" y="765000"/>
            <a:ext cx="44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переменной : =  вы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11280" y="1197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68360" y="2924280"/>
            <a:ext cx="867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Исполнение команды присваивания происходит в таком порядке:  сначала вычисляется выражение, </a:t>
            </a:r>
            <a:br>
              <a:rPr sz="1100"/>
            </a:b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затем полученное значение  присваивается переменно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14400" y="1484280"/>
          <a:ext cx="7978680" cy="1554120"/>
        </p:xfrm>
        <a:graphic>
          <a:graphicData uri="http://schemas.openxmlformats.org/drawingml/2006/table">
            <a:tbl>
              <a:tblPr/>
              <a:tblGrid>
                <a:gridCol w="2033640"/>
                <a:gridCol w="594504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d  M, K,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dln M, K,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: = 5.8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: =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: = (В + 0.2) /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</a:t>
                      </a:r>
                      <a:r>
                        <a:rPr b="0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сти с клавиатуры значения переменных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, K, D}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</a:t>
                      </a:r>
                      <a:r>
                        <a:rPr b="0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ой А присвоить значение  5.8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</a:t>
                      </a:r>
                      <a:r>
                        <a:rPr b="0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ой В присвоить значение   выражения  А – 1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39"/>
          <p:cNvSpPr/>
          <p:nvPr/>
        </p:nvSpPr>
        <p:spPr>
          <a:xfrm>
            <a:off x="3132000" y="1197000"/>
            <a:ext cx="43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еревод команд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бяза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записать в тетрад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"/>
          <p:cNvSpPr/>
          <p:nvPr/>
        </p:nvSpPr>
        <p:spPr>
          <a:xfrm>
            <a:off x="900000" y="430848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NALIZ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 A,B :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= 5.8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= A –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= (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0.2 ) /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3"/>
          <p:cNvSpPr/>
          <p:nvPr/>
        </p:nvSpPr>
        <p:spPr>
          <a:xfrm>
            <a:off x="2411280" y="5964120"/>
            <a:ext cx="43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ывести на экран значения переменных В и А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300720" y="4451400"/>
          <a:ext cx="2368440" cy="1901880"/>
        </p:xfrm>
        <a:graphic>
          <a:graphicData uri="http://schemas.openxmlformats.org/drawingml/2006/table">
            <a:tbl>
              <a:tblPr/>
              <a:tblGrid>
                <a:gridCol w="1525680"/>
                <a:gridCol w="422280"/>
                <a:gridCol w="420480"/>
              </a:tblGrid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: = 5.8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: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: = ( В + 0.2 )/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rite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8" name="Group 168"/>
          <p:cNvGrpSpPr/>
          <p:nvPr/>
        </p:nvGrpSpPr>
        <p:grpSpPr>
          <a:xfrm>
            <a:off x="4556160" y="4743360"/>
            <a:ext cx="914400" cy="800280"/>
            <a:chOff x="4556160" y="4743360"/>
            <a:chExt cx="914400" cy="800280"/>
          </a:xfrm>
        </p:grpSpPr>
        <p:sp>
          <p:nvSpPr>
            <p:cNvPr id="119" name="AutoShape 160"/>
            <p:cNvSpPr/>
            <p:nvPr/>
          </p:nvSpPr>
          <p:spPr>
            <a:xfrm>
              <a:off x="4670280" y="4857840"/>
              <a:ext cx="68580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61"/>
            <p:cNvSpPr/>
            <p:nvPr/>
          </p:nvSpPr>
          <p:spPr>
            <a:xfrm>
              <a:off x="4716360" y="488484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.8  5.8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2"/>
            <p:cNvSpPr/>
            <p:nvPr/>
          </p:nvSpPr>
          <p:spPr>
            <a:xfrm>
              <a:off x="4556160" y="4743360"/>
              <a:ext cx="91440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63"/>
            <p:cNvSpPr/>
            <p:nvPr/>
          </p:nvSpPr>
          <p:spPr>
            <a:xfrm>
              <a:off x="4643280" y="4884840"/>
              <a:ext cx="720720" cy="503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165"/>
          <p:cNvSpPr/>
          <p:nvPr/>
        </p:nvSpPr>
        <p:spPr>
          <a:xfrm>
            <a:off x="6300720" y="416412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ассировочная табл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9"/>
          <p:cNvSpPr/>
          <p:nvPr/>
        </p:nvSpPr>
        <p:spPr>
          <a:xfrm>
            <a:off x="4643280" y="495612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2.5  5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611280" y="3213000"/>
            <a:ext cx="828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6633"/>
                </a:solidFill>
                <a:latin typeface="Times New Roman"/>
              </a:rPr>
              <a:t>Задача:</a:t>
            </a:r>
            <a:r>
              <a:rPr b="0" i="1" lang="ru-RU" sz="1600" spc="-1" strike="noStrike">
                <a:solidFill>
                  <a:srgbClr val="666633"/>
                </a:solidFill>
                <a:latin typeface="Times New Roman"/>
              </a:rPr>
              <a:t> </a:t>
            </a:r>
            <a:br>
              <a:rPr sz="1600"/>
            </a:br>
            <a:r>
              <a:rPr b="0" i="1" lang="ru-RU" sz="1600" spc="-1" strike="noStrike">
                <a:solidFill>
                  <a:srgbClr val="666633"/>
                </a:solidFill>
                <a:latin typeface="Times New Roman"/>
              </a:rPr>
              <a:t>Проанализируйте алгоритм и определите, чему будут равны значения переменных А и В после его выполнения и что будет выведено на экран?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нализ представьте в виде трассировочной таблицы, а результаты – на рисованном эк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400"/>
                            </p:stCondLst>
                            <p:childTnLst>
                              <p:par>
                                <p:cTn id="1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400"/>
                            </p:stCondLst>
                            <p:childTnLst>
                              <p:par>
                                <p:cTn id="1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4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40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50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9200"/>
                            </p:stCondLst>
                            <p:childTnLst>
                              <p:par>
                                <p:cTn id="1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920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100"/>
                            </p:stCondLst>
                            <p:childTnLst>
                              <p:par>
                                <p:cTn id="2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81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1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0033"/>
                </a:solidFill>
                <a:latin typeface="Times New Roman"/>
              </a:rPr>
              <a:t>Самостоятельно:</a:t>
            </a: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330033"/>
                </a:solidFill>
                <a:latin typeface="Times New Roman"/>
              </a:rPr>
              <a:t>Переведите на естественный язык текст  алгоритма, записанного на языке Паскаль, и предскажите, чему будут равны значения переменных после его выполнения и что будет выведено на экран. Свой анализ представьте в виде трассировочной таблицы, а результаты - на экране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Text Box 46"/>
          <p:cNvSpPr/>
          <p:nvPr/>
        </p:nvSpPr>
        <p:spPr>
          <a:xfrm>
            <a:off x="1187280" y="1628640"/>
            <a:ext cx="23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NALIZ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 a,b 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: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: = a –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: = b –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(a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7"/>
          <p:cNvSpPr/>
          <p:nvPr/>
        </p:nvSpPr>
        <p:spPr>
          <a:xfrm>
            <a:off x="6156360" y="1628640"/>
            <a:ext cx="266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NALIZ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 x,y 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= 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=Х*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:=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X/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ln (x,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8"/>
          <p:cNvSpPr/>
          <p:nvPr/>
        </p:nvSpPr>
        <p:spPr>
          <a:xfrm>
            <a:off x="61128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5651640" y="17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85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1:48:49Z</dcterms:created>
  <dc:creator>Юрий</dc:creator>
  <dc:description/>
  <dc:language>en-US</dc:language>
  <cp:lastModifiedBy>Юрий</cp:lastModifiedBy>
  <dcterms:modified xsi:type="dcterms:W3CDTF">2013-04-15T05:29:31Z</dcterms:modified>
  <cp:revision>48</cp:revision>
  <dc:subject/>
  <dc:title>ПЕРЕМЕННАЯ:  ИМЯ, ТИП, ЗНАЧЕНИЕ </dc:title>
</cp:coreProperties>
</file>