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BB35-F920-4D4F-839E-2F04744A3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9266-6F09-4AA2-8B2D-AC8DA4A5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B5E8-C0FA-434A-8275-3CF1BED7F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BFEF-9215-4B27-A1A1-CD9C2A9DA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950D-4695-456C-BA22-EB5685342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2CBB-4767-4DDD-82B2-B8F77DCD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09E6-8C47-43EC-B0EB-6E228164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6A54-B07C-424F-9A0B-7A8BB250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7D0D-A6AE-47FF-9BDF-A267353D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E5D8-602F-4889-BA4C-963D4795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1FB2-6301-4F74-BE3D-0BB44415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3A03-C211-4C49-A38A-A1A5BCDC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8A88-0BC5-4252-98BB-5CC10F6F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E1A6-4B25-4098-9CDE-E256528E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75DE-6ADF-4760-BAA1-AF3A793A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EECB-8137-40AF-B29A-0B61E383B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09FF-EC1F-4CCB-B68D-BEE73BF9F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0233-0D77-4FFA-8BA8-A5F3F675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0DF2-7AF7-4A91-8F2D-26BAEBA3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204B-D70E-4FB6-8F16-FA57FE37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5EA7-3064-4A51-BB69-24482B9A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CED1-BB61-4731-B249-5F203A77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192C-3EB2-4103-B4CD-B8E7D466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730C-249D-42B3-B056-F7D64B8C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8784-A9F6-4B7F-994F-8ED4A28FBA1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90A8-A12D-44BC-B909-38FF1EB43B1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ния на повторени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0560" y="1600200"/>
            <a:ext cx="8893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ие типы величин, может обрабатывать компьюте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такое константы и чем они отличаются от переменных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означает запись -2.6Е7, 5.87Е-15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ишите на языке Паскаль следующие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                           с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ишите выражения в обычной математической фор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/sqrt(sqr(a)+b)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d*c/2/r+a*3       c) abs(x-y)*(sqr(z)+1)*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значения выражен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.    2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6                г).  2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6                ж).   4 * 7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6 /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).    3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4              д).   2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5                   з).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(3/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).    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5                е).   2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5 div 3       и).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n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12/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TN_AMDOUBT"/>
          <p:cNvPicPr/>
          <p:nvPr/>
        </p:nvPicPr>
        <p:blipFill>
          <a:blip r:embed="rId1"/>
          <a:stretch/>
        </p:blipFill>
        <p:spPr>
          <a:xfrm>
            <a:off x="8317080" y="5157720"/>
            <a:ext cx="620640" cy="14893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"/>
          <p:cNvSpPr/>
          <p:nvPr/>
        </p:nvSpPr>
        <p:spPr>
          <a:xfrm>
            <a:off x="1547640" y="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ма: п.33 прочитать, вып. №1-7на карточ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6"/>
              <p:cNvSpPr txBox="1"/>
              <p:nvPr/>
            </p:nvSpPr>
            <p:spPr>
              <a:xfrm>
                <a:off x="1187280" y="3357720"/>
                <a:ext cx="10083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7"/>
              <p:cNvSpPr txBox="1"/>
              <p:nvPr/>
            </p:nvSpPr>
            <p:spPr>
              <a:xfrm>
                <a:off x="3276720" y="3357720"/>
                <a:ext cx="86364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rad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8"/>
              <p:cNvSpPr txBox="1"/>
              <p:nvPr/>
            </p:nvSpPr>
            <p:spPr>
              <a:xfrm>
                <a:off x="5148360" y="3357720"/>
                <a:ext cx="16938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,5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000" y="371628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ПЕРЕМЕННАЯ: </a:t>
            </a:r>
            <a:br>
              <a:rPr sz="4400"/>
            </a:b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ИМЯ, ТИП, ЗНАЧЕНИЕ</a:t>
            </a: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655640" y="2637000"/>
            <a:ext cx="748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меры правильных имён переменных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3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VGAV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меры НЕправильных имён переменных:  Г56, ВАНЯ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 2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V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1908000" y="765000"/>
            <a:ext cx="691200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ЕМЕННА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рограммировании – определяет область памяти, где храниться её значение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алгоритме эта область памяти представлена символическим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мене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я переменной (ил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ДЕНТИФИКАТОР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 может состоять из латинских букв и цифр, но обязательно начинается с букв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имени переменной НЕЛЬЗЯ использовать : знаки препинания (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 , !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? и др.), знаки арифм. действий и сравнения 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*/+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р. ), пробелы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ужебные слова языка Паскал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908000" y="3164040"/>
            <a:ext cx="70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6633"/>
                </a:solidFill>
                <a:latin typeface="Times New Roman"/>
              </a:rPr>
              <a:t>Задание :</a:t>
            </a:r>
            <a:r>
              <a:rPr b="0" i="1" lang="ru-RU" sz="1600" spc="-1" strike="noStrike">
                <a:solidFill>
                  <a:srgbClr val="666633"/>
                </a:solidFill>
                <a:latin typeface="Times New Roman"/>
              </a:rPr>
              <a:t> Объясните ошибки в примерах неправильных имён перемен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1763640" y="6021360"/>
            <a:ext cx="65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чением переменно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вляется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станта соответствующего тип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300"/>
                            </p:stCondLst>
                            <p:childTnLst>
                              <p:par>
                                <p:cTn id="12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4300"/>
                            </p:stCondLst>
                            <p:childTnLst>
                              <p:par>
                                <p:cTn id="13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8500"/>
                            </p:stCondLst>
                            <p:childTnLst>
                              <p:par>
                                <p:cTn id="13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1850"/>
                            </p:stCondLst>
                            <p:childTnLst>
                              <p:par>
                                <p:cTn id="14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7050"/>
                            </p:stCondLst>
                            <p:childTnLst>
                              <p:par>
                                <p:cTn id="1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4350"/>
                            </p:stCondLst>
                            <p:childTnLst>
                              <p:par>
                                <p:cTn id="1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684360" y="189000"/>
            <a:ext cx="8064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бы переменная получила конкретное значение используют  команд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вода данных с клавиатуры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или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ln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исво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484360" y="765000"/>
            <a:ext cx="44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я переменной : =  вы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11280" y="119700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име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468360" y="2924280"/>
            <a:ext cx="8675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Исполнение команды присваивания происходит в таком порядке:  сначала вычисляется выражение, </a:t>
            </a:r>
            <a:br>
              <a:rPr sz="1100"/>
            </a:b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затем полученное значение  присваивается переменной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14400" y="1484280"/>
          <a:ext cx="7978680" cy="1554120"/>
        </p:xfrm>
        <a:graphic>
          <a:graphicData uri="http://schemas.openxmlformats.org/drawingml/2006/table">
            <a:tbl>
              <a:tblPr/>
              <a:tblGrid>
                <a:gridCol w="2033640"/>
                <a:gridCol w="594504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d  M, K,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dln M, K,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 : = 5.8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: =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: = (В + 0.2) /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</a:t>
                      </a:r>
                      <a:r>
                        <a:rPr b="0" i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сти с клавиатуры значения переменных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, K, D}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</a:t>
                      </a:r>
                      <a:r>
                        <a:rPr b="0" i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менной А присвоить значение  5.8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}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</a:t>
                      </a:r>
                      <a:r>
                        <a:rPr b="0" i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менной В присвоить значение   выражения  А – 1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}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Text Box 39"/>
          <p:cNvSpPr/>
          <p:nvPr/>
        </p:nvSpPr>
        <p:spPr>
          <a:xfrm>
            <a:off x="3132000" y="1197000"/>
            <a:ext cx="432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перевод команд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обяза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записать в тетрад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1"/>
          <p:cNvSpPr/>
          <p:nvPr/>
        </p:nvSpPr>
        <p:spPr>
          <a:xfrm>
            <a:off x="900000" y="4308480"/>
            <a:ext cx="28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ANALIZ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 A,B : Re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: = 5.8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: = A –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: = (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0.2 ) /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3"/>
          <p:cNvSpPr/>
          <p:nvPr/>
        </p:nvSpPr>
        <p:spPr>
          <a:xfrm>
            <a:off x="2411280" y="5964120"/>
            <a:ext cx="439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ывести на экран значения переменных В и А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300720" y="4451400"/>
          <a:ext cx="2368440" cy="1901880"/>
        </p:xfrm>
        <a:graphic>
          <a:graphicData uri="http://schemas.openxmlformats.org/drawingml/2006/table">
            <a:tbl>
              <a:tblPr/>
              <a:tblGrid>
                <a:gridCol w="1525680"/>
                <a:gridCol w="422280"/>
                <a:gridCol w="420480"/>
              </a:tblGrid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орит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 : = 5.8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: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: = ( В + 0.2 )/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rite 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8" name="Group 168"/>
          <p:cNvGrpSpPr/>
          <p:nvPr/>
        </p:nvGrpSpPr>
        <p:grpSpPr>
          <a:xfrm>
            <a:off x="4556160" y="4743360"/>
            <a:ext cx="914400" cy="800280"/>
            <a:chOff x="4556160" y="4743360"/>
            <a:chExt cx="914400" cy="800280"/>
          </a:xfrm>
        </p:grpSpPr>
        <p:sp>
          <p:nvSpPr>
            <p:cNvPr id="119" name="AutoShape 160"/>
            <p:cNvSpPr/>
            <p:nvPr/>
          </p:nvSpPr>
          <p:spPr>
            <a:xfrm>
              <a:off x="4670280" y="4857840"/>
              <a:ext cx="68580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61"/>
            <p:cNvSpPr/>
            <p:nvPr/>
          </p:nvSpPr>
          <p:spPr>
            <a:xfrm>
              <a:off x="4716360" y="488484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2.8  5.8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62"/>
            <p:cNvSpPr/>
            <p:nvPr/>
          </p:nvSpPr>
          <p:spPr>
            <a:xfrm>
              <a:off x="4556160" y="4743360"/>
              <a:ext cx="914400" cy="80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163"/>
            <p:cNvSpPr/>
            <p:nvPr/>
          </p:nvSpPr>
          <p:spPr>
            <a:xfrm>
              <a:off x="4643280" y="4884840"/>
              <a:ext cx="720720" cy="5032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 Box 165"/>
          <p:cNvSpPr/>
          <p:nvPr/>
        </p:nvSpPr>
        <p:spPr>
          <a:xfrm>
            <a:off x="6300720" y="416412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рассировочная таблиц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69"/>
          <p:cNvSpPr/>
          <p:nvPr/>
        </p:nvSpPr>
        <p:spPr>
          <a:xfrm>
            <a:off x="4643280" y="495612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2.5  5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2"/>
          <p:cNvSpPr/>
          <p:nvPr/>
        </p:nvSpPr>
        <p:spPr>
          <a:xfrm>
            <a:off x="611280" y="3213000"/>
            <a:ext cx="8280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6633"/>
                </a:solidFill>
                <a:latin typeface="Times New Roman"/>
              </a:rPr>
              <a:t>Задача:</a:t>
            </a:r>
            <a:r>
              <a:rPr b="0" i="1" lang="ru-RU" sz="1600" spc="-1" strike="noStrike">
                <a:solidFill>
                  <a:srgbClr val="666633"/>
                </a:solidFill>
                <a:latin typeface="Times New Roman"/>
              </a:rPr>
              <a:t> </a:t>
            </a:r>
            <a:br>
              <a:rPr sz="1600"/>
            </a:br>
            <a:r>
              <a:rPr b="0" i="1" lang="ru-RU" sz="1600" spc="-1" strike="noStrike">
                <a:solidFill>
                  <a:srgbClr val="666633"/>
                </a:solidFill>
                <a:latin typeface="Times New Roman"/>
              </a:rPr>
              <a:t>Проанализируйте алгоритм и определите, чему будут равны значения переменных А и В после его выполнения и что будет выведено на экран?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нализ представьте в виде трассировочной таблицы, а результаты – на рисованном экра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1400"/>
                            </p:stCondLst>
                            <p:childTnLst>
                              <p:par>
                                <p:cTn id="1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3400"/>
                            </p:stCondLst>
                            <p:childTnLst>
                              <p:par>
                                <p:cTn id="1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4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400"/>
                            </p:stCondLst>
                            <p:childTnLst>
                              <p:par>
                                <p:cTn id="1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500"/>
                            </p:stCondLst>
                            <p:childTnLst>
                              <p:par>
                                <p:cTn id="19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9200"/>
                            </p:stCondLst>
                            <p:childTnLst>
                              <p:par>
                                <p:cTn id="19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9200"/>
                            </p:stCondLst>
                            <p:childTnLst>
                              <p:par>
                                <p:cTn id="201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500"/>
                            </p:stCondLst>
                            <p:childTnLst>
                              <p:par>
                                <p:cTn id="21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100"/>
                            </p:stCondLst>
                            <p:childTnLst>
                              <p:par>
                                <p:cTn id="22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8100"/>
                            </p:stCondLst>
                            <p:childTnLst>
                              <p:par>
                                <p:cTn id="2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100"/>
                            </p:stCondLst>
                            <p:childTnLst>
                              <p:par>
                                <p:cTn id="2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0033"/>
                </a:solidFill>
                <a:latin typeface="Times New Roman"/>
              </a:rPr>
              <a:t>Самостоятельно:</a:t>
            </a:r>
            <a:r>
              <a:rPr b="0" lang="ru-RU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330033"/>
                </a:solidFill>
                <a:latin typeface="Times New Roman"/>
              </a:rPr>
              <a:t>Переведите на естественный язык текст  алгоритма, записанного на языке Паскаль, и предскажите, чему будут равны значения переменных после его выполнения и что будет выведено на экран. Свой анализ представьте в виде трассировочной таблицы, а результаты - на экране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Text Box 46"/>
          <p:cNvSpPr/>
          <p:nvPr/>
        </p:nvSpPr>
        <p:spPr>
          <a:xfrm>
            <a:off x="1187280" y="1628640"/>
            <a:ext cx="230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ANALIZ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 a,b : 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: =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: = a –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: = b – 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(a,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7"/>
          <p:cNvSpPr/>
          <p:nvPr/>
        </p:nvSpPr>
        <p:spPr>
          <a:xfrm>
            <a:off x="6156360" y="1628640"/>
            <a:ext cx="266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ANALIZ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 x,y : 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= 5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=Х*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l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:=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X/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ln (x,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8"/>
          <p:cNvSpPr/>
          <p:nvPr/>
        </p:nvSpPr>
        <p:spPr>
          <a:xfrm>
            <a:off x="61128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9"/>
          <p:cNvSpPr/>
          <p:nvPr/>
        </p:nvSpPr>
        <p:spPr>
          <a:xfrm>
            <a:off x="5651640" y="1700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4500"/>
                            </p:stCondLst>
                            <p:childTnLst>
                              <p:par>
                                <p:cTn id="2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6500"/>
                            </p:stCondLst>
                            <p:childTnLst>
                              <p:par>
                                <p:cTn id="2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8500"/>
                            </p:stCondLst>
                            <p:childTnLst>
                              <p:par>
                                <p:cTn id="2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11:48:49Z</dcterms:created>
  <dc:creator>Юрий</dc:creator>
  <dc:description/>
  <dc:language>en-US</dc:language>
  <cp:lastModifiedBy>Юрий</cp:lastModifiedBy>
  <dcterms:modified xsi:type="dcterms:W3CDTF">2013-04-15T05:29:31Z</dcterms:modified>
  <cp:revision>48</cp:revision>
  <dc:subject/>
  <dc:title>ПЕРЕМЕННАЯ:  ИМЯ, ТИП, ЗНАЧЕНИЕ </dc:title>
</cp:coreProperties>
</file>