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CC1-91DA-4D64-95D7-251C8051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77C-AD3D-400A-8918-D5AD7CC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C2C-842D-4CB2-A239-98C0C043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67E-8C35-45CD-A0C1-6530E995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AE23-284F-4985-8145-5BD6796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353-97EF-4161-962E-E9AD340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DED-EDC3-4516-B8DB-6B225CD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23CF-3974-4FB4-B179-D372E54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148A-6B4F-482D-BAF5-A88608BE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6DAC-57F6-4F2B-A912-2A5401A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F25-4706-4A60-B88A-8849E6E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898-2534-481F-A0A6-13A3F68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A6BB-BF3A-4B79-A766-65C8D8A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D9B-A030-4522-8442-D97291F3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55F9-B1A3-4EA8-8FB3-A1E8FFE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B774-2834-41DE-82A0-91DC4D1B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A2E0-EC00-428C-B53F-F6277CEB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9E2-79F0-43DC-9183-99F481C5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F57-30F8-4138-B9B6-0F00D54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B6C-45B1-4DF0-8B7F-5EAABD7F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E7E-9092-4489-9559-29BF951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5DB-E51A-4ABF-AD50-39D652D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A5F-F2EC-4667-8BCF-4831DF4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C1B-B72C-443A-8729-FD60030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9CD6-07F4-480B-AED9-7D697723B7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541-8C60-4E3F-AE66-591685E572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на 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типы величин, может обрабатывать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константы и чем они отличаются от переменны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запись -2.6Е7, 5.87Е-15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на языке Паскаль следующ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                        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выражения в обычной математичес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sqrt(sqr(a)+b)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d*c/2/r+a*3       c) abs(x-y)*(sqr(z)+1)*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значения выраж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.  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г).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ж).   4 *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/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.    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4              д).   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   з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(3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.   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е).   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div 3       и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N_AMDOUBT"/>
          <p:cNvPicPr/>
          <p:nvPr/>
        </p:nvPicPr>
        <p:blipFill>
          <a:blip r:embed="rId1"/>
          <a:stretch/>
        </p:blipFill>
        <p:spPr>
          <a:xfrm>
            <a:off x="8317080" y="5157720"/>
            <a:ext cx="620640" cy="1489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547640" y="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: п.33 прочитать, вып. №1-7на кар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187280" y="335772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3276720" y="3357720"/>
                <a:ext cx="863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5148360" y="3357720"/>
                <a:ext cx="1693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37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ЕРЕМЕННАЯ: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МЯ, ТИП, ЗНАЧЕНИЕ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55640" y="263700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правильных имён переменных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3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VGA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НЕправильных имён переменных:  Г56, ВАН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 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765000"/>
            <a:ext cx="6912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граммировании – определяет область памяти, где храниться её знач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алгоритме эта область памяти представлена символически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н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еременной (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может состоять из латинских букв и цифр, но обязательно начинается с бук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мени переменной НЕЛЬЗЯ использовать : знаки препинания (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, 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? и др.), знаки арифм. действий и сравнения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*/+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), пробел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ебные слова языка Паска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8000" y="316404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ние 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Объясните ошибки в примерах неправильных имён перем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763640" y="602136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ем перемен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анта соответствующего ти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85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05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435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84360" y="18900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переменная получила конкретное значение используют  коман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вода данных с клавиату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ли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св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84360" y="7650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переменной : = 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2924280"/>
            <a:ext cx="86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Исполнение команды присваивания происходит в таком порядке:  сначала вычисляется выражение, </a:t>
            </a:r>
            <a:br>
              <a:rPr sz="1100"/>
            </a:b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затем полученное значение  присваивается переменн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1484280"/>
          <a:ext cx="7978680" cy="1554120"/>
        </p:xfrm>
        <a:graphic>
          <a:graphicData uri="http://schemas.openxmlformats.org/drawingml/2006/table">
            <a:tbl>
              <a:tblPr/>
              <a:tblGrid>
                <a:gridCol w="2033640"/>
                <a:gridCol w="59450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 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ln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: = 5.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(В + 0.2) /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с клавиатуры значения переменных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, K, D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А присвоить значение  5.8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В присвоить значение   выражения  А – 1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9"/>
          <p:cNvSpPr/>
          <p:nvPr/>
        </p:nvSpPr>
        <p:spPr>
          <a:xfrm>
            <a:off x="3132000" y="119700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еревод команд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писать в тетра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900000" y="430848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5.8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A –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0.2 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2411280" y="59641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ывести на экран значения переменных В и 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00720" y="4451400"/>
          <a:ext cx="2368440" cy="1901880"/>
        </p:xfrm>
        <a:graphic>
          <a:graphicData uri="http://schemas.openxmlformats.org/drawingml/2006/table">
            <a:tbl>
              <a:tblPr/>
              <a:tblGrid>
                <a:gridCol w="1525680"/>
                <a:gridCol w="422280"/>
                <a:gridCol w="420480"/>
              </a:tblGrid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: = 5.8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( В + 0.2 )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Group 168"/>
          <p:cNvGrpSpPr/>
          <p:nvPr/>
        </p:nvGrpSpPr>
        <p:grpSpPr>
          <a:xfrm>
            <a:off x="4556160" y="4743360"/>
            <a:ext cx="914400" cy="800280"/>
            <a:chOff x="4556160" y="4743360"/>
            <a:chExt cx="914400" cy="800280"/>
          </a:xfrm>
        </p:grpSpPr>
        <p:sp>
          <p:nvSpPr>
            <p:cNvPr id="119" name="AutoShape 160"/>
            <p:cNvSpPr/>
            <p:nvPr/>
          </p:nvSpPr>
          <p:spPr>
            <a:xfrm>
              <a:off x="4670280" y="4857840"/>
              <a:ext cx="685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1"/>
            <p:cNvSpPr/>
            <p:nvPr/>
          </p:nvSpPr>
          <p:spPr>
            <a:xfrm>
              <a:off x="4716360" y="488484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.8  5.8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2"/>
            <p:cNvSpPr/>
            <p:nvPr/>
          </p:nvSpPr>
          <p:spPr>
            <a:xfrm>
              <a:off x="4556160" y="4743360"/>
              <a:ext cx="9144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63"/>
            <p:cNvSpPr/>
            <p:nvPr/>
          </p:nvSpPr>
          <p:spPr>
            <a:xfrm>
              <a:off x="4643280" y="4884840"/>
              <a:ext cx="720720" cy="503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5"/>
          <p:cNvSpPr/>
          <p:nvPr/>
        </p:nvSpPr>
        <p:spPr>
          <a:xfrm>
            <a:off x="6300720" y="416412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ссировочная табл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9"/>
          <p:cNvSpPr/>
          <p:nvPr/>
        </p:nvSpPr>
        <p:spPr>
          <a:xfrm>
            <a:off x="4643280" y="495612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5  5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611280" y="3213000"/>
            <a:ext cx="828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ча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Проанализируйте алгоритм и определите, чему будут равны значения переменных А и В после его выполнения и что будет выведено на экран?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ализ представьте в виде трассировочной таблицы, а результаты – на рисованном эк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4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92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2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1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1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Самостоятельно: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330033"/>
                </a:solidFill>
                <a:latin typeface="Times New Roman"/>
              </a:rPr>
              <a:t>Переведите на естественный язык текст  алгоритма, записанного на языке Паскаль, и предскажите, чему будут равны значения переменных после его выполнения и что будет выведено на экран. Свой анализ представьте в виде трассировочной таблицы, а результаты - на экране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1187280" y="1628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: = a –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b –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a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6156360" y="1628640"/>
            <a:ext cx="26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x,y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 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Х*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=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X/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61128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565164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48:49Z</dcterms:created>
  <dc:creator>Юрий</dc:creator>
  <dc:description/>
  <dc:language>en-US</dc:language>
  <cp:lastModifiedBy>Юрий</cp:lastModifiedBy>
  <dcterms:modified xsi:type="dcterms:W3CDTF">2013-04-15T05:29:31Z</dcterms:modified>
  <cp:revision>48</cp:revision>
  <dc:subject/>
  <dc:title>ПЕРЕМЕННАЯ:  ИМЯ, ТИП, ЗНАЧЕНИЕ </dc:title>
</cp:coreProperties>
</file>