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9E05-692C-4B11-B2B4-81357942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E6B-4C86-47A7-BF55-1A3C68D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CBC-AE25-426D-A2B1-25967AD2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374-8CD8-4D8D-AED8-5488F630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70C-19F7-498E-9334-E1A2F6E5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A8F-B012-40DE-8A52-94D3E6B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9DA-0BDC-410C-BB00-6605B56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EC8-3DC7-40FE-8719-AACBFC5D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DA8-453B-44E9-801D-D7B6E604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A37-9DE9-4095-A561-8F23CF7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0C0-7EC8-4CAF-8DFB-A71206B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A90-6B1A-4AB1-AE38-6DCA450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4C6C-6F35-492E-9F59-29B215884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User</cp:lastModifiedBy>
  <dcterms:modified xsi:type="dcterms:W3CDTF">2013-04-23T06:44:52Z</dcterms:modified>
  <cp:revision>80</cp:revision>
  <dc:subject/>
  <dc:title>Слайд 1</dc:title>
</cp:coreProperties>
</file>