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5E0-7B8E-41A5-81C8-55612BE7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8CF-8385-4A7C-81D2-97389DA3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AE7-B189-4489-BDAD-5541D0EE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C6C-E1AF-41D5-A11A-1E1E5D59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80E-6207-417B-BEDF-BD96B429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D7C-B95A-4D3F-83FF-D6E1A427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C26-6776-4EF4-87FD-189FF0F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DB4-F9C3-4707-A4EB-47BCD8F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054-63C4-4ADE-B8B2-C9D2EEBD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F54-4398-417E-982E-82ACF85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3FD-8543-41E3-9AB7-A7287D2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A43-98E1-409D-8D2A-CC9A23B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5E03-BCA5-4EB3-9538-F116ADEBD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User</cp:lastModifiedBy>
  <dcterms:modified xsi:type="dcterms:W3CDTF">2013-04-23T06:44:52Z</dcterms:modified>
  <cp:revision>80</cp:revision>
  <dc:subject/>
  <dc:title>Слайд 1</dc:title>
</cp:coreProperties>
</file>