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8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0.png" ContentType="image/png"/>
  <Override PartName="/ppt/media/image2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6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22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847-EDB3-4EC1-A204-A2F94952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9F7-353A-45BC-8207-9698914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1E0-887A-4D5C-B144-9F5F9D41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817-DB7E-454F-B4EF-F72162A6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A047-D03F-410A-8510-E9DB99A2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3CD-0186-4BA7-9167-71C3EC0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D7C2-604E-49DE-9996-2E3C4BB6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CBBF-A0A3-4932-916D-74A6098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412A-7135-4E25-99CD-A43DC34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B786-3A69-4FD0-8D79-D125A5F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C493-E329-4CED-BE26-51D8D5A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CB1-11D5-43E6-BBDE-BC54069F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C5A-EA3C-40BC-B44C-B2ADB3C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4160-09B1-4CDF-9CD3-D5D4EAF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5D4-2F7D-4A39-A968-913AB54B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C0E-5ECE-4B3D-802A-B1702C00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EDB-7072-4304-B75D-8EDCBED7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535-5583-4B9B-8AFF-35B0DF2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223-FB2D-46FA-A4F7-F45573C1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025-8A26-47EE-A8DB-A8FD3A9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D19-DF6C-4F78-8383-3DA7560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881-0404-4D54-93FF-F221756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E21-128A-4EEC-9027-425093A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A4F-9523-4498-9760-6ABE073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210-A70E-4739-A85B-C186E7A1A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7F7-10B4-413E-AA55-770E77754C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WHAT TO DO ABOUT FL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114640" cy="3806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2727360" cy="34783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8" descr="cold.jpg"/>
          <p:cNvPicPr/>
          <p:nvPr/>
        </p:nvPicPr>
        <p:blipFill>
          <a:blip r:embed="rId4"/>
          <a:stretch/>
        </p:blipFill>
        <p:spPr>
          <a:xfrm>
            <a:off x="2987640" y="3573360"/>
            <a:ext cx="31100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3 0.075 -0.08261 0.125 -0.08261 C 0.175 -0.08261 0.22 -0.05063 0.25 0 C 0.22 0.05063 0.175 0.08261 0.125 0.08261 C 0.075 0.08261 0.03 0.0506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ere’s what you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uld do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oors, keep warm and keep away from other people as much as possible so you don’t pass on the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feel shivery or feverish, with a temperature over 38`C or aches or pains, try taking soluble aspirin every 4 hours during the day. And rest in bed if you c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enty of cool drinks-water, fruit drinks, milky drinks. About 2-3 litres a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 3 light meals a day. But don’t force yourself to eat if you’ve lost your appeti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295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How to protect  from colds and flu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1285920" cy="1463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Wash your hands!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Disin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Get flu vacc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ontain coughs and sneezes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void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Build a healthy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9640" y="1773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9228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24000" y="278136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50920" y="4221000"/>
            <a:ext cx="3200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UE OR FAL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On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sympton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 of flu is an aching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Antibiotias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 can help you to get better from f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If you have flu, it’s essential to eat three times a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 is not a serious illness for an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 is infectious-other people can catch at from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UE OR FAL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have badly, you should lie in a darkened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vaccination gives several years’ protection against fl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st time of year for flu is the autum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 up very thoroughly if someone in your family has f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ffff"/>
                </a:solidFill>
                <a:latin typeface="Tahoma"/>
              </a:rPr>
              <a:t>TRUE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y can’t kill viru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You shouldn’t force yourself to eat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t can become serious for eldery or sick people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f this was advisable-but if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helps, why no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only gives one year’s protecti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nwmiredcross.org/images/IconsEtc/RedCross.bmp"/>
          <p:cNvPicPr/>
          <p:nvPr/>
        </p:nvPicPr>
        <p:blipFill>
          <a:blip r:embed="rId2"/>
          <a:stretch/>
        </p:blipFill>
        <p:spPr>
          <a:xfrm>
            <a:off x="990720" y="914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5" descr=""/>
          <p:cNvPicPr/>
          <p:nvPr/>
        </p:nvPicPr>
        <p:blipFill>
          <a:blip r:embed="rId3"/>
          <a:stretch/>
        </p:blipFill>
        <p:spPr>
          <a:xfrm>
            <a:off x="-115920" y="4743360"/>
            <a:ext cx="9034560" cy="19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JANET\AppData\Local\Microsoft\Windows\Temporary Internet Files\Content.IE5\YOJV5XMD\MC900347445[1].wmf"/>
          <p:cNvPicPr/>
          <p:nvPr/>
        </p:nvPicPr>
        <p:blipFill>
          <a:blip r:embed="rId4"/>
          <a:stretch/>
        </p:blipFill>
        <p:spPr>
          <a:xfrm>
            <a:off x="5562720" y="228600"/>
            <a:ext cx="3070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n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Tru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rty plates and cutlery can spread infe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5" descr=""/>
          <p:cNvPicPr/>
          <p:nvPr/>
        </p:nvPicPr>
        <p:blipFill>
          <a:blip r:embed="rId2"/>
          <a:stretch/>
        </p:blipFill>
        <p:spPr>
          <a:xfrm>
            <a:off x="1962000" y="4743360"/>
            <a:ext cx="4876920" cy="193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JANET\AppData\Local\Microsoft\Windows\Temporary Internet Files\Content.IE5\S3I3SQZL\MC900088940[1].wmf"/>
          <p:cNvPicPr/>
          <p:nvPr/>
        </p:nvPicPr>
        <p:blipFill>
          <a:blip r:embed="rId3"/>
          <a:stretch/>
        </p:blipFill>
        <p:spPr>
          <a:xfrm>
            <a:off x="2819520" y="0"/>
            <a:ext cx="4190760" cy="52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2"/>
          <a:stretch/>
        </p:blipFill>
        <p:spPr>
          <a:xfrm>
            <a:off x="-512640" y="4743360"/>
            <a:ext cx="9839160" cy="193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JANET\AppData\Local\Microsoft\Windows\Temporary Internet Files\Content.IE5\YOJV5XMD\MC900359007[1].wmf"/>
          <p:cNvPicPr/>
          <p:nvPr/>
        </p:nvPicPr>
        <p:blipFill>
          <a:blip r:embed="rId3"/>
          <a:stretch/>
        </p:blipFill>
        <p:spPr>
          <a:xfrm>
            <a:off x="838080" y="152280"/>
            <a:ext cx="7015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5" descr=""/>
          <p:cNvPicPr/>
          <p:nvPr/>
        </p:nvPicPr>
        <p:blipFill>
          <a:blip r:embed="rId2"/>
          <a:stretch/>
        </p:blipFill>
        <p:spPr>
          <a:xfrm>
            <a:off x="1768320" y="4743360"/>
            <a:ext cx="5265720" cy="193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JANET\AppData\Local\Microsoft\Windows\Temporary Internet Files\Content.IE5\S3I3SQZL\MC900424454[1].wmf"/>
          <p:cNvPicPr/>
          <p:nvPr/>
        </p:nvPicPr>
        <p:blipFill>
          <a:blip r:embed="rId3"/>
          <a:stretch/>
        </p:blipFill>
        <p:spPr>
          <a:xfrm>
            <a:off x="1981080" y="228600"/>
            <a:ext cx="518184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5" descr=""/>
          <p:cNvPicPr/>
          <p:nvPr/>
        </p:nvPicPr>
        <p:blipFill>
          <a:blip r:embed="rId2"/>
          <a:stretch/>
        </p:blipFill>
        <p:spPr>
          <a:xfrm>
            <a:off x="933480" y="4743360"/>
            <a:ext cx="6948360" cy="193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JANET\AppData\Local\Microsoft\Windows\Temporary Internet Files\Content.IE5\YOJV5XMD\MC900411504[1].wmf"/>
          <p:cNvPicPr/>
          <p:nvPr/>
        </p:nvPicPr>
        <p:blipFill>
          <a:blip r:embed="rId3"/>
          <a:stretch/>
        </p:blipFill>
        <p:spPr>
          <a:xfrm>
            <a:off x="2362320" y="0"/>
            <a:ext cx="4181400" cy="51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5" descr=""/>
          <p:cNvPicPr/>
          <p:nvPr/>
        </p:nvPicPr>
        <p:blipFill>
          <a:blip r:embed="rId2"/>
          <a:stretch/>
        </p:blipFill>
        <p:spPr>
          <a:xfrm>
            <a:off x="633240" y="4743360"/>
            <a:ext cx="7547040" cy="193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JANET\AppData\Local\Microsoft\Windows\Temporary Internet Files\Content.IE5\E96H3I5V\MC900215439[1].wmf"/>
          <p:cNvPicPr/>
          <p:nvPr/>
        </p:nvPicPr>
        <p:blipFill>
          <a:blip r:embed="rId3"/>
          <a:stretch/>
        </p:blipFill>
        <p:spPr>
          <a:xfrm>
            <a:off x="762120" y="380880"/>
            <a:ext cx="4170240" cy="4846680"/>
          </a:xfrm>
          <a:prstGeom prst="rect">
            <a:avLst/>
          </a:prstGeom>
          <a:ln w="0">
            <a:noFill/>
          </a:ln>
        </p:spPr>
      </p:pic>
      <p:pic>
        <p:nvPicPr>
          <p:cNvPr id="98" name="Image 4" descr="cough.gif"/>
          <p:cNvPicPr/>
          <p:nvPr/>
        </p:nvPicPr>
        <p:blipFill>
          <a:blip r:embed="rId4"/>
          <a:stretch/>
        </p:blipFill>
        <p:spPr>
          <a:xfrm>
            <a:off x="5327640" y="1212840"/>
            <a:ext cx="3249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Flu symptoms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213000"/>
            <a:ext cx="2089080" cy="936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Headach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229360"/>
            <a:ext cx="1942920" cy="1079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ore throa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700280"/>
            <a:ext cx="1368360" cy="100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877000"/>
            <a:ext cx="1871640" cy="647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onges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877000"/>
            <a:ext cx="1440000" cy="720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oug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4221000"/>
            <a:ext cx="1440000" cy="6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21000"/>
            <a:ext cx="1655640" cy="863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Tirednes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1197000"/>
            <a:ext cx="1800360" cy="647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Weak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1197000"/>
            <a:ext cx="1800000" cy="792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Body ach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95280" y="5157720"/>
            <a:ext cx="108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27280" y="3789360"/>
            <a:ext cx="649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00000" y="2349000"/>
            <a:ext cx="64764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59280" y="1988640"/>
            <a:ext cx="73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55640" y="5445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537372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4365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16720" y="2924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56360" y="1773000"/>
            <a:ext cx="720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32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What is the flu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The flu (influenza) is a highly contagious virus that affects the respiratory system. It is most common in winter and should not be confused with the common cold.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viruses can’t  killed with antibiotics. Only body’s own defence system can get rid of the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1162080" cy="100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924680" y="5553000"/>
            <a:ext cx="1219320" cy="130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12384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4:29:21Z</dcterms:created>
  <dc:creator>Igor</dc:creator>
  <dc:description/>
  <dc:language>en-US</dc:language>
  <cp:lastModifiedBy>Igor</cp:lastModifiedBy>
  <dcterms:modified xsi:type="dcterms:W3CDTF">2013-04-24T09:48:55Z</dcterms:modified>
  <cp:revision>9</cp:revision>
  <dc:subject/>
  <dc:title>WHAT TO DO ABOUT FLU</dc:title>
</cp:coreProperties>
</file>