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8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3.jpeg" ContentType="image/jpeg"/>
  <Override PartName="/ppt/media/image10.png" ContentType="image/png"/>
  <Override PartName="/ppt/media/image2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26.wmf" ContentType="image/x-wmf"/>
  <Override PartName="/ppt/media/image25.jpeg" ContentType="image/jpeg"/>
  <Override PartName="/ppt/media/image24.jpeg" ContentType="image/jpeg"/>
  <Override PartName="/ppt/media/image21.jpeg" ContentType="image/jpeg"/>
  <Override PartName="/ppt/media/image22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C0C3-18B9-4F41-B88E-1FED0579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652-F1F3-41F3-A67F-A9325685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927-8532-47F5-B3F0-3235D07D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1B8-82CC-4E2B-A45B-893501FC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13F1-1019-4AD1-B4D3-B22A16FF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D769-4D5F-49EC-9E0D-73F1DF13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0172-5054-43C5-8DE0-08D6B4A4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8F9E-8525-483D-A374-74A98DE2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8CEE-E850-4355-B1E5-E2C72332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8E8-3310-4C02-8F15-A6541F58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3EEB-85C3-4868-83D4-B13830D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0C2-BC18-4F68-896D-19A4D5B8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2997-62BA-4F5D-8B7C-38C3D68D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A646-AEAC-45DA-9BE6-224D03BE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3E7-6C88-49EF-996F-93809908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81D0-B95B-48C9-9170-16737457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8460-C52C-4BE1-924B-DFDD7A9B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6DA-52DF-41D2-8353-AEB0587F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5D7-6988-4950-A37F-B0AC99BF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D6D-D7BF-4C7D-A590-77C3000A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1C7-2852-4B18-8D95-9DEA0F8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34E-8BCD-4D10-B641-9D27D01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ECB-60D7-4AE5-B9A5-4A06589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F44-9DC4-42A8-9F95-C8FDFAB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6A88-8243-47D9-B736-3B9AE0707F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4AA4-D10D-435F-BB72-36DA7496B0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WHAT TO DO ABOUT FL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114640" cy="3806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8000" y="1341360"/>
            <a:ext cx="2727360" cy="3478320"/>
          </a:xfrm>
          <a:prstGeom prst="rect">
            <a:avLst/>
          </a:prstGeom>
          <a:ln w="0">
            <a:noFill/>
          </a:ln>
        </p:spPr>
      </p:pic>
      <p:pic>
        <p:nvPicPr>
          <p:cNvPr id="84" name="Imagem 8" descr="cold.jpg"/>
          <p:cNvPicPr/>
          <p:nvPr/>
        </p:nvPicPr>
        <p:blipFill>
          <a:blip r:embed="rId4"/>
          <a:stretch/>
        </p:blipFill>
        <p:spPr>
          <a:xfrm>
            <a:off x="2987640" y="3573360"/>
            <a:ext cx="311004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 -0.05063 0.075 -0.08261 0.125 -0.08261 C 0.175 -0.08261 0.22 -0.05063 0.25 0 C 0.22 0.05063 0.175 0.08261 0.125 0.08261 C 0.075 0.08261 0.03 0.05063 0 0 Z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ere’s what you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ould do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doors, keep warm and keep away from other people as much as possible so you don’t pass on the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feel shivery or feverish, with a temperature over 38`C or aches or pains, try taking soluble aspirin every 4 hours during the day. And rest in bed if you c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enty of cool drinks-water, fruit drinks, milky drinks. About 2-3 litres a d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have 3 light meals a day. But don’t force yourself to eat if you’ve lost your appeti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295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How to protect  from colds and flu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00360" y="836640"/>
            <a:ext cx="1285920" cy="1463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Wash your hands!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Disin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Get flu vaccin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Contain coughs and sneezes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Avoid exp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Build a healthy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39640" y="1773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9228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124000" y="278136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250920" y="4221000"/>
            <a:ext cx="3200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UE OR FAL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One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sympton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 of flu is an aching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Antibiotias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 can help you to get better from fl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If you have flu, it’s essential to eat three times a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 is not a serious illness for any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 is infectious-other people can catch at from yo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UE OR FAL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have badly, you should lie in a darkened 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vaccination gives several years’ protection against fl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st time of year for flu is the autum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 up very thoroughly if someone in your family has fl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5ffff"/>
                </a:solidFill>
                <a:latin typeface="Tahoma"/>
              </a:rPr>
              <a:t>TRUE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They can’t kill virus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You shouldn’t force yourself to eat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It can become serious for eldery or sick people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206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f this was advisable-but if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 helps, why no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 only gives one year’s protection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nwmiredcross.org/images/IconsEtc/RedCross.bmp"/>
          <p:cNvPicPr/>
          <p:nvPr/>
        </p:nvPicPr>
        <p:blipFill>
          <a:blip r:embed="rId2"/>
          <a:stretch/>
        </p:blipFill>
        <p:spPr>
          <a:xfrm>
            <a:off x="990720" y="9144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5" descr=""/>
          <p:cNvPicPr/>
          <p:nvPr/>
        </p:nvPicPr>
        <p:blipFill>
          <a:blip r:embed="rId3"/>
          <a:stretch/>
        </p:blipFill>
        <p:spPr>
          <a:xfrm>
            <a:off x="-115920" y="4743360"/>
            <a:ext cx="9034560" cy="193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JANET\AppData\Local\Microsoft\Windows\Temporary Internet Files\Content.IE5\YOJV5XMD\MC900347445[1].wmf"/>
          <p:cNvPicPr/>
          <p:nvPr/>
        </p:nvPicPr>
        <p:blipFill>
          <a:blip r:embed="rId4"/>
          <a:stretch/>
        </p:blipFill>
        <p:spPr>
          <a:xfrm>
            <a:off x="5562720" y="228600"/>
            <a:ext cx="30700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ls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in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True</a:t>
            </a:r>
            <a:br>
              <a:rPr sz="6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rty plates and cutlery can spread infe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7524720" y="558972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ectangle 5" descr=""/>
          <p:cNvPicPr/>
          <p:nvPr/>
        </p:nvPicPr>
        <p:blipFill>
          <a:blip r:embed="rId2"/>
          <a:stretch/>
        </p:blipFill>
        <p:spPr>
          <a:xfrm>
            <a:off x="1962000" y="4743360"/>
            <a:ext cx="4876920" cy="193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JANET\AppData\Local\Microsoft\Windows\Temporary Internet Files\Content.IE5\S3I3SQZL\MC900088940[1].wmf"/>
          <p:cNvPicPr/>
          <p:nvPr/>
        </p:nvPicPr>
        <p:blipFill>
          <a:blip r:embed="rId3"/>
          <a:stretch/>
        </p:blipFill>
        <p:spPr>
          <a:xfrm>
            <a:off x="2819520" y="0"/>
            <a:ext cx="4190760" cy="526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5" descr=""/>
          <p:cNvPicPr/>
          <p:nvPr/>
        </p:nvPicPr>
        <p:blipFill>
          <a:blip r:embed="rId2"/>
          <a:stretch/>
        </p:blipFill>
        <p:spPr>
          <a:xfrm>
            <a:off x="-512640" y="4743360"/>
            <a:ext cx="9839160" cy="1938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JANET\AppData\Local\Microsoft\Windows\Temporary Internet Files\Content.IE5\YOJV5XMD\MC900359007[1].wmf"/>
          <p:cNvPicPr/>
          <p:nvPr/>
        </p:nvPicPr>
        <p:blipFill>
          <a:blip r:embed="rId3"/>
          <a:stretch/>
        </p:blipFill>
        <p:spPr>
          <a:xfrm>
            <a:off x="838080" y="152280"/>
            <a:ext cx="7015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5" descr=""/>
          <p:cNvPicPr/>
          <p:nvPr/>
        </p:nvPicPr>
        <p:blipFill>
          <a:blip r:embed="rId2"/>
          <a:stretch/>
        </p:blipFill>
        <p:spPr>
          <a:xfrm>
            <a:off x="1768320" y="4743360"/>
            <a:ext cx="5265720" cy="1938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JANET\AppData\Local\Microsoft\Windows\Temporary Internet Files\Content.IE5\S3I3SQZL\MC900424454[1].wmf"/>
          <p:cNvPicPr/>
          <p:nvPr/>
        </p:nvPicPr>
        <p:blipFill>
          <a:blip r:embed="rId3"/>
          <a:stretch/>
        </p:blipFill>
        <p:spPr>
          <a:xfrm>
            <a:off x="1981080" y="228600"/>
            <a:ext cx="5181840" cy="499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5" descr=""/>
          <p:cNvPicPr/>
          <p:nvPr/>
        </p:nvPicPr>
        <p:blipFill>
          <a:blip r:embed="rId2"/>
          <a:stretch/>
        </p:blipFill>
        <p:spPr>
          <a:xfrm>
            <a:off x="933480" y="4743360"/>
            <a:ext cx="6948360" cy="1938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JANET\AppData\Local\Microsoft\Windows\Temporary Internet Files\Content.IE5\YOJV5XMD\MC900411504[1].wmf"/>
          <p:cNvPicPr/>
          <p:nvPr/>
        </p:nvPicPr>
        <p:blipFill>
          <a:blip r:embed="rId3"/>
          <a:stretch/>
        </p:blipFill>
        <p:spPr>
          <a:xfrm>
            <a:off x="2362320" y="0"/>
            <a:ext cx="4181400" cy="51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5" descr=""/>
          <p:cNvPicPr/>
          <p:nvPr/>
        </p:nvPicPr>
        <p:blipFill>
          <a:blip r:embed="rId2"/>
          <a:stretch/>
        </p:blipFill>
        <p:spPr>
          <a:xfrm>
            <a:off x="633240" y="4743360"/>
            <a:ext cx="7547040" cy="193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JANET\AppData\Local\Microsoft\Windows\Temporary Internet Files\Content.IE5\E96H3I5V\MC900215439[1].wmf"/>
          <p:cNvPicPr/>
          <p:nvPr/>
        </p:nvPicPr>
        <p:blipFill>
          <a:blip r:embed="rId3"/>
          <a:stretch/>
        </p:blipFill>
        <p:spPr>
          <a:xfrm>
            <a:off x="762120" y="380880"/>
            <a:ext cx="4170240" cy="4846680"/>
          </a:xfrm>
          <a:prstGeom prst="rect">
            <a:avLst/>
          </a:prstGeom>
          <a:ln w="0">
            <a:noFill/>
          </a:ln>
        </p:spPr>
      </p:pic>
      <p:pic>
        <p:nvPicPr>
          <p:cNvPr id="98" name="Image 4" descr="cough.gif"/>
          <p:cNvPicPr/>
          <p:nvPr/>
        </p:nvPicPr>
        <p:blipFill>
          <a:blip r:embed="rId4"/>
          <a:stretch/>
        </p:blipFill>
        <p:spPr>
          <a:xfrm>
            <a:off x="5327640" y="1212840"/>
            <a:ext cx="3249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Flu symptoms</a:t>
            </a: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213000"/>
            <a:ext cx="2089080" cy="936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Headach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5229360"/>
            <a:ext cx="1942920" cy="107928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Sore throat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700280"/>
            <a:ext cx="1368360" cy="100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Fev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877000"/>
            <a:ext cx="1871640" cy="647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Congest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5877000"/>
            <a:ext cx="1440000" cy="7207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Coug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24720" y="4221000"/>
            <a:ext cx="1440000" cy="648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Chi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2421000"/>
            <a:ext cx="1655640" cy="863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Tirednes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1197000"/>
            <a:ext cx="1800360" cy="6476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Weak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1197000"/>
            <a:ext cx="1800000" cy="792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Body ache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95280" y="5157720"/>
            <a:ext cx="108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627280" y="3789360"/>
            <a:ext cx="649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00000" y="2349000"/>
            <a:ext cx="64764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59280" y="1988640"/>
            <a:ext cx="73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355640" y="544500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5373720"/>
            <a:ext cx="792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4365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16720" y="2924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156360" y="1773000"/>
            <a:ext cx="720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3240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What is the flu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The flu (influenza) is a highly contagious virus that affects the respiratory system. It is most common in winter and should not be confused with the common cold.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d viruses can’t  killed with antibiotics. Only body’s own defence system can get rid of the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1162080" cy="1009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924680" y="5553000"/>
            <a:ext cx="1219320" cy="130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79280" y="6093000"/>
            <a:ext cx="123840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14:29:21Z</dcterms:created>
  <dc:creator>Igor</dc:creator>
  <dc:description/>
  <dc:language>en-US</dc:language>
  <cp:lastModifiedBy>Igor</cp:lastModifiedBy>
  <dcterms:modified xsi:type="dcterms:W3CDTF">2013-04-24T09:48:55Z</dcterms:modified>
  <cp:revision>9</cp:revision>
  <dc:subject/>
  <dc:title>WHAT TO DO ABOUT FLU</dc:title>
</cp:coreProperties>
</file>