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6.gif" ContentType="image/gif"/>
  <Override PartName="/ppt/media/image1.wmf" ContentType="image/x-wmf"/>
  <Override PartName="/ppt/media/image15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64F-465B-46F7-9F00-752E702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7E4-79CB-4B20-A714-4409E52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AB1-430E-49F2-82D8-BB997E6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E30-F717-489F-8A7E-AEAC8C84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791-48EB-4B34-93ED-0150110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426-2439-48F8-8681-16B2985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B66-1BEA-453B-A191-156EE09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7C0-3BD6-4C7F-94CC-2A14EA39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B70-BEC8-40C5-8269-835BEA46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B0B-63D7-4082-A686-297224C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B41-EA7F-4F6A-9DBD-41E3E52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134-7FE2-4FE2-85E4-93EEA43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70C-21BB-420E-9F08-E0B84428A0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 Black"/>
                <a:ea typeface="Arial"/>
              </a:rPr>
              <a:t>«ОСОБЕННОСТИ СЕМЕЙНОГО  ВОСПИТАНИЯ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1540800" y="18900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Arial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7120" y="31431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8000"/>
                            </p:stCondLst>
                            <p:childTnLst>
                              <p:par>
                                <p:cTn id="9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000"/>
                            </p:stCondLst>
                            <p:childTnLst>
                              <p:par>
                                <p:cTn id="9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2428920"/>
            <a:ext cx="89647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SUPER071"/>
          <p:cNvPicPr/>
          <p:nvPr/>
        </p:nvPicPr>
        <p:blipFill>
          <a:blip r:embed="rId1"/>
          <a:stretch/>
        </p:blipFill>
        <p:spPr>
          <a:xfrm>
            <a:off x="571680" y="0"/>
            <a:ext cx="24033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ПИСЬМО-ПОЖЕЛАНИЕ</a:t>
            </a: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к самым близким и дорогим людям – моим родителя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560" y="17146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давайте пустых обещан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придирайтесь ко мне по пустякам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читайте нотац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мне друз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ругайте и не обзывайте ме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Я прошу Вас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осто любить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меня!!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29160" y="1214280"/>
            <a:ext cx="3714840" cy="238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ПРОИСХОДИТ ПРОЦЕСС ВЗАИМОДЕЙСТВИЯ  МЕЖДУ РОДИТЕЛЯМИ  И ДЕТЬ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ЛИ РЕБЕНКУ РЯДОМ С Н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101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768240" y="1187280"/>
              <a:ext cx="3902040" cy="2515320"/>
            </a:xfrm>
            <a:custGeom>
              <a:avLst/>
              <a:gdLst>
                <a:gd name="textAreaLeft" fmla="*/ 296280 w 3902040"/>
                <a:gd name="textAreaRight" fmla="*/ 3605760 w 3902040"/>
                <a:gd name="textAreaTop" fmla="*/ 296280 h 2515320"/>
                <a:gd name="textAreaBottom" fmla="*/ 2219040 h 2515320"/>
              </a:gdLst>
              <a:ahLst/>
              <a:rect l="textAreaLeft" t="textAreaTop" r="textAreaRight" b="textAreaBottom"/>
              <a:pathLst>
                <a:path w="3350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907" y="21600"/>
                  </a:lnTo>
                  <a:arcTo wR="3600" hR="3600" stAng="10800000" swAng="5400000"/>
                  <a:lnTo>
                    <a:pt x="3350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немного приоткрыли двери, чтобы подсмотре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WordArt 7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714920" y="2286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 rot="5400000">
            <a:off x="2523960" y="3976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  <a:ea typeface="Arial"/>
              </a:rPr>
              <a:t>РЕФЛЕКС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384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полезного почерпнули Вы для себя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было самым неожида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Какие вопросы, пожелания возникли в ходе сегодняшней вст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eorgia"/>
              </a:rPr>
              <a:t>Постановление родительского собр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773000"/>
            <a:ext cx="871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одителям принять к сведению информацию, полученную сегодня на собр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Исключить применение негативных типов воспитания в семь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делять больше внимания и любви своим детям, как самому дорогому существу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 кого есть дополнения? Кто согласен? Кто не согласен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6f248"/>
                </a:solidFill>
                <a:uFillTx/>
                <a:latin typeface="Arial"/>
                <a:ea typeface="Arial"/>
              </a:rPr>
              <a:t>Цель</a:t>
            </a:r>
            <a:r>
              <a:rPr b="1" lang="ru-RU" sz="3200" spc="-1" strike="noStrike">
                <a:solidFill>
                  <a:srgbClr val="f6f248"/>
                </a:solidFill>
                <a:latin typeface="Arial"/>
                <a:ea typeface="Arial"/>
              </a:rPr>
              <a:t>: просвещение родителей, повышение их психолого-педагогической компетентности в формировании личности  ребенк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5840" y="2356920"/>
            <a:ext cx="857232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знакомить родителей  с типами воспитания, негативно влияющими на психику ребенк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будить родителей к размышлениям об особенностях воспитания в их семье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Развивать умения родителей видеть себя со сторо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113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115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custGeom>
                <a:avLst/>
                <a:gdLst>
                  <a:gd name="textAreaLeft" fmla="*/ 360 w 599760"/>
                  <a:gd name="textAreaRight" fmla="*/ 600480 w 5997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118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custGeom>
                <a:avLst/>
                <a:gdLst>
                  <a:gd name="textAreaLeft" fmla="*/ 0 w 362160"/>
                  <a:gd name="textAreaRight" fmla="*/ 362160 w 3621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custGeom>
                <a:avLst/>
                <a:gdLst>
                  <a:gd name="textAreaLeft" fmla="*/ 360 w 149040"/>
                  <a:gd name="textAreaRight" fmla="*/ 149760 w 14904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122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custGeom>
                <a:avLst/>
                <a:gdLst>
                  <a:gd name="textAreaLeft" fmla="*/ 360 w 143280"/>
                  <a:gd name="textAreaRight" fmla="*/ 144000 w 1432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126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custGeom>
                <a:avLst/>
                <a:gdLst>
                  <a:gd name="textAreaLeft" fmla="*/ -360 w 474120"/>
                  <a:gd name="textAreaRight" fmla="*/ 474120 w 474120"/>
                  <a:gd name="textAreaTop" fmla="*/ 0 h 504360"/>
                  <a:gd name="textAreaBottom" fmla="*/ 504360 h 504360"/>
                </a:gdLst>
                <a:ahLst/>
                <a:rect l="textAreaLeft" t="textAreaTop" r="textAreaRight" b="textAreaBottom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custGeom>
                <a:avLst/>
                <a:gdLst>
                  <a:gd name="textAreaLeft" fmla="*/ 360 w 243360"/>
                  <a:gd name="textAreaRight" fmla="*/ 244080 w 243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8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129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0 h 550080"/>
                  <a:gd name="textAreaBottom" fmla="*/ 550080 h 550080"/>
                </a:gdLst>
                <a:ahLst/>
                <a:rect l="textAreaLeft" t="textAreaTop" r="textAreaRight" b="textAreaBottom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custGeom>
                <a:avLst/>
                <a:gdLst>
                  <a:gd name="textAreaLeft" fmla="*/ -360 w 167400"/>
                  <a:gd name="textAreaRight" fmla="*/ 167400 w 1674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133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142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143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custGeom>
                  <a:avLst/>
                  <a:gdLst>
                    <a:gd name="textAreaLeft" fmla="*/ 360 w 444960"/>
                    <a:gd name="textAreaRight" fmla="*/ 445680 w 44496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8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0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9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0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1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172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251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"/>
          <p:cNvSpPr/>
          <p:nvPr/>
        </p:nvSpPr>
        <p:spPr>
          <a:xfrm>
            <a:off x="228600" y="609480"/>
            <a:ext cx="8379000" cy="5772240"/>
          </a:xfrm>
          <a:custGeom>
            <a:avLst/>
            <a:gdLst>
              <a:gd name="textAreaLeft" fmla="*/ 1226880 w 8379000"/>
              <a:gd name="textAreaRight" fmla="*/ 7152120 w 8379000"/>
              <a:gd name="textAreaTop" fmla="*/ 845280 h 5772240"/>
              <a:gd name="textAreaBottom" fmla="*/ 4926960 h 577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8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bezzmirblekneti"/>
          <p:cNvPicPr/>
          <p:nvPr/>
        </p:nvPicPr>
        <p:blipFill>
          <a:blip r:embed="rId1"/>
          <a:stretch/>
        </p:blipFill>
        <p:spPr>
          <a:xfrm>
            <a:off x="1857240" y="1357200"/>
            <a:ext cx="507204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7" name="Text Box 5"/>
          <p:cNvSpPr/>
          <p:nvPr/>
        </p:nvSpPr>
        <p:spPr>
          <a:xfrm>
            <a:off x="796680" y="22716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28760" y="-36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4400" spc="-1" strike="noStrike">
                <a:solidFill>
                  <a:srgbClr val="ff9933"/>
                </a:solidFill>
                <a:latin typeface="Arial"/>
                <a:ea typeface="Arial"/>
              </a:rPr>
              <a:t>АНКЕТА </a:t>
            </a:r>
            <a:br>
              <a:rPr sz="44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«Что мы ждём от своих родителей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56760" y="206064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Проявление чув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одительская любовь - 28чел. 8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нимание - 18 чел. 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бота - 22 чел.6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Эмоциональная поддержка - 14чел.4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частие в жизни – 15чел. 4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PE02267_"/>
          <p:cNvPicPr/>
          <p:nvPr/>
        </p:nvPicPr>
        <p:blipFill>
          <a:blip r:embed="rId1"/>
          <a:stretch/>
        </p:blipFill>
        <p:spPr>
          <a:xfrm>
            <a:off x="7045200" y="0"/>
            <a:ext cx="20988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2560" y="4287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Исправление недостат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обоснованные порицания -10ч. 30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явление агрессии - 13чел.39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соры между родителями -23чел.69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Безразличие - 8чел. 23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урение - 21чел. 63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  <a:ea typeface="Arial"/>
              </a:rPr>
              <a:t>                 </a:t>
            </a:r>
            <a:r>
              <a:rPr b="1" lang="ru-RU" sz="48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Взаимодействи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домашнего задания-18чел.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местный отдых - 24чел.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личных проблем 14чел. 4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конфликтов в школе -13ч. 3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сто присутствие - 16чел. 4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85840" y="357120"/>
            <a:ext cx="442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  <a:ea typeface="Arial"/>
              </a:rPr>
              <a:t>Стили семейного воспит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емократ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пуститель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Хао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ека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857840" y="214200"/>
            <a:ext cx="392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ипы воспитания, которых следует избег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мир семь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«Гиперопек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ипоопека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«Ежовые рукавиц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«Повышенная моральная ответственнос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«В культе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Выгнутая вверх стрелка 4">
            <a:hlinkClick r:id="rId1" action="ppaction://hlinksldjump"/>
          </p:cNvPr>
          <p:cNvSpPr/>
          <p:nvPr/>
        </p:nvSpPr>
        <p:spPr>
          <a:xfrm>
            <a:off x="7500960" y="6215040"/>
            <a:ext cx="1357200" cy="428760"/>
          </a:xfrm>
          <a:custGeom>
            <a:avLst/>
            <a:gdLst>
              <a:gd name="textAreaLeft" fmla="*/ 299160 w 1357200"/>
              <a:gd name="textAreaRight" fmla="*/ 10044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ff0066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илья</cp:lastModifiedBy>
  <dcterms:modified xsi:type="dcterms:W3CDTF">2013-04-01T15:00:33Z</dcterms:modified>
  <cp:revision>104</cp:revision>
  <dc:subject/>
  <dc:title>Слайд 1</dc:title>
</cp:coreProperties>
</file>