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11.gif" ContentType="image/gif"/>
  <Override PartName="/ppt/media/image9.gif" ContentType="image/gif"/>
  <Override PartName="/ppt/media/image16.jpeg" ContentType="image/jpeg"/>
  <Override PartName="/ppt/media/image7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15.wmf" ContentType="image/x-wmf"/>
  <Override PartName="/ppt/media/image4.gif" ContentType="image/gif"/>
  <Override PartName="/ppt/media/image5.gif" ContentType="image/gif"/>
  <Override PartName="/ppt/media/image13.png" ContentType="image/png"/>
  <Override PartName="/ppt/media/image10.gif" ContentType="image/gif"/>
  <Override PartName="/ppt/media/image14.wmf" ContentType="image/x-wmf"/>
  <Override PartName="/ppt/media/image6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489-FC36-4F0E-96E8-3A0A771C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ACF-6ECD-4BA9-9EBA-982A650A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90575-BE48-43D9-A0F8-C2E2157B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E0343-D49D-4C07-A16E-811CFE13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8F33F-383D-4282-9A5A-B28D1D98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6693D-A4FC-498C-88F7-934D13D2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07043-D46A-415E-B8B7-C2C188F8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8BE10-30F9-4DF5-9325-C8E9DB02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95C38-B068-44AC-A4E9-C3765516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EAB3C-D51C-4B1A-B82A-4F145877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EFD43-557E-4EF8-99C1-A7D6BD8A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DC9-F3C0-418B-9A45-0A8B8DE6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528-9A82-4C1F-8EA0-B0C5C4B6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75DB-0A38-447D-A8BA-2941A648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A8D6-B0E0-418E-987C-2D869483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77C1-477E-4122-A10E-AEFD2101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7E0D-CBAE-4101-8076-C62D0FB1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6280-4665-4EAC-977F-CF8F53D8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064B-4ACB-465D-91AC-DE497EEB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35CD-40A8-4374-98D7-C773D7D0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645-B9CD-4343-A0F2-A103E027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12A5-AD8B-4A48-9841-CCF2C0D4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3709-6070-453C-A032-BFD9AE8F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16C7-5AB9-4EB7-B398-34F258A0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67CE-53A0-4FE7-9DBD-1FA3184A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D1A9-F97C-4E76-987C-6FF51E45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156F0-17C7-4454-AADC-FE130760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BEB2F-2DF8-456D-8A53-14AA2AF0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11A67-8001-47B3-AC59-D4D39944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1DEF7-E19B-4C61-82A6-C46C6F2A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4F7F4-AA43-49AC-A5A6-EFEC559C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4E4-5851-46FE-A136-BB111BC5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DB5D-8234-4960-B594-2E64C097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E029-A30F-4BCB-96FC-34B6CB03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D8BEB-6D61-4856-936A-AEDB65A8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55765-0308-418E-AEF7-4CB6E6AD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8BD23-840D-4A62-BBC9-97FC715A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140B6-96D1-4692-ADCB-2B77DAF8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E0EB-1D7C-4671-91B3-5B1527FF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B11C50-68EF-4525-9ECC-16FA3B52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93804-A650-409E-BFF6-E3AB9AF3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2CCEF3-CCEE-46CD-B7D1-7234563E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DDC8-CE53-4918-ACFD-987FB6DA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5DB71-DDB6-48EE-9392-B2B4B78E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97B74-A6CE-4560-BA1C-E9FBECE8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92E4E3-0C09-447D-9029-02E16446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2DB7E9-5294-4AA7-B847-5FFF4391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E279C-EC12-4547-AA1F-54501B6A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3B0725-0C36-46F9-B3A7-957E7F46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C34A4-93D3-4835-B4DC-328ED103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EFA451-93A4-4E98-9BBF-322CC686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AC046-EBC1-49DC-835E-6266A5D0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5A7BF-0E80-43FB-B492-5BC5B9C9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FF6-4DEA-4C52-AE7F-0E013237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7948A-2827-4922-841E-60C24221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CD23E-9942-4077-A96C-A63FCF2B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1B254-D88B-470A-864A-DB1B5BC5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AD77E-F0F5-4D97-AC62-E05A98F6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2A041-167A-458B-9B9A-3BF6B1ED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4D716-C192-4140-AF20-4284CC6E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98A0B-FC79-49DC-87CC-63058238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EA091-3CE0-49AF-8870-B5DF05C0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BC2F9-0189-40B3-8AB7-1269F5C0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D6C15-360B-413C-B089-DED31969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E2D-DED8-4F30-8C71-3A877C0D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462C8-E8CD-4117-8F48-B33D39D4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CD459-F73E-4CAE-BFC0-57CC1AFD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8B133-E760-4217-9A5E-1EE9DC52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9DE02-590C-4E72-BA43-9E429452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60DC8-4F79-4C85-A224-C5BEB671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F6BAB-6803-40F4-A37E-7E662FAB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893BC-BF65-49A2-9650-E361B4C0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17C99-11ED-4D71-9C26-35F35FDA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37F59-39D1-49A7-A0CA-05D60C33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258CE-5E7D-4C93-92E1-1B582E58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DDC-3F9E-4463-8077-B393EE61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AA7EA-4741-4F50-B901-872BD736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2267B-348B-43BA-8A82-C1D8FD8B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64058-B41A-40BF-B597-189A7B06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C6EA9-5E61-4B39-BAEB-4C5867AB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D2410-E67F-4956-AA3D-DD7087DF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F84FB-5934-4E57-A16B-48207A60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20A5E-6DA3-416A-8D3A-7081CBC1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6DC2A-A0FE-42A1-8FD8-6C27735D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8ADB1-D9FA-4D93-91FE-B661D482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6E26D-F8EA-4CC7-AEA0-2B7604DD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48A8-9011-43AC-B45D-88F28AEE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0B673-A799-48FD-8FE6-D3178D18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357D7-2456-4E1E-B2A4-F4165029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D9F78-F991-43CC-BDBC-17658378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DE7B1-BD81-44AB-9956-AEDB1A59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AB603-0055-4AD6-B09B-13D11DB2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8056E-9057-4690-8A9E-5EAE8C19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E3700-5A5A-4651-A47F-F0387A05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18BE0-4CD2-4D76-A50D-9DF89776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B2E4C-F6CF-4113-AA27-7D6A7CF9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DBFA1-D997-41AC-952D-F473A814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300-E2EA-4E6F-A97D-8D90807D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05FC4-7A82-4EA1-9E66-7E0A3E9C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57531-EF32-441F-9586-76DB3E71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59D86-FE40-4127-A618-34542D04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AAD50-1759-4DB8-B365-05823783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E0C97-1402-4001-AE3C-FC18D5FE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7ECE2-80BE-4168-B44E-D3437E59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0E64F-8E5B-4FAA-9B99-0325E448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83155-1CF6-4DB3-AE52-396D40E8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39660-4509-4940-B88F-A6CA93FF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FB25A-9E20-4651-B339-031671E2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D90B-2166-44A2-88C3-AEC2C8496C1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160E-DBFA-4627-9B62-AADC24E26D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8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73A0-A0DC-4A56-89E8-2285BF3CE3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48F3-C302-46B8-96E0-4F66E2327F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8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0F76-C7B2-4E57-B7CE-B4C4976A13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45C0-1F5D-4770-B512-81AD74BD94B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82DF-6CD5-47ED-8519-0547A2FB2A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1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1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ED4A-BCEA-414F-9527-D97DAC7BC9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4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8A1B-26CA-42C9-A488-EEDE3B46995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51280" y="142560"/>
            <a:ext cx="529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рудности адаптации пятиклассни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школ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0" y="5560920"/>
            <a:ext cx="44578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8" descr="C:\Users\титовы\Desktop\Фото\Фото0139.jpg"/>
          <p:cNvPicPr/>
          <p:nvPr/>
        </p:nvPicPr>
        <p:blipFill>
          <a:blip r:embed="rId1"/>
          <a:stretch/>
        </p:blipFill>
        <p:spPr>
          <a:xfrm>
            <a:off x="357120" y="1000080"/>
            <a:ext cx="39020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53496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Пятый класс</a:t>
            </a:r>
            <a:br>
              <a:rPr sz="4800"/>
            </a:br>
            <a:br>
              <a:rPr sz="4000"/>
            </a:b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– это переход не только на новую ступень, но и в новый период развития - </a:t>
            </a: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отрочество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МАЛЬКИК"/>
          <p:cNvPicPr/>
          <p:nvPr/>
        </p:nvPicPr>
        <p:blipFill>
          <a:blip r:embed="rId1"/>
          <a:stretch/>
        </p:blipFill>
        <p:spPr>
          <a:xfrm>
            <a:off x="468360" y="4581360"/>
            <a:ext cx="1514520" cy="18576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800000" cy="19796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slide0055_image073"/>
          <p:cNvPicPr/>
          <p:nvPr/>
        </p:nvPicPr>
        <p:blipFill>
          <a:blip r:embed="rId3"/>
          <a:stretch/>
        </p:blipFill>
        <p:spPr>
          <a:xfrm>
            <a:off x="6300720" y="4076640"/>
            <a:ext cx="2592360" cy="25513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people3026"/>
          <p:cNvPicPr/>
          <p:nvPr/>
        </p:nvPicPr>
        <p:blipFill>
          <a:blip r:embed="rId4"/>
          <a:stretch/>
        </p:blipFill>
        <p:spPr>
          <a:xfrm>
            <a:off x="324000" y="260280"/>
            <a:ext cx="210636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550"/>
                            </p:stCondLst>
                            <p:childTnLst>
                              <p:par>
                                <p:cTn id="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5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зрастные особенности младшего подрост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ь в достойном положении в коллективе сверстников, в семь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обзавестись верным друг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избежать изоляции, как в классе, так и в малом коллекти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ный интерес к вопросу о “соотношении сил” в класс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отказаться от всего подчеркнуто детск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авторитета возра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ращение к необоснованным запрет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оценка своих возможн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адаптации к неудач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рко выраженная эмоцион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5" descr="gallery_2_388_4725"/>
          <p:cNvPicPr/>
          <p:nvPr/>
        </p:nvPicPr>
        <p:blipFill>
          <a:blip r:embed="rId1"/>
          <a:stretch/>
        </p:blipFill>
        <p:spPr>
          <a:xfrm>
            <a:off x="0" y="0"/>
            <a:ext cx="1608120" cy="18003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bratz002"/>
          <p:cNvPicPr/>
          <p:nvPr/>
        </p:nvPicPr>
        <p:blipFill>
          <a:blip r:embed="rId2"/>
          <a:stretch/>
        </p:blipFill>
        <p:spPr>
          <a:xfrm>
            <a:off x="7524720" y="4508640"/>
            <a:ext cx="11779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За то, как наши дети войдут в этот возраст, будут ли успешны в учебе и жизни в целом, лежит ответственность на нас, взрослых – педагогах и родителях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525" name="Picture 3" descr="smileface3"/>
          <p:cNvPicPr/>
          <p:nvPr/>
        </p:nvPicPr>
        <p:blipFill>
          <a:blip r:embed="rId1"/>
          <a:stretch/>
        </p:blipFill>
        <p:spPr>
          <a:xfrm>
            <a:off x="395280" y="260280"/>
            <a:ext cx="1511280" cy="14731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SADFACE3"/>
          <p:cNvPicPr/>
          <p:nvPr/>
        </p:nvPicPr>
        <p:blipFill>
          <a:blip r:embed="rId2"/>
          <a:stretch/>
        </p:blipFill>
        <p:spPr>
          <a:xfrm>
            <a:off x="7236000" y="5013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4" descr="slide0089_image182"/>
          <p:cNvPicPr/>
          <p:nvPr/>
        </p:nvPicPr>
        <p:blipFill>
          <a:blip r:embed="rId1"/>
          <a:stretch/>
        </p:blipFill>
        <p:spPr>
          <a:xfrm>
            <a:off x="6804000" y="2997360"/>
            <a:ext cx="208764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Признаки дезадаптац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спокойный с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2" name="Picture 4" descr="people1840"/>
          <p:cNvPicPr/>
          <p:nvPr/>
        </p:nvPicPr>
        <p:blipFill>
          <a:blip r:embed="rId1"/>
          <a:stretch/>
        </p:blipFill>
        <p:spPr>
          <a:xfrm>
            <a:off x="0" y="189000"/>
            <a:ext cx="15476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Результаты опроса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«Отношение к учебным предметам»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34" name="Object 3" descr=""/>
          <p:cNvPicPr/>
          <p:nvPr/>
        </p:nvPicPr>
        <p:blipFill>
          <a:blip r:embed="rId1"/>
          <a:stretch/>
        </p:blipFill>
        <p:spPr>
          <a:xfrm>
            <a:off x="177840" y="1557360"/>
            <a:ext cx="8564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Рекомендации родителям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Расспрашивайте Вашего ребенка о его школьных дел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Регулярно беседуйте с учителями вашего реб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Не связывайте оценки за успеваемость ребенка со своей системой наказаний и поощр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Помогайте ребенку выполнять домашние задани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Помогите ребенку почувствовать интерес к тому, что преподают в школ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Особенные усилия прилагайте для того, чтобы поддерживать спокойную и стабильную атмосферу в дом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4" descr="PE02288_"/>
          <p:cNvPicPr/>
          <p:nvPr/>
        </p:nvPicPr>
        <p:blipFill>
          <a:blip r:embed="rId1"/>
          <a:stretch/>
        </p:blipFill>
        <p:spPr>
          <a:xfrm>
            <a:off x="7715160" y="4797360"/>
            <a:ext cx="1751040" cy="20606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Картинка 20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3"/>
          <p:cNvSpPr/>
          <p:nvPr/>
        </p:nvSpPr>
        <p:spPr>
          <a:xfrm>
            <a:off x="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6600"/>
                </a:solidFill>
                <a:latin typeface="Arial Black"/>
              </a:rPr>
              <a:t>Благодарю </a:t>
            </a:r>
            <a:br>
              <a:rPr sz="6000"/>
            </a:br>
            <a:r>
              <a:rPr b="0" i="1" lang="ru-RU" sz="6000" spc="-1" strike="noStrike">
                <a:solidFill>
                  <a:srgbClr val="006600"/>
                </a:solidFill>
                <a:latin typeface="Arial Black"/>
              </a:rPr>
              <a:t>всех за внимание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8:30:21Z</dcterms:created>
  <dc:creator>Админ</dc:creator>
  <dc:description/>
  <dc:language>en-US</dc:language>
  <cp:lastModifiedBy>титовы</cp:lastModifiedBy>
  <dcterms:modified xsi:type="dcterms:W3CDTF">2012-10-19T20:46:55Z</dcterms:modified>
  <cp:revision>16</cp:revision>
  <dc:subject/>
  <dc:title>Слайд 1</dc:title>
</cp:coreProperties>
</file>