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png" ContentType="image/png"/>
  <Override PartName="/ppt/media/image11.gif" ContentType="image/gif"/>
  <Override PartName="/ppt/media/image9.gif" ContentType="image/gif"/>
  <Override PartName="/ppt/media/image16.jpeg" ContentType="image/jpeg"/>
  <Override PartName="/ppt/media/image7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15.wmf" ContentType="image/x-wmf"/>
  <Override PartName="/ppt/media/image4.gif" ContentType="image/gif"/>
  <Override PartName="/ppt/media/image5.gif" ContentType="image/gif"/>
  <Override PartName="/ppt/media/image13.png" ContentType="image/png"/>
  <Override PartName="/ppt/media/image10.gif" ContentType="image/gif"/>
  <Override PartName="/ppt/media/image14.wmf" ContentType="image/x-wmf"/>
  <Override PartName="/ppt/media/image6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607-3D03-4C86-ABEF-5CAA99A6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68D5-8660-4FC0-9A4D-E5A75C5F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A41F5-640D-4ED5-A568-1EEA7BBA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68908-C1D4-4025-8D33-DC4CA5BF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61D9C-5974-4F48-B9A6-8695C75E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DB406-7B34-407B-975E-5F476DDC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3A49F-C831-424A-8BD9-72983382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16ADC-A568-4B04-9946-546379C4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0DE90-A370-4EA9-AB27-A31C6AF2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B8225-E159-4DCB-8E46-A1215567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288BC-65BE-4C23-ACBD-A9944D23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C05-F265-4C82-BFE4-C3101515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F2E0-F40F-4EC3-9AD1-65A10821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E131-E727-4AE9-96E1-71C824B7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2640-69EB-41FF-BFDE-43682B65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4CE1-C443-42A2-933F-4E491664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77AD-854E-4556-9915-37356B06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EC9B-7225-434F-873D-64421DE2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2875-0591-4364-9760-3AB016C1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DB22-E8F1-4EE1-8300-3C7CA9A0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935-D07A-454A-B4E4-0FAFC849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BB71-9B56-4422-A54C-85133CC7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A4A7-157C-412C-8E38-A23549F9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C99A-8876-41AA-9EDE-87D7C41E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02CD-76F8-488F-940C-7587EEF0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95AD-D27E-4357-B957-3510DAFF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4FC29-8249-4450-A88F-FDD5F8A1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10CD0-C0A4-42C6-9334-4E525929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8F265-5F0A-4EBA-823E-685F1704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5960B-FE73-4245-9C7F-456311E3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DE540-77A9-4CD7-B152-76B2D649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73D-6579-483D-9D11-F38B73BC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9EE58-4C47-449D-8BE6-62C8FB4C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09D4C-3480-4614-B8DD-58B2D075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13E42-0537-4D1A-9508-CDAC8DDF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0FFCB-BF72-4344-A9C1-19D7EA01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56AE2-AC73-4B0A-948F-3896ACAD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0B01A-63DD-4C50-9519-69F857C9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4DC61-3939-415D-BC6C-F177E748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70D64-0167-4F2E-975C-63D1E73F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449C2C-8112-4290-A43B-196198A9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799D6F-C8EB-4470-BB42-1AF36B72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2CA8-C2E1-4166-8DF6-BDB86942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E8375A-E7E1-4EC0-8E9A-DB76B7F3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3B193A-D0E6-43C6-826B-0B482093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964D8B-318C-4213-8AE0-37DF064E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562595-F13D-439B-862C-CC8E5E6F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563A43-BA95-4249-9E93-91EF52BC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EE413F-3321-440A-A0A9-5ECC3CDC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5F38D3-D150-414A-992D-8327529E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E94DE6-CEB6-4320-9B01-31AB0406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D9ACD-1E8C-4E3C-8BFE-99A37166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775FA-164C-4498-8A89-3291E6E6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C0F-96ED-431A-BCD2-5D1F31FE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7CA2E-783A-4B9D-BACD-F7B47DF3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B8286-A436-47BD-B266-DCA4806C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296A6-619E-4474-B19C-F29C2BA8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F06A0-1B6F-499F-93A4-47350893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52000-A6F5-400F-A267-1D141694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620C0-0E5D-455B-ACA2-11ED682B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628F4-C2F9-469C-8109-16E0C429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6B65B-0F33-4280-8BEB-EDD35068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78380-1117-4851-95F7-4127F51F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41EB8-82BF-4BFC-AC7E-0CAFF4BC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53C0-94FC-49A0-8609-CABDF76D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D5FE7-B871-4B44-83B8-A608114A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63B4F-EE32-43E9-A7AD-54D8A6C9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37F19-57F9-474A-9549-71783A2D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28745-10BC-49C7-A66B-393E7EF3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14767-74F7-4E04-98C4-10456C2C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70952-5492-4FF2-93D5-540FB040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9F636-C57B-4FDE-9EAE-C8C701A5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BCA45-24BF-4B5F-9EDD-41E35041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D476B-FE84-4CA2-8A9D-56800EDC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B6C2D-C02C-4179-ABB3-EC3A53C4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FD0-3D1E-436C-B843-D32B3874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F89DD-FB6E-4ADC-9AD6-B1B2F39D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18FF7-3128-4547-87BC-056B9A04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0DF35-9B94-489D-BD5E-97BB5846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79D7E-98F1-449E-A57D-9E5705D9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0778E-095F-426E-A5B4-3FD59AF7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32C5D-303C-4CA0-B284-149D9296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EA69D-EC2B-4866-B001-13EFD515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9AED6-4A5B-40B4-86DE-5E740A52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F20CC-E552-48C2-82DD-6FFB9354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DC29C-E607-4BC2-B829-595B6CE2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483-13F5-444B-8476-731AD477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B8431-785D-46E0-9B18-2AA00447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29CC7-69A4-4209-A530-B21652AA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A1C03-7946-4936-B1FE-A9E5A4D9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D41E7-F872-4A57-9F5D-0896DA9F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9FF8A-5B41-4136-A856-1D98EEF9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0AFEE-4723-4C32-81CD-6C37B2CE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DBE6A-64B4-46F0-A9F5-C42EAAA8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8320F-1BD4-455F-8595-CE34E3B6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2A144-9DD4-403D-9096-9BE48CA6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E17C7-D2CE-4AD5-AA6A-18D5DEC1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FE76-8F2A-46E3-8241-7821E07F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89F15-E3C0-4DB9-BF6E-B7ADE6A9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59630-C592-408A-B4FF-BED19181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1ECB9-3662-47F4-ABBD-A0482A0C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D4565-80E5-4123-B5B9-8658BAA6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8E271-525E-4910-9318-475C3F33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41FD4-4E9A-4325-993C-08335A88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86693-A0C7-4ABE-9439-1D8B2A17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32C15-96D4-4414-B7DB-4588697E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87933-837E-4020-A55D-ABE35F55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69609-D837-4A33-B9F7-5804DE58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DDAD-0ECC-4DEB-8223-AD70B9A78C0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6D5F-5BAF-4543-950E-114388D7AF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18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A7EB-E973-406E-9DE3-ADAC89D05A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8193-1511-49CC-9BCA-FE633D70CB4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8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EF05-C09B-4019-A3F8-68DBF53351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2333-DA9A-4558-A550-62C8573F9A0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54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6917-A375-4C80-91A0-CB2C121C48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1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1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446E-84A1-405C-ABE5-0AD28856F8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4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45A4-DE1E-48B2-9C24-8AAADF3E2B9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51280" y="142560"/>
            <a:ext cx="529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рудности адаптации пятиклассник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школе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0" y="5560920"/>
            <a:ext cx="44578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8" descr="C:\Users\титовы\Desktop\Фото\Фото0139.jpg"/>
          <p:cNvPicPr/>
          <p:nvPr/>
        </p:nvPicPr>
        <p:blipFill>
          <a:blip r:embed="rId1"/>
          <a:stretch/>
        </p:blipFill>
        <p:spPr>
          <a:xfrm>
            <a:off x="357120" y="1000080"/>
            <a:ext cx="39020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53496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Пятый класс</a:t>
            </a:r>
            <a:br>
              <a:rPr sz="4800"/>
            </a:br>
            <a:br>
              <a:rPr sz="4000"/>
            </a:b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– это переход не только на новую ступень, но и в новый период развития - </a:t>
            </a: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отрочество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МАЛЬКИК"/>
          <p:cNvPicPr/>
          <p:nvPr/>
        </p:nvPicPr>
        <p:blipFill>
          <a:blip r:embed="rId1"/>
          <a:stretch/>
        </p:blipFill>
        <p:spPr>
          <a:xfrm>
            <a:off x="468360" y="4581360"/>
            <a:ext cx="1514520" cy="18576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800000" cy="19796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5" descr="slide0055_image073"/>
          <p:cNvPicPr/>
          <p:nvPr/>
        </p:nvPicPr>
        <p:blipFill>
          <a:blip r:embed="rId3"/>
          <a:stretch/>
        </p:blipFill>
        <p:spPr>
          <a:xfrm>
            <a:off x="6300720" y="4076640"/>
            <a:ext cx="2592360" cy="25513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people3026"/>
          <p:cNvPicPr/>
          <p:nvPr/>
        </p:nvPicPr>
        <p:blipFill>
          <a:blip r:embed="rId4"/>
          <a:stretch/>
        </p:blipFill>
        <p:spPr>
          <a:xfrm>
            <a:off x="324000" y="260280"/>
            <a:ext cx="2106360" cy="216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550"/>
                            </p:stCondLst>
                            <p:childTnLst>
                              <p:par>
                                <p:cTn id="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5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зрастные особенности младшего подрост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ребность в достойном положении в коллективе сверстников, в семь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мление обзавестись верным друг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мление избежать изоляции, как в классе, так и в малом коллекти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ный интерес к вопросу о “соотношении сил” в класс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мление отказаться от всего подчеркнуто детско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авторитета возрас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ращение к необоснованным запрет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оценка своих возможно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утствие адаптации к неудач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рко выраженная эмоцион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5" descr="gallery_2_388_4725"/>
          <p:cNvPicPr/>
          <p:nvPr/>
        </p:nvPicPr>
        <p:blipFill>
          <a:blip r:embed="rId1"/>
          <a:stretch/>
        </p:blipFill>
        <p:spPr>
          <a:xfrm>
            <a:off x="0" y="0"/>
            <a:ext cx="1608120" cy="18003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bratz002"/>
          <p:cNvPicPr/>
          <p:nvPr/>
        </p:nvPicPr>
        <p:blipFill>
          <a:blip r:embed="rId2"/>
          <a:stretch/>
        </p:blipFill>
        <p:spPr>
          <a:xfrm>
            <a:off x="7524720" y="4508640"/>
            <a:ext cx="11779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За то, как наши дети войдут в этот возраст, будут ли успешны в учебе и жизни в целом, лежит ответственность на нас, взрослых – педагогах и родителях.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525" name="Picture 3" descr="smileface3"/>
          <p:cNvPicPr/>
          <p:nvPr/>
        </p:nvPicPr>
        <p:blipFill>
          <a:blip r:embed="rId1"/>
          <a:stretch/>
        </p:blipFill>
        <p:spPr>
          <a:xfrm>
            <a:off x="395280" y="260280"/>
            <a:ext cx="1511280" cy="14731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SADFACE3"/>
          <p:cNvPicPr/>
          <p:nvPr/>
        </p:nvPicPr>
        <p:blipFill>
          <a:blip r:embed="rId2"/>
          <a:stretch/>
        </p:blipFill>
        <p:spPr>
          <a:xfrm>
            <a:off x="7236000" y="5013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4" descr="slide0089_image182"/>
          <p:cNvPicPr/>
          <p:nvPr/>
        </p:nvPicPr>
        <p:blipFill>
          <a:blip r:embed="rId1"/>
          <a:stretch/>
        </p:blipFill>
        <p:spPr>
          <a:xfrm>
            <a:off x="6804000" y="2997360"/>
            <a:ext cx="208764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Признаки дезадаптаци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гативные характеристики в адрес школы, учителей, однокласс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спокойный с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2" name="Picture 4" descr="people1840"/>
          <p:cNvPicPr/>
          <p:nvPr/>
        </p:nvPicPr>
        <p:blipFill>
          <a:blip r:embed="rId1"/>
          <a:stretch/>
        </p:blipFill>
        <p:spPr>
          <a:xfrm>
            <a:off x="0" y="189000"/>
            <a:ext cx="15476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Результаты опроса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«Отношение к учебным предметам»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534" name="Object 3" descr=""/>
          <p:cNvPicPr/>
          <p:nvPr/>
        </p:nvPicPr>
        <p:blipFill>
          <a:blip r:embed="rId1"/>
          <a:stretch/>
        </p:blipFill>
        <p:spPr>
          <a:xfrm>
            <a:off x="177840" y="1557360"/>
            <a:ext cx="8564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Рекомендации родителям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1285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Расспрашивайте Вашего ребенка о его школьных дел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Регулярно беседуйте с учителями вашего ребен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Не связывайте оценки за успеваемость ребенка со своей системой наказаний и поощр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Помогайте ребенку выполнять домашние задания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Помогите ребенку почувствовать интерес к тому, что преподают в школ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Особенные усилия прилагайте для того, чтобы поддерживать спокойную и стабильную атмосферу в дом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4" descr="PE02288_"/>
          <p:cNvPicPr/>
          <p:nvPr/>
        </p:nvPicPr>
        <p:blipFill>
          <a:blip r:embed="rId1"/>
          <a:stretch/>
        </p:blipFill>
        <p:spPr>
          <a:xfrm>
            <a:off x="7715160" y="4797360"/>
            <a:ext cx="1751040" cy="20606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Картинка 20 из 6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3"/>
          <p:cNvSpPr/>
          <p:nvPr/>
        </p:nvSpPr>
        <p:spPr>
          <a:xfrm>
            <a:off x="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6600"/>
                </a:solidFill>
                <a:latin typeface="Arial Black"/>
              </a:rPr>
              <a:t>Благодарю </a:t>
            </a:r>
            <a:br>
              <a:rPr sz="6000"/>
            </a:br>
            <a:r>
              <a:rPr b="0" i="1" lang="ru-RU" sz="6000" spc="-1" strike="noStrike">
                <a:solidFill>
                  <a:srgbClr val="006600"/>
                </a:solidFill>
                <a:latin typeface="Arial Black"/>
              </a:rPr>
              <a:t>всех за внимание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8:30:21Z</dcterms:created>
  <dc:creator>Админ</dc:creator>
  <dc:description/>
  <dc:language>en-US</dc:language>
  <cp:lastModifiedBy>титовы</cp:lastModifiedBy>
  <dcterms:modified xsi:type="dcterms:W3CDTF">2012-10-19T20:46:55Z</dcterms:modified>
  <cp:revision>16</cp:revision>
  <dc:subject/>
  <dc:title>Слайд 1</dc:title>
</cp:coreProperties>
</file>