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5.jpeg" ContentType="image/jpeg"/>
  <Override PartName="/ppt/media/image4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.jpeg" ContentType="image/jpeg"/>
  <Override PartName="/ppt/media/image25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0394-68F6-46D9-BBB5-A2DF8C1E1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A026-D409-4B6B-9B9A-813BF43B5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E5AC-14F9-4304-A0B4-B24105ABD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AAD7-2A70-4121-A2A4-7394C6754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54F3-FC93-45A0-962B-CF125C1D5E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7BF9-3A8D-4FBF-B146-E63FAD1CB5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28B1-ADBA-4556-824B-D8680EF4E2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92EFA-CB85-44C0-B678-432C17996B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232DD-9693-418D-BF48-11AF47EF58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48C0-2513-45E1-8E03-1DD2975094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F586-DC86-42F6-977C-F775609C7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D293-DD16-4B14-B19E-5C253F91C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6C5F-A15D-4C58-B672-974F97B574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066E-A5A4-4A35-962B-9B1559432B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6695-EB2F-4801-81B7-F0CE61488C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9603-6C6C-4A57-9648-11E8A36BF3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4954-2AFD-4659-8A8E-E8ABEA5B9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195D-049E-4C1F-9E5F-C9570F31D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60F6-0C19-48DF-B2DE-FA6676488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FBF1-E167-4AAA-97C8-90FEBFA16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7510-E693-4656-A442-68BD9B864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46DE-FD10-4887-AF5B-E5BFC1133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E02E-97C9-4C08-B8FB-33433FAB1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55FE-AF43-4439-929E-92466A713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2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891899-D472-4E3E-8545-5DF5B1583B81}" type="slidenum">
              <a:rPr b="0" lang="en-GB" sz="1400" spc="-1" strike="noStrike">
                <a:solidFill>
                  <a:srgbClr val="00002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457200" y="6248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B068BA-AAE2-4FC8-8A38-13C1CA58A334}" type="slidenum">
              <a:rPr b="0" lang="en-GB" sz="1400" spc="-1" strike="noStrike">
                <a:solidFill>
                  <a:srgbClr val="ffffff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990720" y="297000"/>
            <a:ext cx="77724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eec94"/>
                </a:solidFill>
                <a:latin typeface="Times New Roman"/>
              </a:rPr>
              <a:t>Экологический мониторинг земельных участков поселка Зеленоборский на предмет исследования золотистой картофельной немато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371600" y="3886200"/>
            <a:ext cx="640080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учные 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уководители: И.В.Новиков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Л.А.Томаро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Работу выполнил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рисова Алё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учениц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класс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ОУ СОШ №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79280" y="4481640"/>
            <a:ext cx="2506680" cy="2376360"/>
            <a:chOff x="179280" y="4481640"/>
            <a:chExt cx="2506680" cy="2376360"/>
          </a:xfrm>
        </p:grpSpPr>
        <p:pic>
          <p:nvPicPr>
            <p:cNvPr id="123" name="Picture 3" descr=""/>
            <p:cNvPicPr/>
            <p:nvPr/>
          </p:nvPicPr>
          <p:blipFill>
            <a:blip r:embed="rId1"/>
            <a:stretch/>
          </p:blipFill>
          <p:spPr>
            <a:xfrm>
              <a:off x="179280" y="4481640"/>
              <a:ext cx="25066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4"/>
            <p:cNvSpPr/>
            <p:nvPr/>
          </p:nvSpPr>
          <p:spPr>
            <a:xfrm>
              <a:off x="179280" y="4481640"/>
              <a:ext cx="25066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арта заражённости земельных участков 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селка Зеленоборский золотистой картофельной нематодо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4572000" y="2637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C:\Users\Ирина\Desktop\нематода 2013\Новая папка\SAM_4882.JPG"/>
          <p:cNvPicPr/>
          <p:nvPr/>
        </p:nvPicPr>
        <p:blipFill>
          <a:blip r:embed="rId2"/>
          <a:stretch/>
        </p:blipFill>
        <p:spPr>
          <a:xfrm>
            <a:off x="0" y="2637000"/>
            <a:ext cx="45370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500040" y="285840"/>
            <a:ext cx="82296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иаграмма плотности инвазии глободер на земельных участках Зеленоборского за период 2010 – 2012г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804000" y="1413000"/>
            <a:ext cx="2340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0 – 49 цист на 0,025 га  </a:t>
            </a:r>
            <a:r>
              <a:rPr b="0" lang="en-GB" sz="2800" spc="-1" strike="noStrike">
                <a:solidFill>
                  <a:srgbClr val="00b0f0"/>
                </a:solidFill>
                <a:latin typeface="Times New Roman"/>
              </a:rPr>
              <a:t>низкая (82%)</a:t>
            </a:r>
            <a:r>
              <a:rPr b="0" lang="ar-SA" sz="2800" spc="-1" strike="noStrike">
                <a:solidFill>
                  <a:srgbClr val="00b0f0"/>
                </a:solidFill>
                <a:latin typeface="Times New Roman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0 – 100 цист на 0,025 га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средняя (13%)</a:t>
            </a:r>
            <a:r>
              <a:rPr b="0" lang="ar-SA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более 100 цист на 0,025 га </a:t>
            </a:r>
            <a:r>
              <a:rPr b="0" lang="en-GB" sz="2800" spc="-1" strike="noStrike">
                <a:solidFill>
                  <a:srgbClr val="92d050"/>
                </a:solidFill>
                <a:latin typeface="Times New Roman"/>
              </a:rPr>
              <a:t>высокая (5%)</a:t>
            </a:r>
            <a:r>
              <a:rPr b="0" lang="ar-SA" sz="2800" spc="-1" strike="noStrike">
                <a:solidFill>
                  <a:srgbClr val="92d050"/>
                </a:solidFill>
                <a:latin typeface="Times New Roman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71680" y="1714680"/>
            <a:ext cx="3925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Object 11"/>
          <p:cNvGraphicFramePr/>
          <p:nvPr/>
        </p:nvGraphicFramePr>
        <p:xfrm>
          <a:off x="0" y="2565360"/>
          <a:ext cx="6875640" cy="287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5360"/>
                    <a:ext cx="68756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1"/>
          <p:cNvGraphicFramePr/>
          <p:nvPr/>
        </p:nvGraphicFramePr>
        <p:xfrm>
          <a:off x="1547640" y="2565360"/>
          <a:ext cx="57610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565360"/>
                    <a:ext cx="57610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8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инамика количества цист ЗКН, обнаруженных на земельных участках поселка Зеленоборский за период 2010 – 2012гг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Object 1"/>
          <p:cNvGraphicFramePr/>
          <p:nvPr/>
        </p:nvGraphicFramePr>
        <p:xfrm>
          <a:off x="179280" y="189000"/>
          <a:ext cx="8964720" cy="64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64720" cy="64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600200"/>
            <a:ext cx="822960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9280" y="148428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ЗКН в настоящее время занимает значительные земельные  площади Кандалакшского и Терского районов Мурманской обла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Нематода наносит как прямой так и косвенный вред растениям, вызывая  снижение иммунитета и рост заболеваемос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В условиях Севера нематода служит проводником возбудителей таких болезней картофеля как фитофтороз и ризоктонио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Для предотвращения распространения опасных вредителей картофеля  и снижения их вредоносности необходима разъяснительная  работа среди населения  по данной проблеме. Для этого применены материалы исследований по данной тем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Эффективность пропагандистской работы среди населения поселка отмечена снижением степени зараженности земельных участков ЗКН за период с 2010 по 2012гг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рямоугольник 3"/>
          <p:cNvSpPr/>
          <p:nvPr/>
        </p:nvSpPr>
        <p:spPr>
          <a:xfrm>
            <a:off x="179280" y="119700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матоды, в настоящее время, образуют группу организмов, переживающих ярко выраженный биологический прогрес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азитирующие формы фитонематод становятся серьезным врагом  сельскохозяйственных растений на территории Мурманской области. Вызывая механическое повреждение клеток и тканей растительного организма,  фитогельминт  яваляется проводником и  переносчиком возбудителей болезней сельскохозяйственных культу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ктуальным является поиск эффективных путей управления численностью  почвенных вредителей и их пропаганда среди населения . Результаты проделанной работы по исследованию ЗКН практически эффективны в решении этой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ерспективе экологическое исследование других вредителей сельскохозяйственных культур на территории п. Зеленоборского и выработка мер по их локал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Актуальность  пробле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2"/>
          <p:cNvGrpSpPr/>
          <p:nvPr/>
        </p:nvGrpSpPr>
        <p:grpSpPr>
          <a:xfrm>
            <a:off x="714240" y="1428840"/>
            <a:ext cx="3784680" cy="2651040"/>
            <a:chOff x="714240" y="1428840"/>
            <a:chExt cx="3784680" cy="2651040"/>
          </a:xfrm>
        </p:grpSpPr>
        <p:pic>
          <p:nvPicPr>
            <p:cNvPr id="127" name="Picture 3" descr=""/>
            <p:cNvPicPr/>
            <p:nvPr/>
          </p:nvPicPr>
          <p:blipFill>
            <a:blip r:embed="rId1"/>
            <a:stretch/>
          </p:blipFill>
          <p:spPr>
            <a:xfrm>
              <a:off x="714240" y="1428840"/>
              <a:ext cx="3784680" cy="26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4"/>
            <p:cNvSpPr/>
            <p:nvPr/>
          </p:nvSpPr>
          <p:spPr>
            <a:xfrm>
              <a:off x="714240" y="1428840"/>
              <a:ext cx="378468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3871800" cy="2576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11280" y="4259160"/>
            <a:ext cx="3744720" cy="259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3600720" cy="2700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Цел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ь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бо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 земельных участков поселка Зеленоборский на предмет исследования карантинного объекта золотистой картофельной нематоды для повышения культуры ведения приусадебных хозяйств и организации содержательного взаимодействия различных групп населения и объектов социума в решении  проблем  локализации патогенов культуры картофел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03400"/>
            <a:ext cx="82281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395280" y="112536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на основе договора с Управлением Россельхознадзора по Мурманской области провести карантинное обследование территории посёлка на наличие ЗК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создать карту зараженности земельных участков поселка Зеленоборский  золотистой  картофельной нематод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делать вывод по динамике степени заражённости земельных участков за период исследований с 2010 по 2012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ть, опубликовать и распространить материалы, пропагандирующие научный подход в ведении личных приусадебных хозяй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анализировать состояние зараженности карантинным объектом  сельскохозяйственных земель Мурманской обла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едставить результаты исследований  на очередной  предпосевной конференции  для  владельцев земельных участков и  в администрацию поселка Зленобор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Материалы и методы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132000" y="1125360"/>
            <a:ext cx="55533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образцы  почвенных и растительных проб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клубни картофеля с зараженных  нематодой участ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етод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визуального обследования раст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отбо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анализ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почвенных и растительных проб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 идентификации и определения жизнеспособности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цист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картофельн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й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нема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ы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- статистический мето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метод срав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34196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</a:t>
            </a:r>
            <a:r>
              <a:rPr b="1" lang="en-GB" sz="2800" spc="-1" strike="noStrike">
                <a:solidFill>
                  <a:srgbClr val="feec94"/>
                </a:solidFill>
                <a:latin typeface="Times New Roman"/>
              </a:rPr>
              <a:t> школьно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м</a:t>
            </a:r>
            <a:r>
              <a:rPr b="1" lang="en-GB" sz="2800" spc="-1" strike="noStrike">
                <a:solidFill>
                  <a:srgbClr val="feec94"/>
                </a:solidFill>
                <a:latin typeface="Times New Roman"/>
              </a:rPr>
              <a:t> микроскоп</a:t>
            </a: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2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3640" y="40428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eec94"/>
                </a:solidFill>
                <a:latin typeface="Times New Roman"/>
              </a:rPr>
              <a:t>В электронном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                  </a:t>
            </a:r>
            <a:r>
              <a:rPr b="1" lang="en-GB" sz="3200" spc="-1" strike="noStrike">
                <a:solidFill>
                  <a:srgbClr val="feec94"/>
                </a:solidFill>
                <a:latin typeface="Times New Roman"/>
              </a:rPr>
              <a:t>микроскоп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136512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1633320" cy="22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251280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6227640" y="3573360"/>
            <a:ext cx="2571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имптомы болезней картофел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Объект 3" descr="http://www.agroatlas.ru/content/diseases/Solani/Solani_Phytophthora_infestans/Solani_Phytophthora_infestans.jpg"/>
          <p:cNvPicPr/>
          <p:nvPr/>
        </p:nvPicPr>
        <p:blipFill>
          <a:blip r:embed="rId1"/>
          <a:stretch/>
        </p:blipFill>
        <p:spPr>
          <a:xfrm>
            <a:off x="684360" y="1989000"/>
            <a:ext cx="1847880" cy="3449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46160" y="1599840"/>
            <a:ext cx="4038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Картинка 2 из 85"/>
          <p:cNvPicPr/>
          <p:nvPr/>
        </p:nvPicPr>
        <p:blipFill>
          <a:blip r:embed="rId2"/>
          <a:stretch/>
        </p:blipFill>
        <p:spPr>
          <a:xfrm>
            <a:off x="6659640" y="1628640"/>
            <a:ext cx="196524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tomatolateblight3stem_robwick-757604"/>
          <p:cNvPicPr/>
          <p:nvPr/>
        </p:nvPicPr>
        <p:blipFill>
          <a:blip r:embed="rId3"/>
          <a:stretch/>
        </p:blipFill>
        <p:spPr>
          <a:xfrm>
            <a:off x="3492360" y="3716280"/>
            <a:ext cx="2308320" cy="2183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Users\Ирина\Desktop\Фото картошки и морковки\SAM_3141.JPG"/>
          <p:cNvPicPr/>
          <p:nvPr/>
        </p:nvPicPr>
        <p:blipFill>
          <a:blip r:embed="rId4"/>
          <a:stretch/>
        </p:blipFill>
        <p:spPr>
          <a:xfrm>
            <a:off x="3492360" y="17002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C:\Users\Ирина\Desktop\Фото картошки и морковки\SAM_3132.JPG"/>
          <p:cNvPicPr/>
          <p:nvPr/>
        </p:nvPicPr>
        <p:blipFill>
          <a:blip r:embed="rId5"/>
          <a:stretch/>
        </p:blipFill>
        <p:spPr>
          <a:xfrm>
            <a:off x="6659640" y="4149720"/>
            <a:ext cx="1979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eec94"/>
                </a:solidFill>
                <a:latin typeface="Times New Roman"/>
              </a:rPr>
              <a:t>В процессе исследований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: в школе, в поле, в лаборатории Россельхознадзора, на предпосевной конферен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Group 2"/>
          <p:cNvGrpSpPr/>
          <p:nvPr/>
        </p:nvGrpSpPr>
        <p:grpSpPr>
          <a:xfrm>
            <a:off x="3492360" y="1989000"/>
            <a:ext cx="2232000" cy="1657440"/>
            <a:chOff x="3492360" y="1989000"/>
            <a:chExt cx="2232000" cy="1657440"/>
          </a:xfrm>
        </p:grpSpPr>
        <p:pic>
          <p:nvPicPr>
            <p:cNvPr id="155" name="Picture 3" descr=""/>
            <p:cNvPicPr/>
            <p:nvPr/>
          </p:nvPicPr>
          <p:blipFill>
            <a:blip r:embed="rId1"/>
            <a:stretch/>
          </p:blipFill>
          <p:spPr>
            <a:xfrm>
              <a:off x="3492360" y="1989000"/>
              <a:ext cx="223200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4"/>
            <p:cNvSpPr/>
            <p:nvPr/>
          </p:nvSpPr>
          <p:spPr>
            <a:xfrm>
              <a:off x="3492360" y="1989000"/>
              <a:ext cx="22320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366840" y="1989000"/>
            <a:ext cx="2333520" cy="165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6443640" y="1989000"/>
            <a:ext cx="2340000" cy="16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1403280" y="4365720"/>
            <a:ext cx="2793960" cy="180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F:\конференция\предпосевная конференция 2011\SAM_2419.JPG"/>
          <p:cNvPicPr/>
          <p:nvPr/>
        </p:nvPicPr>
        <p:blipFill>
          <a:blip r:embed="rId5"/>
          <a:stretch/>
        </p:blipFill>
        <p:spPr>
          <a:xfrm>
            <a:off x="4572000" y="4365720"/>
            <a:ext cx="2749680" cy="1871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3" dur="1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Полученные результ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914400" y="1500120"/>
            <a:ext cx="722952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15091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При визуальном обследовании выявлены растения с внешними проявлениями глободероза и болезней картофеля - фитофтороза и ризоктониоз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В почвенных пробах выделены цисты ЗКН и идентифицированы по морфологическим признакам. Анализ на жизнеспособность выделенных цист дал положительный результа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Составлена карта зараженности  земельных участков поселка Зеленоборский ЗК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Составлена диаграмма плотности инвазии глободер на земельных участках Зеленоборского за три го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В результате проведённого мониторинга степени зараженности земельных участков   посёлка Зеленоборский ЗКН за период 2010 – 2012г.г. определено снижение заражённости земельных участков на 80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Установлена зависимость снижения иммунитета растений от поражения нематод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Опубликованы материалы для владельцев земельных участков в виде буклетов «Нематода с огорода», «Если картошка заболела…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Организовано ежегодное проведение предпосевной конференции собственников земельных участков поселка Зеленоборский для оказания всесторонней помощи и обмена опытом в борьбе с золотистой картофельной нематодой и болезнями культур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на динамика степени зараженности сельскохозяйственных земель Мурманской области карантинным объектом за период 2009 – 2012гг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ана</dc:creator>
  <dc:description/>
  <dc:language>en-US</dc:language>
  <cp:lastModifiedBy>Диана</cp:lastModifiedBy>
  <dcterms:modified xsi:type="dcterms:W3CDTF">2013-05-04T17:47:23Z</dcterms:modified>
  <cp:revision>57</cp:revision>
  <dc:subject/>
  <dc:title>«Экологический мониторинг земельных участков на предмет исследования золотистой картофельной нематоды»</dc:title>
</cp:coreProperties>
</file>