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3.wmf" ContentType="image/x-wmf"/>
  <Override PartName="/ppt/media/image5.jpeg" ContentType="image/jpeg"/>
  <Override PartName="/ppt/media/image4.jpeg" ContentType="image/jpeg"/>
  <Override PartName="/ppt/media/image24.wmf" ContentType="image/x-wmf"/>
  <Override PartName="/ppt/media/image22.jpeg" ContentType="image/jpeg"/>
  <Override PartName="/ppt/media/image17.jpeg" ContentType="image/jpeg"/>
  <Override PartName="/ppt/media/image2.jpeg" ContentType="image/jpeg"/>
  <Override PartName="/ppt/media/image25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57EE2-476C-4E3F-A6E3-8E347ADD9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D89F-634B-40B1-8567-99CF59198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0732-0212-4DCC-9910-272B3DE2E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04F4D-2789-485D-A9A8-DA64B8084A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99D99-54B1-4A9B-A1EC-3051E69CE4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0A1F6-8304-42F3-9172-1B2FE18412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E5DBF-4A1A-46AE-9CAD-CA671CE74C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4FE9A-6462-41CB-8111-F83D7F0785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95461-B733-4050-82BC-A162047C2C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-203040"/>
            <a:ext cx="8228160" cy="97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6B8B8-D944-4554-B807-F2E072D135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6695C-D2C2-467F-984A-699880C110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57A90-FE90-460D-9D7C-C82857FBE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00F5C-4074-425E-83B9-0D2D5B545C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C71B1-38D5-4AC6-9500-1E2FBF43A3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2A6EE-42F7-467A-8098-2D654150B5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6FB3C-CD12-4902-8972-38ECC07042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279FD-E8AA-438A-8F90-F7B1B08035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ED51-ED49-4ECB-B6EC-B26399A244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B7EED-4EEC-41A6-89C2-9D8EB43177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7A17E-96F0-4B39-8A91-866B1FA6F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-203040"/>
            <a:ext cx="8228160" cy="97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417EC-564C-4ED6-8BFB-1A527BC83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3F3CB-39C2-4DDA-AFE3-DCE6A20AA6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6D749-1EC1-422D-B476-93BBD82F1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B7235-51A9-4CFC-8F58-CD1E952CA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2560" cy="6932160"/>
            <a:chOff x="0" y="0"/>
            <a:chExt cx="9142560" cy="6932160"/>
          </a:xfrm>
        </p:grpSpPr>
        <p:sp>
          <p:nvSpPr>
            <p:cNvPr id="1" name="Freeform 2"/>
            <p:cNvSpPr/>
            <p:nvPr/>
          </p:nvSpPr>
          <p:spPr>
            <a:xfrm>
              <a:off x="0" y="3504240"/>
              <a:ext cx="3991680" cy="3126240"/>
            </a:xfrm>
            <a:custGeom>
              <a:avLst/>
              <a:gdLst>
                <a:gd name="textAreaLeft" fmla="*/ 0 w 3991680"/>
                <a:gd name="textAreaRight" fmla="*/ 3992040 w 3991680"/>
                <a:gd name="textAreaTop" fmla="*/ 0 h 3126240"/>
                <a:gd name="textAreaBottom" fmla="*/ 3126600 h 312624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3961440"/>
              <a:ext cx="3351960" cy="2545560"/>
            </a:xfrm>
            <a:custGeom>
              <a:avLst/>
              <a:gdLst>
                <a:gd name="textAreaLeft" fmla="*/ 0 w 3351960"/>
                <a:gd name="textAreaRight" fmla="*/ 3352320 w 3351960"/>
                <a:gd name="textAreaTop" fmla="*/ 0 h 2545560"/>
                <a:gd name="textAreaBottom" fmla="*/ 2545920 h 254556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3320280" y="5131080"/>
              <a:ext cx="5821920" cy="1496160"/>
            </a:xfrm>
            <a:custGeom>
              <a:avLst/>
              <a:gdLst>
                <a:gd name="textAreaLeft" fmla="*/ 0 w 5821920"/>
                <a:gd name="textAreaRight" fmla="*/ 5821920 w 5821920"/>
                <a:gd name="textAreaTop" fmla="*/ 0 h 1496160"/>
                <a:gd name="textAreaBottom" fmla="*/ 1496520 h 149616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831600"/>
              <a:ext cx="1544400" cy="1896120"/>
            </a:xfrm>
            <a:custGeom>
              <a:avLst/>
              <a:gdLst>
                <a:gd name="textAreaLeft" fmla="*/ 0 w 1544400"/>
                <a:gd name="textAreaRight" fmla="*/ 1544760 w 1544400"/>
                <a:gd name="textAreaTop" fmla="*/ 0 h 1896120"/>
                <a:gd name="textAreaBottom" fmla="*/ 1896480 h 189612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5059800" y="1080"/>
              <a:ext cx="4079160" cy="3596400"/>
            </a:xfrm>
            <a:custGeom>
              <a:avLst/>
              <a:gdLst>
                <a:gd name="textAreaLeft" fmla="*/ 0 w 4079160"/>
                <a:gd name="textAreaRight" fmla="*/ 4079520 w 4079160"/>
                <a:gd name="textAreaTop" fmla="*/ 0 h 3596400"/>
                <a:gd name="textAreaBottom" fmla="*/ 3596760 h 359640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5594760" y="1080"/>
              <a:ext cx="3468240" cy="2393280"/>
            </a:xfrm>
            <a:custGeom>
              <a:avLst/>
              <a:gdLst>
                <a:gd name="textAreaLeft" fmla="*/ 0 w 3468240"/>
                <a:gd name="textAreaRight" fmla="*/ 3468600 w 3468240"/>
                <a:gd name="textAreaTop" fmla="*/ 0 h 2393280"/>
                <a:gd name="textAreaBottom" fmla="*/ 2393280 h 239328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1029960"/>
              <a:ext cx="1294920" cy="1279080"/>
            </a:xfrm>
            <a:custGeom>
              <a:avLst/>
              <a:gdLst>
                <a:gd name="textAreaLeft" fmla="*/ 0 w 1294920"/>
                <a:gd name="textAreaRight" fmla="*/ 1295280 w 1294920"/>
                <a:gd name="textAreaTop" fmla="*/ 0 h 1279080"/>
                <a:gd name="textAreaBottom" fmla="*/ 1279440 h 127908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2451960"/>
              <a:ext cx="1209240" cy="169560"/>
            </a:xfrm>
            <a:custGeom>
              <a:avLst/>
              <a:gdLst>
                <a:gd name="textAreaLeft" fmla="*/ 0 w 1209240"/>
                <a:gd name="textAreaRight" fmla="*/ 1209600 w 1209240"/>
                <a:gd name="textAreaTop" fmla="*/ 0 h 169560"/>
                <a:gd name="textAreaBottom" fmla="*/ 169560 h 16956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3672720" y="5445360"/>
              <a:ext cx="5050440" cy="1182240"/>
            </a:xfrm>
            <a:custGeom>
              <a:avLst/>
              <a:gdLst>
                <a:gd name="textAreaLeft" fmla="*/ 0 w 5050440"/>
                <a:gd name="textAreaRight" fmla="*/ 5050800 w 5050440"/>
                <a:gd name="textAreaTop" fmla="*/ 0 h 1182240"/>
                <a:gd name="textAreaBottom" fmla="*/ 1182600 h 118224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304560" y="20124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323640" y="20772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0" y="6399000"/>
              <a:ext cx="9142560" cy="45684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0" y="6399000"/>
              <a:ext cx="9142560" cy="5331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0" y="0"/>
              <a:ext cx="9142560" cy="45684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807840" y="363240"/>
              <a:ext cx="5059800" cy="3211920"/>
            </a:xfrm>
            <a:custGeom>
              <a:avLst/>
              <a:gdLst>
                <a:gd name="textAreaLeft" fmla="*/ 0 w 5059800"/>
                <a:gd name="textAreaRight" fmla="*/ 5060160 w 5059800"/>
                <a:gd name="textAreaTop" fmla="*/ 0 h 3211920"/>
                <a:gd name="textAreaBottom" fmla="*/ 3212280 h 321192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133360" y="464760"/>
              <a:ext cx="3402720" cy="2835720"/>
            </a:xfrm>
            <a:custGeom>
              <a:avLst/>
              <a:gdLst>
                <a:gd name="textAreaLeft" fmla="*/ 0 w 3402720"/>
                <a:gd name="textAreaRight" fmla="*/ 3403080 w 3402720"/>
                <a:gd name="textAreaTop" fmla="*/ 0 h 2835720"/>
                <a:gd name="textAreaBottom" fmla="*/ 2836080 h 283572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4653360" y="2742480"/>
              <a:ext cx="4488840" cy="3754800"/>
            </a:xfrm>
            <a:custGeom>
              <a:avLst/>
              <a:gdLst>
                <a:gd name="textAreaLeft" fmla="*/ 0 w 4488840"/>
                <a:gd name="textAreaRight" fmla="*/ 4489200 w 4488840"/>
                <a:gd name="textAreaTop" fmla="*/ 0 h 3754800"/>
                <a:gd name="textAreaBottom" fmla="*/ 3755160 h 375480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5015520" y="2951640"/>
              <a:ext cx="3431520" cy="3069000"/>
            </a:xfrm>
            <a:custGeom>
              <a:avLst/>
              <a:gdLst>
                <a:gd name="textAreaLeft" fmla="*/ 0 w 3431520"/>
                <a:gd name="textAreaRight" fmla="*/ 3431880 w 3431520"/>
                <a:gd name="textAreaTop" fmla="*/ 0 h 3069000"/>
                <a:gd name="textAreaBottom" fmla="*/ 3069360 h 306900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Text Box 22"/>
          <p:cNvSpPr/>
          <p:nvPr/>
        </p:nvSpPr>
        <p:spPr>
          <a:xfrm>
            <a:off x="457200" y="624852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Text Box 23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2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F49B73-0664-49E4-8F1A-0A22C5FD980F}" type="slidenum">
              <a:rPr b="0" lang="en-GB" sz="1400" spc="-1" strike="noStrike">
                <a:solidFill>
                  <a:srgbClr val="00002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"/>
          <p:cNvGrpSpPr/>
          <p:nvPr/>
        </p:nvGrpSpPr>
        <p:grpSpPr>
          <a:xfrm>
            <a:off x="0" y="0"/>
            <a:ext cx="9142560" cy="6932160"/>
            <a:chOff x="0" y="0"/>
            <a:chExt cx="9142560" cy="6932160"/>
          </a:xfrm>
        </p:grpSpPr>
        <p:sp>
          <p:nvSpPr>
            <p:cNvPr id="61" name="Freeform 2"/>
            <p:cNvSpPr/>
            <p:nvPr/>
          </p:nvSpPr>
          <p:spPr>
            <a:xfrm>
              <a:off x="0" y="3504240"/>
              <a:ext cx="3991680" cy="3126240"/>
            </a:xfrm>
            <a:custGeom>
              <a:avLst/>
              <a:gdLst>
                <a:gd name="textAreaLeft" fmla="*/ 0 w 3991680"/>
                <a:gd name="textAreaRight" fmla="*/ 3992040 w 3991680"/>
                <a:gd name="textAreaTop" fmla="*/ 0 h 3126240"/>
                <a:gd name="textAreaBottom" fmla="*/ 3126600 h 312624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3"/>
            <p:cNvSpPr/>
            <p:nvPr/>
          </p:nvSpPr>
          <p:spPr>
            <a:xfrm>
              <a:off x="0" y="3961440"/>
              <a:ext cx="3351960" cy="2545560"/>
            </a:xfrm>
            <a:custGeom>
              <a:avLst/>
              <a:gdLst>
                <a:gd name="textAreaLeft" fmla="*/ 0 w 3351960"/>
                <a:gd name="textAreaRight" fmla="*/ 3352320 w 3351960"/>
                <a:gd name="textAreaTop" fmla="*/ 0 h 2545560"/>
                <a:gd name="textAreaBottom" fmla="*/ 2545920 h 254556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3320280" y="5131080"/>
              <a:ext cx="5821920" cy="1496160"/>
            </a:xfrm>
            <a:custGeom>
              <a:avLst/>
              <a:gdLst>
                <a:gd name="textAreaLeft" fmla="*/ 0 w 5821920"/>
                <a:gd name="textAreaRight" fmla="*/ 5821920 w 5821920"/>
                <a:gd name="textAreaTop" fmla="*/ 0 h 1496160"/>
                <a:gd name="textAreaBottom" fmla="*/ 1496520 h 149616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0" y="831600"/>
              <a:ext cx="1544400" cy="1896120"/>
            </a:xfrm>
            <a:custGeom>
              <a:avLst/>
              <a:gdLst>
                <a:gd name="textAreaLeft" fmla="*/ 0 w 1544400"/>
                <a:gd name="textAreaRight" fmla="*/ 1544760 w 1544400"/>
                <a:gd name="textAreaTop" fmla="*/ 0 h 1896120"/>
                <a:gd name="textAreaBottom" fmla="*/ 1896480 h 189612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5059800" y="1080"/>
              <a:ext cx="4079160" cy="3596400"/>
            </a:xfrm>
            <a:custGeom>
              <a:avLst/>
              <a:gdLst>
                <a:gd name="textAreaLeft" fmla="*/ 0 w 4079160"/>
                <a:gd name="textAreaRight" fmla="*/ 4079520 w 4079160"/>
                <a:gd name="textAreaTop" fmla="*/ 0 h 3596400"/>
                <a:gd name="textAreaBottom" fmla="*/ 3596760 h 359640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5594760" y="1080"/>
              <a:ext cx="3468240" cy="2393280"/>
            </a:xfrm>
            <a:custGeom>
              <a:avLst/>
              <a:gdLst>
                <a:gd name="textAreaLeft" fmla="*/ 0 w 3468240"/>
                <a:gd name="textAreaRight" fmla="*/ 3468600 w 3468240"/>
                <a:gd name="textAreaTop" fmla="*/ 0 h 2393280"/>
                <a:gd name="textAreaBottom" fmla="*/ 2393280 h 239328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0" y="1029960"/>
              <a:ext cx="1294920" cy="1279080"/>
            </a:xfrm>
            <a:custGeom>
              <a:avLst/>
              <a:gdLst>
                <a:gd name="textAreaLeft" fmla="*/ 0 w 1294920"/>
                <a:gd name="textAreaRight" fmla="*/ 1295280 w 1294920"/>
                <a:gd name="textAreaTop" fmla="*/ 0 h 1279080"/>
                <a:gd name="textAreaBottom" fmla="*/ 1279440 h 127908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0" y="2451960"/>
              <a:ext cx="1209240" cy="169560"/>
            </a:xfrm>
            <a:custGeom>
              <a:avLst/>
              <a:gdLst>
                <a:gd name="textAreaLeft" fmla="*/ 0 w 1209240"/>
                <a:gd name="textAreaRight" fmla="*/ 1209600 w 1209240"/>
                <a:gd name="textAreaTop" fmla="*/ 0 h 169560"/>
                <a:gd name="textAreaBottom" fmla="*/ 169560 h 16956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3672720" y="5445360"/>
              <a:ext cx="5050440" cy="1182240"/>
            </a:xfrm>
            <a:custGeom>
              <a:avLst/>
              <a:gdLst>
                <a:gd name="textAreaLeft" fmla="*/ 0 w 5050440"/>
                <a:gd name="textAreaRight" fmla="*/ 5050800 w 5050440"/>
                <a:gd name="textAreaTop" fmla="*/ 0 h 1182240"/>
                <a:gd name="textAreaBottom" fmla="*/ 1182600 h 118224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1"/>
            <p:cNvSpPr/>
            <p:nvPr/>
          </p:nvSpPr>
          <p:spPr>
            <a:xfrm>
              <a:off x="304560" y="20124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2"/>
            <p:cNvSpPr/>
            <p:nvPr/>
          </p:nvSpPr>
          <p:spPr>
            <a:xfrm>
              <a:off x="323640" y="20772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0" y="6399000"/>
              <a:ext cx="9142560" cy="45684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0" y="6399000"/>
              <a:ext cx="9142560" cy="5331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0" y="0"/>
              <a:ext cx="9142560" cy="45684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807840" y="363240"/>
              <a:ext cx="5059800" cy="3211920"/>
            </a:xfrm>
            <a:custGeom>
              <a:avLst/>
              <a:gdLst>
                <a:gd name="textAreaLeft" fmla="*/ 0 w 5059800"/>
                <a:gd name="textAreaRight" fmla="*/ 5060160 w 5059800"/>
                <a:gd name="textAreaTop" fmla="*/ 0 h 3211920"/>
                <a:gd name="textAreaBottom" fmla="*/ 3212280 h 321192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2133360" y="464760"/>
              <a:ext cx="3402720" cy="2835720"/>
            </a:xfrm>
            <a:custGeom>
              <a:avLst/>
              <a:gdLst>
                <a:gd name="textAreaLeft" fmla="*/ 0 w 3402720"/>
                <a:gd name="textAreaRight" fmla="*/ 3403080 w 3402720"/>
                <a:gd name="textAreaTop" fmla="*/ 0 h 2835720"/>
                <a:gd name="textAreaBottom" fmla="*/ 2836080 h 283572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4653360" y="2742480"/>
              <a:ext cx="4488840" cy="3754800"/>
            </a:xfrm>
            <a:custGeom>
              <a:avLst/>
              <a:gdLst>
                <a:gd name="textAreaLeft" fmla="*/ 0 w 4488840"/>
                <a:gd name="textAreaRight" fmla="*/ 4489200 w 4488840"/>
                <a:gd name="textAreaTop" fmla="*/ 0 h 3754800"/>
                <a:gd name="textAreaBottom" fmla="*/ 3755160 h 375480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5015520" y="2951640"/>
              <a:ext cx="3431520" cy="3069000"/>
            </a:xfrm>
            <a:custGeom>
              <a:avLst/>
              <a:gdLst>
                <a:gd name="textAreaLeft" fmla="*/ 0 w 3431520"/>
                <a:gd name="textAreaRight" fmla="*/ 3431880 w 3431520"/>
                <a:gd name="textAreaTop" fmla="*/ 0 h 3069000"/>
                <a:gd name="textAreaBottom" fmla="*/ 3069360 h 306900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457200" y="624852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144597-D662-4781-B541-E5E9ABE42D7E}" type="slidenum">
              <a:rPr b="0" lang="en-GB" sz="1400" spc="-1" strike="noStrike">
                <a:solidFill>
                  <a:srgbClr val="ffffff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990720" y="297000"/>
            <a:ext cx="77724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eec94"/>
                </a:solidFill>
                <a:latin typeface="Times New Roman"/>
              </a:rPr>
              <a:t>Экологический мониторинг земельных участков поселка Зеленоборский на предмет исследования золотистой картофельной нематод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1371600" y="3886200"/>
            <a:ext cx="6400800" cy="1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учные р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уководители: И.В.Новиков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Л.А.Томаро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Работу выполнил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рисова Алён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учениц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класс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ОУ СОШ №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Group 2"/>
          <p:cNvGrpSpPr/>
          <p:nvPr/>
        </p:nvGrpSpPr>
        <p:grpSpPr>
          <a:xfrm>
            <a:off x="179280" y="4481640"/>
            <a:ext cx="2506680" cy="2376360"/>
            <a:chOff x="179280" y="4481640"/>
            <a:chExt cx="2506680" cy="2376360"/>
          </a:xfrm>
        </p:grpSpPr>
        <p:pic>
          <p:nvPicPr>
            <p:cNvPr id="123" name="Picture 3" descr=""/>
            <p:cNvPicPr/>
            <p:nvPr/>
          </p:nvPicPr>
          <p:blipFill>
            <a:blip r:embed="rId1"/>
            <a:stretch/>
          </p:blipFill>
          <p:spPr>
            <a:xfrm>
              <a:off x="179280" y="4481640"/>
              <a:ext cx="250668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4"/>
            <p:cNvSpPr/>
            <p:nvPr/>
          </p:nvSpPr>
          <p:spPr>
            <a:xfrm>
              <a:off x="179280" y="4481640"/>
              <a:ext cx="250668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Карта заражённости земельных участков 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оселка Зеленоборский золотистой картофельной нематодой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4572000" y="2637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C:\Users\Ирина\Desktop\нематода 2013\Новая папка\SAM_4882.JPG"/>
          <p:cNvPicPr/>
          <p:nvPr/>
        </p:nvPicPr>
        <p:blipFill>
          <a:blip r:embed="rId2"/>
          <a:stretch/>
        </p:blipFill>
        <p:spPr>
          <a:xfrm>
            <a:off x="0" y="2637000"/>
            <a:ext cx="453708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500040" y="285840"/>
            <a:ext cx="82296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иаграмма плотности инвазии глободер на земельных участках Зеленоборского за период 2010 – 2012г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6804000" y="1413000"/>
            <a:ext cx="2340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0 – 49 цист на 0,025 га  </a:t>
            </a:r>
            <a:r>
              <a:rPr b="0" lang="en-GB" sz="2800" spc="-1" strike="noStrike">
                <a:solidFill>
                  <a:srgbClr val="00b0f0"/>
                </a:solidFill>
                <a:latin typeface="Times New Roman"/>
              </a:rPr>
              <a:t>низкая (82%)</a:t>
            </a:r>
            <a:r>
              <a:rPr b="0" lang="ar-SA" sz="2800" spc="-1" strike="noStrike">
                <a:solidFill>
                  <a:srgbClr val="00b0f0"/>
                </a:solidFill>
                <a:latin typeface="Times New Roman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50 – 100 цист на 0,025 га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средняя (13%)</a:t>
            </a:r>
            <a:r>
              <a:rPr b="0" lang="ar-SA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более 100 цист на 0,025 га </a:t>
            </a:r>
            <a:r>
              <a:rPr b="0" lang="en-GB" sz="2800" spc="-1" strike="noStrike">
                <a:solidFill>
                  <a:srgbClr val="92d050"/>
                </a:solidFill>
                <a:latin typeface="Times New Roman"/>
              </a:rPr>
              <a:t>высокая (5%)</a:t>
            </a:r>
            <a:r>
              <a:rPr b="0" lang="ar-SA" sz="2800" spc="-1" strike="noStrike">
                <a:solidFill>
                  <a:srgbClr val="92d050"/>
                </a:solidFill>
                <a:latin typeface="Times New Roman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571680" y="1714680"/>
            <a:ext cx="3925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Object 11"/>
          <p:cNvGraphicFramePr/>
          <p:nvPr/>
        </p:nvGraphicFramePr>
        <p:xfrm>
          <a:off x="0" y="2565360"/>
          <a:ext cx="6875640" cy="287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65360"/>
                    <a:ext cx="687564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Object 1"/>
          <p:cNvGraphicFramePr/>
          <p:nvPr/>
        </p:nvGraphicFramePr>
        <p:xfrm>
          <a:off x="1547640" y="2565360"/>
          <a:ext cx="576108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565360"/>
                    <a:ext cx="57610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8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Динамика количества цист ЗКН, обнаруженных на земельных участках поселка Зеленоборский за период 2010 – 2012гг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Object 1"/>
          <p:cNvGraphicFramePr/>
          <p:nvPr/>
        </p:nvGraphicFramePr>
        <p:xfrm>
          <a:off x="179280" y="189000"/>
          <a:ext cx="8964720" cy="64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8964720" cy="64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457200" y="1600200"/>
            <a:ext cx="8229600" cy="56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179280" y="148428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ЗКН в настоящее время занимает значительные земельные  площади Кандалакшского и Терского районов Мурманской област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Нематода наносит как прямой так и косвенный вред растениям, вызывая  снижение иммунитета и рост заболеваемост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В условиях Севера нематода служит проводником возбудителей таких болезней картофеля как фитофтороз и ризоктониоз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Для предотвращения распространения опасных вредителей картофеля  и снижения их вредоносности необходима разъяснительная  работа среди населения  по данной проблеме. Для этого применены материалы исследований по данной тем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Эффективность пропагандистской работы среди населения поселка отмечена снижением степени зараженности земельных участков ЗКН за период с 2010 по 2012гг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Прямоугольник 3"/>
          <p:cNvSpPr/>
          <p:nvPr/>
        </p:nvSpPr>
        <p:spPr>
          <a:xfrm>
            <a:off x="179280" y="119700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матоды, в настоящее время, образуют группу организмов, переживающих ярко выраженный биологический прогрес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азитирующие формы фитонематод становятся серьезным врагом  сельскохозяйственных растений на территории Мурманской области. Вызывая механическое повреждение клеток и тканей растительного организма,  фитогельминт  яваляется проводником и  переносчиком возбудителей болезней сельскохозяйственных культу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ктуальным является поиск эффективных путей управления численностью  почвенных вредителей и их пропаганда среди населения . Результаты проделанной работы по исследованию ЗКН практически эффективны в решении этой пробле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ерспективе экологическое исследование других вредителей сельскохозяйственных культур на территории п. Зеленоборского и выработка мер по их локализац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457200" y="133200"/>
            <a:ext cx="82296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Актуальность  проблем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2"/>
          <p:cNvGrpSpPr/>
          <p:nvPr/>
        </p:nvGrpSpPr>
        <p:grpSpPr>
          <a:xfrm>
            <a:off x="714240" y="1428840"/>
            <a:ext cx="3784680" cy="2651040"/>
            <a:chOff x="714240" y="1428840"/>
            <a:chExt cx="3784680" cy="2651040"/>
          </a:xfrm>
        </p:grpSpPr>
        <p:pic>
          <p:nvPicPr>
            <p:cNvPr id="127" name="Picture 3" descr=""/>
            <p:cNvPicPr/>
            <p:nvPr/>
          </p:nvPicPr>
          <p:blipFill>
            <a:blip r:embed="rId1"/>
            <a:stretch/>
          </p:blipFill>
          <p:spPr>
            <a:xfrm>
              <a:off x="714240" y="1428840"/>
              <a:ext cx="3784680" cy="26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4"/>
            <p:cNvSpPr/>
            <p:nvPr/>
          </p:nvSpPr>
          <p:spPr>
            <a:xfrm>
              <a:off x="714240" y="1428840"/>
              <a:ext cx="3784680" cy="26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4572000" y="1428840"/>
            <a:ext cx="3871800" cy="2576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611280" y="4259160"/>
            <a:ext cx="3744720" cy="2598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4"/>
          <a:stretch/>
        </p:blipFill>
        <p:spPr>
          <a:xfrm>
            <a:off x="4716360" y="4149720"/>
            <a:ext cx="3600720" cy="270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Цел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ь</a:t>
            </a: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абот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кологический мониторинг земельных участков поселка Зеленоборский на предмет исследования карантинного объекта золотистой картофельной нематоды для повышения культуры ведения приусадебных хозяйств и организации содержательного взаимодействия различных групп населения и объектов социума в решении  проблем  локализации патогенов культуры картофел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203400"/>
            <a:ext cx="82281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дач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Прямоугольник 2"/>
          <p:cNvSpPr/>
          <p:nvPr/>
        </p:nvSpPr>
        <p:spPr>
          <a:xfrm>
            <a:off x="395280" y="112536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на основе договора с Управлением Россельхознадзора по Мурманской области провести карантинное обследование территории посёлка на наличие ЗК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 создать карту зараженности земельных участков поселка Зеленоборский  золотистой  картофельной нематодо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сделать вывод по динамике степени заражённости земельных участков за период исследований с 2010 по 2012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здать, опубликовать и распространить материалы, пропагандирующие научный подход в ведении личных приусадебных хозяйст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анализировать состояние зараженности карантинным объектом  сельскохозяйственных земель Мурманской обла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едставить результаты исследований  на очередной  предпосевной конференции  для  владельцев земельных участков и  в администрацию поселка Зленоборск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Материалы и методы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132000" y="1125360"/>
            <a:ext cx="55533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Материал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образцы  почвенных и растительных проб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клубни картофеля с зараженных  нематодой участ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М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етод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 визуального обследования растен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отбор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и анализа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почвенных и растительных проб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 идентификации и определения жизнеспособности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ист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картофельн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й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нематод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ы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 - статистический метод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метод сравн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341964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В</a:t>
            </a:r>
            <a:r>
              <a:rPr b="1" lang="en-GB" sz="2800" spc="-1" strike="noStrike">
                <a:solidFill>
                  <a:srgbClr val="feec94"/>
                </a:solidFill>
                <a:latin typeface="Times New Roman"/>
              </a:rPr>
              <a:t> школьно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м</a:t>
            </a:r>
            <a:r>
              <a:rPr b="1" lang="en-GB" sz="2800" spc="-1" strike="noStrike">
                <a:solidFill>
                  <a:srgbClr val="feec94"/>
                </a:solidFill>
                <a:latin typeface="Times New Roman"/>
              </a:rPr>
              <a:t> микроскоп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е</a:t>
            </a:r>
            <a:br>
              <a:rPr sz="20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3640" y="40428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feec94"/>
                </a:solidFill>
                <a:latin typeface="Times New Roman"/>
              </a:rPr>
              <a:t>В электронном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                      </a:t>
            </a:r>
            <a:r>
              <a:rPr b="1" lang="en-GB" sz="3200" spc="-1" strike="noStrike">
                <a:solidFill>
                  <a:srgbClr val="feec94"/>
                </a:solidFill>
                <a:latin typeface="Times New Roman"/>
              </a:rPr>
              <a:t>микроскоп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2556000" y="3933720"/>
            <a:ext cx="1365120" cy="1871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1633320" cy="2232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4788000" y="1773360"/>
            <a:ext cx="2512800" cy="158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4"/>
          <a:stretch/>
        </p:blipFill>
        <p:spPr>
          <a:xfrm>
            <a:off x="6227640" y="3573360"/>
            <a:ext cx="25718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Симптомы болезней картофеля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Объект 3" descr="http://www.agroatlas.ru/content/diseases/Solani/Solani_Phytophthora_infestans/Solani_Phytophthora_infestans.jpg"/>
          <p:cNvPicPr/>
          <p:nvPr/>
        </p:nvPicPr>
        <p:blipFill>
          <a:blip r:embed="rId1"/>
          <a:stretch/>
        </p:blipFill>
        <p:spPr>
          <a:xfrm>
            <a:off x="684360" y="1989000"/>
            <a:ext cx="1847880" cy="3449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646160" y="1599840"/>
            <a:ext cx="403884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Картинка 2 из 85"/>
          <p:cNvPicPr/>
          <p:nvPr/>
        </p:nvPicPr>
        <p:blipFill>
          <a:blip r:embed="rId2"/>
          <a:stretch/>
        </p:blipFill>
        <p:spPr>
          <a:xfrm>
            <a:off x="6659640" y="1628640"/>
            <a:ext cx="1965240" cy="1800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tomatolateblight3stem_robwick-757604"/>
          <p:cNvPicPr/>
          <p:nvPr/>
        </p:nvPicPr>
        <p:blipFill>
          <a:blip r:embed="rId3"/>
          <a:stretch/>
        </p:blipFill>
        <p:spPr>
          <a:xfrm>
            <a:off x="3492360" y="3716280"/>
            <a:ext cx="2308320" cy="2183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C:\Users\Ирина\Desktop\Фото картошки и морковки\SAM_3141.JPG"/>
          <p:cNvPicPr/>
          <p:nvPr/>
        </p:nvPicPr>
        <p:blipFill>
          <a:blip r:embed="rId4"/>
          <a:stretch/>
        </p:blipFill>
        <p:spPr>
          <a:xfrm>
            <a:off x="3492360" y="1700280"/>
            <a:ext cx="2159280" cy="161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C:\Users\Ирина\Desktop\Фото картошки и морковки\SAM_3132.JPG"/>
          <p:cNvPicPr/>
          <p:nvPr/>
        </p:nvPicPr>
        <p:blipFill>
          <a:blip r:embed="rId5"/>
          <a:stretch/>
        </p:blipFill>
        <p:spPr>
          <a:xfrm>
            <a:off x="6659640" y="4149720"/>
            <a:ext cx="1979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133200"/>
            <a:ext cx="82296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eec94"/>
                </a:solidFill>
                <a:latin typeface="Times New Roman"/>
              </a:rPr>
              <a:t>В процессе исследований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: в школе, в поле, в лаборатории Россельхознадзора, на предпосевной конферен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Group 2"/>
          <p:cNvGrpSpPr/>
          <p:nvPr/>
        </p:nvGrpSpPr>
        <p:grpSpPr>
          <a:xfrm>
            <a:off x="3492360" y="1989000"/>
            <a:ext cx="2232000" cy="1657440"/>
            <a:chOff x="3492360" y="1989000"/>
            <a:chExt cx="2232000" cy="1657440"/>
          </a:xfrm>
        </p:grpSpPr>
        <p:pic>
          <p:nvPicPr>
            <p:cNvPr id="155" name="Picture 3" descr=""/>
            <p:cNvPicPr/>
            <p:nvPr/>
          </p:nvPicPr>
          <p:blipFill>
            <a:blip r:embed="rId1"/>
            <a:stretch/>
          </p:blipFill>
          <p:spPr>
            <a:xfrm>
              <a:off x="3492360" y="1989000"/>
              <a:ext cx="223200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4"/>
            <p:cNvSpPr/>
            <p:nvPr/>
          </p:nvSpPr>
          <p:spPr>
            <a:xfrm>
              <a:off x="3492360" y="1989000"/>
              <a:ext cx="2232000" cy="16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7" name="Picture 6" descr=""/>
          <p:cNvPicPr/>
          <p:nvPr/>
        </p:nvPicPr>
        <p:blipFill>
          <a:blip r:embed="rId2"/>
          <a:stretch/>
        </p:blipFill>
        <p:spPr>
          <a:xfrm>
            <a:off x="366840" y="1989000"/>
            <a:ext cx="2333520" cy="165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3"/>
          <a:stretch/>
        </p:blipFill>
        <p:spPr>
          <a:xfrm>
            <a:off x="6443640" y="1989000"/>
            <a:ext cx="2340000" cy="1608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4"/>
          <a:stretch/>
        </p:blipFill>
        <p:spPr>
          <a:xfrm>
            <a:off x="1403280" y="4365720"/>
            <a:ext cx="2793960" cy="1800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F:\конференция\предпосевная конференция 2011\SAM_2419.JPG"/>
          <p:cNvPicPr/>
          <p:nvPr/>
        </p:nvPicPr>
        <p:blipFill>
          <a:blip r:embed="rId5"/>
          <a:stretch/>
        </p:blipFill>
        <p:spPr>
          <a:xfrm>
            <a:off x="4572000" y="4365720"/>
            <a:ext cx="2749680" cy="1871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13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457200" y="133200"/>
            <a:ext cx="82296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Полученные результат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914400" y="1500120"/>
            <a:ext cx="7229520" cy="56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15091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При визуальном обследовании выявлены растения с внешними проявлениями глободероза и болезней картофеля - фитофтороза и ризоктониоз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 В почвенных пробах выделены цисты ЗКН и идентифицированы по морфологическим признакам. Анализ на жизнеспособность выделенных цист дал положительный результ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 Составлена карта зараженности  земельных участков поселка Зеленоборский ЗК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.Составлена диаграмма плотности инвазии глободер на земельных участках Зеленоборского за три го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В результате проведённого мониторинга степени зараженности земельных участков   посёлка Зеленоборский ЗКН за период 2010 – 2012г.г. определено снижение заражённости земельных участков на 80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Установлена зависимость снижения иммунитета растений от поражения нематод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7. Опубликованы материалы для владельцев земельных участков в виде буклетов «Нематода с огорода», «Если картошка заболела…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8. Организовано ежегодное проведение предпосевной конференции собственников земельных участков поселка Зеленоборский для оказания всесторонней помощи и обмена опытом в борьбе с золотистой картофельной нематодой и болезнями культур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анализирована динамика степени зараженности сельскохозяйственных земель Мурманской области карантинным объектом за период 2009 – 2012гг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иана</dc:creator>
  <dc:description/>
  <dc:language>en-US</dc:language>
  <cp:lastModifiedBy>Диана</cp:lastModifiedBy>
  <dcterms:modified xsi:type="dcterms:W3CDTF">2013-05-04T17:47:23Z</dcterms:modified>
  <cp:revision>57</cp:revision>
  <dc:subject/>
  <dc:title>«Экологический мониторинг земельных участков на предмет исследования золотистой картофельной нематоды»</dc:title>
</cp:coreProperties>
</file>