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36F9-1805-4163-B1C5-E45EEEAD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5D8-372A-45AA-A825-EFA7D694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1C9D-9BD9-422E-AAA7-B1BDAA704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380A-A2FD-4775-B548-15DA9646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4F681-F066-43F3-BFA5-5B7BC297D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4A06A-4C9E-4E6C-B52A-83B5BFE0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67A77-2ACD-41A3-B9EB-FF8EC230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15D06-E3DB-4B41-A4F7-CB94F7AF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583F-0D58-4CBD-AA16-2F378903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05D45-4810-4B8F-AC0F-6FD1A46C5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F574B-65A3-4A34-9A69-478F79AB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2694-3CBA-40D2-AE0B-9D4940830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FDB4B-1327-4B94-B51F-B76C92758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3DCB-19B8-4A47-802E-206112DD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4D13B-3490-4486-8300-1F88599D7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B8695-F37E-46E1-9066-2C43B644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7658-281F-46FB-BAF9-ED55AB119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92CC-79A2-452A-8E17-EEA0DA02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D6EB-668C-433A-B4A5-CB450EAAC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DDFB-0BDE-423B-AFEC-7503FDF6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8719-78A0-41BD-8C18-5754C255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E042-ABDD-499B-89C2-204902478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D0C-F04C-44B2-8DD8-074CF9C2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39B2-6BAA-4F06-BD9A-91517B40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0A4D-5C2C-430A-A4C5-ADAB62ED94D0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59BD5-5A7A-4E62-883B-FD50A080B3DB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4471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5c00"/>
                </a:solidFill>
                <a:latin typeface="Times New Roman"/>
              </a:rPr>
              <a:t>Плазма</a:t>
            </a:r>
            <a:endParaRPr b="0" lang="en-US" sz="9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Text Box 1029"/>
          <p:cNvSpPr/>
          <p:nvPr/>
        </p:nvSpPr>
        <p:spPr>
          <a:xfrm>
            <a:off x="990720" y="1427040"/>
            <a:ext cx="68580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 плазмой и обычными газами имеется много общего, несмотря на то, что плазма является особой средой, в которой существенную роль играют силы кулоновского взаимодействия между заряженными частицами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войства газ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энергия взаимодействия между заряженными частицами в плазме является пренебрежимо малой в сравнении со средней кинетической энергией теплового движения, то можно считать, что плазма ведет себя, как идеальный газ, основным уравнением которого является уравнение Менделеева-Клапейрона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V=(m/M)RT ,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=nk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295280" y="1211400"/>
            <a:ext cx="632484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лазма - смесь нескольких газ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закону Дальтона полное давление смеси равно сумме парциальных давлений</a:t>
            </a: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p=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_+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(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_+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k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де p = nkT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вокупность частиц каждого из указанных ниже видов образует свой собственный газ: нейтральных атомов или молекул, электронный газ, ионный газ, фотонный газ. Смесью этих газов и является плазма. Если температура компонентов плазмы одинакова, то плазма называется изотермической (чаще всего в космических условиях). Разные компоненты газоразрядной плазмы характеризуются различной температурой. Температура электронного газа выше на порядок температуры нейтрального газа. Температура же фотонного газа еще более высокая, чем электронного. Так , в газосветных трубках (реклама) температура электронов 40000К, а температура ионов не выше 2000К. В дуговом разряде различия температур компонентов меньше.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80880" y="1356480"/>
            <a:ext cx="838224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нергия частиц и температура газа 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к как частица с массой m и скоростью v обладает кинетической энергией U 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U=mv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средняя энергия на одну молекулу </a:t>
            </a: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U=3kT/2 ,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 энергию частиц можно выразить </a:t>
            </a:r>
            <a:br>
              <a:rPr sz="1400"/>
            </a:b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=mv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/2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де энергия выражена в электронвольтах(эВ) : </a:t>
            </a: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эВ=1,6*10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</a:rPr>
              <a:t>-19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ж</a:t>
            </a: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Особенные 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609480" y="633240"/>
            <a:ext cx="8001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рисутствие свободных электрических зарядов делает плазму проводящей ток средо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что обуславливает её заметно большее (по сравнению с другими агрегатными состояниями вещества) взаимодействие с магнитным и электрическим полями, это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риводит к появлению слоёв и стру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Электроны, ионы и нейтральные частиц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различаются знаком электрического заряда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могут вести себя независимо друг от друга — иметь разные скорости и даже температур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что служит причиной появления новых явлений, например волн и неустойчивостей.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Каждая частица взаимодействует сразу со многими.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Эти коллективные взаимодействия имеют гораздо большее влияние чем двухчастичные (т.е. взаимодействие только между 2 частицами - наиболее часто встречаются в газах)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2286000" y="4038480"/>
            <a:ext cx="49528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стория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895480" y="1752480"/>
            <a:ext cx="5410440" cy="3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Четвёртое состояние вещества было открыто 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У. Круксом в 1879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Впервые термин "плазма" , ранее лишь медицинский, был использован в 1923 г. американскими физиками Ленгмюром и Тонксом, которые стали обозначать с его помощью особое состояние ионизированного газа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Лёнгмюр (1881—1957) иЛеви Тонко (1897—1971) назвали плазмой ионизованный газ в газоразрядной трубке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Английский физик Уильям Крукс (1832—1919), изучавший электрический разряд в трубках с разрежённым воздухом, писал: “Явления в откачанных трубках открывают для физической науки новый мир, в котором материя может существовать в четвёртом состоянии”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0574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олнце и ионосфера Земл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1755360"/>
            <a:ext cx="7162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олнце – громадный шар , состоящий из раскаленной плазм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С поверхности Солнца непрерывно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текает спокойный поток плазм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– так называемый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олнечный ветер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Время от времени на поверхности Солнца происходят вспышки . При каждой такой вспышке в космос выплескивается кратковременный поток плазмы . Эти плазменные потоки , достигая атмосферы земли вызывают в ней много замечательных явлений :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олярное сияние , магнитные бури , нарушение радиосвяз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Дело в том ,что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округ Земли есть плазменная оболочка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, только эта оболочка находится высоко .Ведь Солнце на ряду с видимым светом посылает невидимые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ультрафиолетовые луч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Эти луч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оздействуют на атомы воздуха и отрывают от них электроны , т.е. производят ионизаци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Так получается , что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ерхние слои атмосферы – ионосфера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- состоят из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ионизированного воздуха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, иначе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говоря , из плазмы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095880" cy="4952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447920" y="54673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Солнце, как и любая звезда, - огромный шар из плазмы.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029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858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оносфера Земл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85800" y="764640"/>
            <a:ext cx="80010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Ионосфера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остоит из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смеси газа нейтральных атомов и молекул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в основном кислорода О</a:t>
            </a:r>
            <a:r>
              <a:rPr b="0" lang="ru-RU" sz="16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и азота N</a:t>
            </a:r>
            <a:r>
              <a:rPr b="0" lang="ru-RU" sz="16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)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и квазинейтральной плазмы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число отрицательно заряженных частиц примерно равно числу положительно заряженных). Ионизация становится существенной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уже на высоте 60 километров и неуклонно увеличивается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с удалением от Земли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Структура ионосферы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 зависимости от плотности нейтральных частиц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в ионосфере выделятся слои </a:t>
            </a:r>
            <a:r>
              <a:rPr b="1" i="1" lang="ru-RU" sz="16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ru-RU" sz="1600" spc="-1" strike="noStrike">
                <a:solidFill>
                  <a:srgbClr val="333333"/>
                </a:solidFill>
                <a:latin typeface="Times New Roman"/>
              </a:rPr>
              <a:t>Е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и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лой D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60-90 км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) характеризуется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небольшими плотностями, слабой ионизацией и, соответственно, небольшой концентрацией заряженных частиц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Основным ионизирующим фактором этого слоя является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ентгеновское излучением Солнц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Ночью ионизация в слое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резко уменьшается, но не исчезает полностью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лой Е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Е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(90-120 км)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характеризуется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более высокими плотностями, ростом концентрации электронов с высотой в дневное время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, связанным с поглощением солнечного коротковолнового излучения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лой F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ластью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называют всю ионосферу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выше 130—140 км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Плотность частиц достигает своего максимума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29" descr=""/>
          <p:cNvPicPr/>
          <p:nvPr/>
        </p:nvPicPr>
        <p:blipFill>
          <a:blip r:embed="rId1"/>
          <a:stretch/>
        </p:blipFill>
        <p:spPr>
          <a:xfrm>
            <a:off x="4800600" y="53352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31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32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33" descr=""/>
          <p:cNvPicPr/>
          <p:nvPr/>
        </p:nvPicPr>
        <p:blipFill>
          <a:blip r:embed="rId4"/>
          <a:stretch/>
        </p:blipFill>
        <p:spPr>
          <a:xfrm>
            <a:off x="4800600" y="3200400"/>
            <a:ext cx="3505320" cy="2286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34"/>
          <p:cNvSpPr/>
          <p:nvPr/>
        </p:nvSpPr>
        <p:spPr>
          <a:xfrm>
            <a:off x="838080" y="57888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c2b"/>
                </a:solidFill>
                <a:latin typeface="Times New Roman"/>
              </a:rPr>
              <a:t>Северное сияние - процессы в ионосфере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.Что такое плазма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?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2. Плазма - четвёртое состояние вещества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3. Где встречается плазма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?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Условия её        возникновения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4. Виды плазмы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. Свойства и характеристики плазмы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6. Особые свойства плазмы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7. История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8. Солнце и ионосфера Земли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9. Использование плазмы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. Литература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спользование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85800" y="1752480"/>
            <a:ext cx="80010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аиболее широко плазма применяется в светотехнике —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 газоразрядных лампах, освещающих улицы, и лампах дневного света, используемых в помещениях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А кроме того, в самых разных газоразрядных приборах: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прямителях электрического тока, стабилизаторах напряжения, плазменных усилителях и генераторах сверхвысоких частот (СВЧ), счётчиках космических частиц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се так называемые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газовые лазер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(гелий-неоновый, криптоновый, на диоксиде углерода и т. п.) на самом деле плазменные: газовые смеси в них ионизованы электрическим разрядом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Разрабатываются различные схемы плазменного ускорения заряженных частиц.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спользование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32" name="Picture 5" descr="D:\DISTRIBUTES\- Юра\Миша\fire.gif"/>
          <p:cNvPicPr/>
          <p:nvPr/>
        </p:nvPicPr>
        <p:blipFill>
          <a:blip r:embed="rId1"/>
          <a:stretch/>
        </p:blipFill>
        <p:spPr>
          <a:xfrm>
            <a:off x="1371600" y="1066680"/>
            <a:ext cx="5943600" cy="2438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533520" y="3582360"/>
            <a:ext cx="82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уществуют генераторы низкотемпературной плазмы —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лазмотрон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в которых используется электрическая дуга. С помощью плазмотрона можно нагреть почти любой газ до 7000—10000 градусов за сотые и тысячные доли секунды. С  созданием плазмотрона возникла новая область науки — плазменная химия: многие химические реакции ускоряются или идут только в плазменной струе.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лазмотроны применяются и 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горно-рудной промышленности, и для резки металлов. Созданы также плазменные двигатели, магнитогидродинамические электростанции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457200" y="1046880"/>
            <a:ext cx="8077320" cy="56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окамак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О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оидальн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ера с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нитными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тушками)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это один из варианто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устройства, способного формировать долгоживущую горячую плазму высокой плотност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При достижении определенных параметров плазмы в ней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ачинается термоядерная реакция синтеза ядер гелия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з исходного сырья — изотопов водорода (дейтерия и трития). При этом в токамак-реакторе должно вырабатываться существенно больше энергии, чем затрачивается на формирование плазмы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ермин“токамак” был введён русскими физикам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.В.Таммом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А.Д.Сахаровым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50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х годах. Первый токамак был разработан под руководством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академика Л.А.Арцимова в Институте атомной энергии им. И. В. Курчатова в Москве и продемонстрирован в1968 в Новосибирске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 настоящее время токамак считается наиболее перспективным устройством для осуществления управляемого термоядерного синтеза. Токамак представляет по сут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олый  тор (бублик), на который намотан проводник, образующий магнитное поле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Основное магнитное поле 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камере-ловушке, содержащей горячую плазму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создается тороидальными магнитными катушками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80880" y="78840"/>
            <a:ext cx="8305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Центральной задачей физики плазмы является проблема управляемого термоядерного синтеза.</a:t>
            </a:r>
            <a:endParaRPr b="1" lang="en-US" sz="2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219320" y="1057320"/>
            <a:ext cx="6553080" cy="60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1.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Арцимович Л.А. Элементарная физика плазмы. М, Атомиздат, 1966.</a:t>
            </a:r>
            <a:endParaRPr b="1" lang="en-US" sz="2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2.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Ерухимов Л.М. Ионосфера Земли как космическая плазменная лаборатори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1998</a:t>
            </a:r>
            <a:endParaRPr b="1" lang="en-US" sz="2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Мякишев Г. Я.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Физика 10 кл., М. Просвещение, 2004</a:t>
            </a:r>
            <a:endParaRPr b="1" lang="en-US" sz="2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Ораевский Н.В. Плазма на Земле и в космосе. К, Наукова думка, 1980.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Трубников Б. А., Введение в теорию плазмы. М., 1969</a:t>
            </a:r>
            <a:endParaRPr b="1" lang="en-US" sz="2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6.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http://ru.wikipedia.org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7.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www.posternazakaz.ru (фотографии)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Что такое плазма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581280" y="1371600"/>
            <a:ext cx="52578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лазм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(от греч. plásma — вылепленное, оформленное), частично или полностью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ионизованный газ, состоящий из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электрически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заряженных и нейтральных частиц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котором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суммарный электрический заряд равен нулю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выполнено так называемое условие квазинейтральности ).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о не каждое скопление частиц можно назвать плазмой, например, пучок электронов, летящих в вакууме, не плазма: он несет только отрицательный заряд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124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лазма- четвёртое состояние вещества 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648320" y="1596240"/>
            <a:ext cx="4114800" cy="46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lvl="3" marL="13716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 Cyr"/>
              </a:rPr>
              <a:t>Еще в глубокой древности мыслители считали, что мир состоит из четырех простых стихий: земли, воды, воздуха и огня. Частично они были правы. Этим стихиям соответствуют твердое, жидкое и газообразное состояния вещества и вещество в состоянии плазмы. </a:t>
            </a:r>
            <a:r>
              <a:rPr b="1" lang="ru-RU" sz="2000" spc="-1" strike="noStrike">
                <a:solidFill>
                  <a:srgbClr val="333333"/>
                </a:solidFill>
                <a:latin typeface="Times New Roman Cyr"/>
              </a:rPr>
              <a:t>При температурах выше 10000°С все вещества находятся в своем четвертом состоянии - состоянии плазмы. </a:t>
            </a:r>
            <a:br>
              <a:rPr sz="2000"/>
            </a:br>
            <a:endParaRPr b="1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8098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Где встречается плазма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962520" y="1600200"/>
            <a:ext cx="434340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лазма — наиболее распространённое состояние вещества в природе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, на неё приходится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около 99 % массы Вселенной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Солнце, большинство звёзд, туманности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— это полностью ионизованная плазма. Внешняя часть земной атмосферы (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ионосфер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) тоже плазма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Ещё выше располагаются радиационные пояса, содержащие плазму.</a:t>
            </a:r>
            <a:br>
              <a:rPr sz="1600"/>
            </a:b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олярные сияния, молнии, в том числе шаровые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, — всё это различные виды плазмы, наблюдать которые можно в естественных условиях на Земле. И лишь ничтожную часть Вселенной составляет вещество в твёрдом состоянии — планеты, астероиды и пылевые туманности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2767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Условия возникновения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66680" y="1295280"/>
            <a:ext cx="708660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 зависимости от температуры любое вещество изменяет своё состояние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Так, вода при отрицательных температурах находится в твёрдом состоянии, от 0 до 100 </a:t>
            </a:r>
            <a:r>
              <a:rPr b="0" lang="ru-RU" sz="1800" spc="-1" strike="noStrike" baseline="30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 - в жидком, выше 100 °С—в газообразном.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сли температура продолжает раст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атомы и молекул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ачинают терять свои электроны — ионизуются и газ превращается в плазму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Если любое вещество накалить до очень высокой температуры или пропускать через него сильный электрический ток , его электроны начинают отрываться от атомов . То , что остается от атомов после отрыва электрона , имеет положительный заряд и называется ионом , сам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роцесс отрыва электронов от атомов называется ионизацие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 результате ионизации получается смесь свободных частиц с положительными и отрицательными зарядами . Эту смесь назвали плазмо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</a:t>
            </a:r>
            <a:r>
              <a:rPr b="0" lang="ru-RU" sz="1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ри температурах более 1 000 000 °С плазма абсолютно ионизована — она состоит только из электронов и положительных ионов.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Виды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4343400" y="1825920"/>
            <a:ext cx="40384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лазма обычно разделяется на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идеаль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еидеаль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изкотемператур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сокотемператур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равновес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еравновесную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Газовую плазму принято разделять на низкотемпературную — до 100 тыс. градусов и высокотемпературную — до 100 млн градусов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римером низкотемпературной плазмы является обыкновенный огонь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9" name="Object 14"/>
          <p:cNvGraphicFramePr/>
          <p:nvPr/>
        </p:nvGraphicFramePr>
        <p:xfrm>
          <a:off x="609480" y="1752480"/>
          <a:ext cx="3575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3575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Виды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Text Box 1029"/>
          <p:cNvSpPr/>
          <p:nvPr/>
        </p:nvSpPr>
        <p:spPr>
          <a:xfrm>
            <a:off x="838080" y="2169000"/>
            <a:ext cx="7696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неравновесной плазме электронная температура существенно превышает температуру ионов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Это происходит из-за различия в массах иона и электрона, которое затрудняет процесс обмена энергией. Такая ситуация встречается в газовых разрядах, когда ионы имеют температуру около сотен, а электроны около десятков тысяч градусов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авновесной плазме обе температуры равны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Поскольку для осуществления процесса ионизации необходимы температуры, сравнимые с потенциалом ионизации, равновесная плазма обычно является горячей (с температурой больше нескольких тысяч градусов)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онятие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высокотемпературная плазм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употребляется обычно для плазмы термоядерного синтеза, который требует температур в миллионы кельвинов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Характеристики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Text Box 1029"/>
          <p:cNvSpPr/>
          <p:nvPr/>
        </p:nvSpPr>
        <p:spPr>
          <a:xfrm>
            <a:off x="609480" y="1051200"/>
            <a:ext cx="792504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Black"/>
              </a:rPr>
              <a:t>Температура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Для описания плазмы в физике удобно использовать не температуру, а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энергию, выраженную в электрон-вольтах (эВ)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Для перевода температуры в эВ можно воспользоваться следующим соотношением: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1эВ = 11600 градусов Кельвин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Black"/>
              </a:rPr>
              <a:t>Степень ионизации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тепень ионизации определяется как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отношение числа ионизованных частиц к общему числу частиц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Для низкотемпературных плазм характерны малые степени ионизации (&lt;1 %)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Горячая плазма почти всегда полностью ионизована (степень ионизации ~100 %). Обычно именно она понимается под “четвертым агрегатным состоянием вещества”. Примером может служить Солнце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 Black"/>
              </a:rPr>
              <a:t>Плотность.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лово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лотность плазмы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обычно обозначает плотность электронов,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то есть число свободных электронов в единице объем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строго говоря, здесь, плотностью называют концентрацию — не массу единицы объема, а число частиц в единице объема)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 Black"/>
              </a:rPr>
              <a:t>Квазинейтральн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лотность отрицательных зарядов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с хорошей точностью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авна плотности положительных зарядов.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Нарушение квазинейтральности ведёт к немедленному появлению сильных электрических полей пространственных зарядов, тут же восстанавливающих квазинейтральность.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2:30:19Z</dcterms:created>
  <dc:creator>Администратор</dc:creator>
  <dc:description/>
  <dc:language>en-US</dc:language>
  <cp:lastModifiedBy>1</cp:lastModifiedBy>
  <dcterms:modified xsi:type="dcterms:W3CDTF">2013-05-18T11:55:59Z</dcterms:modified>
  <cp:revision>26</cp:revision>
  <dc:subject/>
  <dc:title>Презентация на тему:  Плазма</dc:title>
</cp:coreProperties>
</file>