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6578-2FF7-4A37-A7FF-91463BFFFE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5B29A-30DD-43A4-B88B-9AC4D855B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936DF-AD66-4813-B8AE-6CE2060F77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649D7-23B1-49A6-B21E-A0BB4FF6B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B681A4-B244-41E1-A9DF-1BEFD0EA4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965B1-DC51-4EBD-842F-25C8BCA56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B66D7-678C-43D5-B516-C61CB45D2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820ED-A2CD-495B-9295-66F32ABE3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86229-6AD2-4A94-989F-6306143AF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BC6D2-4FBC-42C0-BFF4-E98EA9C5E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5CD3-707B-45E1-9930-EFA425FACB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1BE42-6548-4796-8ABC-77B1F2EC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D6F5C-D38D-4C1F-856D-3E744625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EAD29-A57E-4AD4-9A55-14828E223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36482-C3C9-4400-BF20-5A13E5A55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B9267F-8DCD-4D55-B15A-7F3B27DC7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89F92-EF9E-455A-B21C-0C5F2103E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BED4-0542-45B1-9017-2F528AE17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9BC77-C97D-428D-8747-0872970DC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D300B-D9A8-4344-B7EB-7C165D235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C243-D719-4700-BFDA-E7CAA3BB4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34A53-1FD5-46F1-8B78-CDBDCE6F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87A6-CB87-4B6D-AF13-122E268C5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A2252-2EF1-40AD-B3AB-FC6DC63BE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A2240-9957-4D4D-973B-8003EC81613F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8a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3B84E-48A9-468B-8E37-68690A5619BA}" type="slidenum">
              <a:rPr b="0" lang="ru-RU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7925040" cy="447192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005c00"/>
                </a:solidFill>
                <a:latin typeface="Times New Roman"/>
              </a:rPr>
              <a:t>Плазма</a:t>
            </a:r>
            <a:endParaRPr b="0" lang="en-US" sz="9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62120" y="30456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6" name="Text Box 1029"/>
          <p:cNvSpPr/>
          <p:nvPr/>
        </p:nvSpPr>
        <p:spPr>
          <a:xfrm>
            <a:off x="990720" y="1427040"/>
            <a:ext cx="6858000" cy="444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Между плазмой и обычными газами имеется много общего, несмотря на то, что плазма является особой средой, в которой существенную роль играют силы кулоновского взаимодействия между заряженными частицам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Свойства газов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Если энергия взаимодействия между заряженными частицами в плазме является пренебрежимо малой в сравнении со средней кинетической энергией теплового движения, то можно считать, что плазма ведет себя, как идеальный газ, основным уравнением которого является уравнение Менделеева-Клапейрона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pV=(m/M)RT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ли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=nkT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1295280" y="1211400"/>
            <a:ext cx="6324840" cy="482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Плазма - смесь нескольких газов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По закону Дальтона полное давление смеси равно сумме парциальных давлений</a:t>
            </a: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p=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p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=(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+_+n</a:t>
            </a:r>
            <a:r>
              <a:rPr b="0" lang="ru-RU" sz="20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)kT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,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где p = nkT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овокупность частиц каждого из указанных ниже видов образует свой собственный газ: нейтральных атомов или молекул, электронный газ, ионный газ, фотонный газ. Смесью этих газов и является плазма. Если температура компонентов плазмы одинакова, то плазма называется изотермической (чаще всего в космических условиях). Разные компоненты газоразрядной плазмы характеризуются различной температурой. Температура электронного газа выше на порядок температуры нейтрального газа. Температура же фотонного газа еще более высокая, чем электронного. Так , в газосветных трубках (реклама) температура электронов 40000К, а температура ионов не выше 2000К. В дуговом разряде различия температур компонентов меньше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Text Box 5"/>
          <p:cNvSpPr/>
          <p:nvPr/>
        </p:nvSpPr>
        <p:spPr>
          <a:xfrm>
            <a:off x="380880" y="1356480"/>
            <a:ext cx="8382240" cy="535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Энергия частиц и температура газа 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к как частица с массой m и скоростью v обладает кинетической энергией U 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0" lang="ru-RU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/2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средняя энергия на одну молекулу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U=3kT/2 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о энергию частиц можно выразить </a:t>
            </a:r>
            <a:br>
              <a:rPr sz="1400"/>
            </a:b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 algn="ctr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U=mv</a:t>
            </a:r>
            <a:r>
              <a:rPr b="1" lang="ru-RU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/2e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де энергия выражена в электронвольтах(эВ) : </a:t>
            </a: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1эВ=1,6*10</a:t>
            </a:r>
            <a:r>
              <a:rPr b="0" lang="ru-RU" sz="1400" spc="-1" strike="noStrike" baseline="30000">
                <a:solidFill>
                  <a:srgbClr val="000000"/>
                </a:solidFill>
                <a:latin typeface="Times New Roman"/>
              </a:rPr>
              <a:t>-19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Дж</a:t>
            </a: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Особенные свойства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Text Box 8"/>
          <p:cNvSpPr/>
          <p:nvPr/>
        </p:nvSpPr>
        <p:spPr>
          <a:xfrm>
            <a:off x="609480" y="633240"/>
            <a:ext cx="8001000" cy="394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сутствие свободных электрических зарядов делает плазму проводящей ток сред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обуславливает её заметно большее (по сравнению с другими агрегатными состояниями вещества) взаимодействие с магнитным и электрическим полями, э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иводит к появлению слоёв и стру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Электроны, ионы и нейтральные частиц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различаются знаком электрического заряда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могут вести себя независимо друг от друга — иметь разные скорости и даже температу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что служит причиной появления новых явлений, например волн и неустойчивостей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ждая частица взаимодействует сразу со многими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Эти коллективные взаимодействия имеют гораздо большее влияние чем двухчастичные (т.е. взаимодействие только между 2 частицами - наиболее часто встречаются в газах)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3" name="Picture 9" descr=""/>
          <p:cNvPicPr/>
          <p:nvPr/>
        </p:nvPicPr>
        <p:blipFill>
          <a:blip r:embed="rId1"/>
          <a:stretch/>
        </p:blipFill>
        <p:spPr>
          <a:xfrm>
            <a:off x="2286000" y="4038480"/>
            <a:ext cx="4952880" cy="224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35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тория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2895480" y="1752480"/>
            <a:ext cx="5410440" cy="38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Четвёртое состояние вещества было открыто 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. Круксом в 1879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первые термин "плазма" , ранее лишь медицинский, был использован в 1923 г. американскими физиками Ленгмюром и Тонксом, которые стали обозначать с его помощью особое состояние ионизированного газ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Лёнгмюр (1881—1957) иЛеви Тонко (1897—1971) назвали плазмой ионизованный газ в газоразрядной трубк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Английский физик Уильям Крукс (1832—1919), изучавший электрический разряд в трубках с разрежённым воздухом, писал: “Явления в откачанных трубках открывают для физической науки новый мир, в котором материя может существовать в четвёртом состоянии”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2057400" cy="258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лнце и 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990720" y="1755360"/>
            <a:ext cx="71625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це – громадный шар , состоящий из раскаленной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С поверхности Солнца непрерывн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текает спокойный поток плазм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– так называемы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солнечный ветер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Время от времени на поверхности Солнца происходят вспышки . При каждой такой вспышке в космос выплескивается кратковременный поток плазмы . Эти плазменные потоки , достигая атмосферы земли вызывают в ней много замечательных явлений 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ярное сияние , магнитные бури , нарушение радиосвяз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Дело в том ,что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круг Земли есть плазменная оболочк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только эта оболочка находится высоко .Ведь Солнце на ряду с видимым светом посылает невиди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льтрафиолетовые луч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Эти луч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оздействуют на атомы воздуха и отрывают от них электроны , т.е. производят ионизаци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 Так получается , что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ерхние слои атмосферы – ионосфер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- состоят из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изированного воздуха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, иначе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оворя , из плазмы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1600200" y="457200"/>
            <a:ext cx="6095880" cy="495288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5"/>
          <p:cNvSpPr/>
          <p:nvPr/>
        </p:nvSpPr>
        <p:spPr>
          <a:xfrm>
            <a:off x="1447920" y="5467320"/>
            <a:ext cx="6705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4c2b"/>
                </a:solidFill>
                <a:latin typeface="Times New Roman"/>
              </a:rPr>
              <a:t>Солнце, как и любая звезда, - огромный шар из плазмы.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1029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6858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оносфера Земли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685800" y="764640"/>
            <a:ext cx="8001000" cy="564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оносфера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остоит из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меси газа нейтральных атомов и молекул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в основном кислорода О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и азота N</a:t>
            </a:r>
            <a:r>
              <a:rPr b="0" lang="ru-RU" sz="1600" spc="-1" strike="noStrike" baseline="-25000">
                <a:solidFill>
                  <a:srgbClr val="333333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 квазинейтральной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число отрицательно заряженных частиц примерно равно числу положительно заряженных). Ионизация становится существенной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уже на высоте 60 километров и неуклонно увеличиваетс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удалением от Земл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труктура ионосферы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зависимости от плотности нейтральных частиц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N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в ионосфере выделятся слои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и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D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60-9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большими плотностями, слабой ионизацией и, соответственно, небольшой концентрацией заряженных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Основным ионизирующим фактором этого слоя явля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ентгеновское излучением Солнц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Ночью ионизация в слое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D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резко уменьшается, но не исчезает полностью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Е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(90-120 км)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характеризуется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более высокими плотностями, ростом концентрации электронов с высотой в дневное время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связанным с поглощением солнечного коротковолнового излучения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Слой F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Областью </a:t>
            </a:r>
            <a:r>
              <a:rPr b="0" i="1" lang="ru-RU" sz="1600" spc="-1" strike="noStrike">
                <a:solidFill>
                  <a:srgbClr val="333333"/>
                </a:solidFill>
                <a:latin typeface="Times New Roman"/>
              </a:rPr>
              <a:t>F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называют всю ионосферу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ше 130—140 км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лотность частиц достигает своего максимума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1029" descr=""/>
          <p:cNvPicPr/>
          <p:nvPr/>
        </p:nvPicPr>
        <p:blipFill>
          <a:blip r:embed="rId1"/>
          <a:stretch/>
        </p:blipFill>
        <p:spPr>
          <a:xfrm>
            <a:off x="4800600" y="53352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1031" descr=""/>
          <p:cNvPicPr/>
          <p:nvPr/>
        </p:nvPicPr>
        <p:blipFill>
          <a:blip r:embed="rId2"/>
          <a:stretch/>
        </p:blipFill>
        <p:spPr>
          <a:xfrm>
            <a:off x="685800" y="609480"/>
            <a:ext cx="3581280" cy="22860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1032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3504960" cy="22860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1033" descr=""/>
          <p:cNvPicPr/>
          <p:nvPr/>
        </p:nvPicPr>
        <p:blipFill>
          <a:blip r:embed="rId4"/>
          <a:stretch/>
        </p:blipFill>
        <p:spPr>
          <a:xfrm>
            <a:off x="4800600" y="3200400"/>
            <a:ext cx="3505320" cy="2286000"/>
          </a:xfrm>
          <a:prstGeom prst="rect">
            <a:avLst/>
          </a:prstGeom>
          <a:ln w="0">
            <a:noFill/>
          </a:ln>
        </p:spPr>
      </p:pic>
      <p:sp>
        <p:nvSpPr>
          <p:cNvPr id="128" name="Text Box 1034"/>
          <p:cNvSpPr/>
          <p:nvPr/>
        </p:nvSpPr>
        <p:spPr>
          <a:xfrm>
            <a:off x="838080" y="5788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4c2b"/>
                </a:solidFill>
                <a:latin typeface="Times New Roman"/>
              </a:rPr>
              <a:t>Северное сияние - процессы в ионосфере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Содержание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1371240"/>
            <a:ext cx="67816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.Что такое плазма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? 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2. Плазма - четвёртое состояние веществ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3. Где встречается плазма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?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Условия её        возникновения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4. Виды плаз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5. Свойства и характеристики плаз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6. Особые свойства плаз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7. История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8. Солнце и ионосфера Земли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9. Использование плазмы.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10. Литература. 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0" name="Text Box 5"/>
          <p:cNvSpPr/>
          <p:nvPr/>
        </p:nvSpPr>
        <p:spPr>
          <a:xfrm>
            <a:off x="685800" y="1752480"/>
            <a:ext cx="8001000" cy="332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аиболее широко плазма применяется в светотехнике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газоразрядных лампах, освещающих улицы, и лампах дневного света, используемых в помещениях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А кроме того, в самых разных газоразрядных приборах: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прямителях электрического тока, стабилизаторах напряжения, плазменных усилителях и генераторах сверхвысоких частот (СВЧ), счётчиках космических частиц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се так называемые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азовые лазер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(гелий-неоновый, криптоновый, на диоксиде углерода и т. п.) на самом деле плазменные: газовые смеси в них ионизованы электрическим разрядом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Разрабатываются различные схемы плазменного ускорения заряженных частиц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Использование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132" name="Picture 5" descr="D:\DISTRIBUTES\- Юра\Миша\fire.gif"/>
          <p:cNvPicPr/>
          <p:nvPr/>
        </p:nvPicPr>
        <p:blipFill>
          <a:blip r:embed="rId1"/>
          <a:stretch/>
        </p:blipFill>
        <p:spPr>
          <a:xfrm>
            <a:off x="1371600" y="1066680"/>
            <a:ext cx="5943600" cy="243864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6"/>
          <p:cNvSpPr/>
          <p:nvPr/>
        </p:nvSpPr>
        <p:spPr>
          <a:xfrm>
            <a:off x="533520" y="3582360"/>
            <a:ext cx="82296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уществуют генераторы низкотемпературной плазмы —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лазмотрон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в которых используется электрическая дуга. С помощью плазмотрона можно нагреть почти любой газ до 7000—10000 градусов за сотые и тысячные доли секунды. С  созданием плазмотрона возникла новая область науки — плазменная химия: многие химические реакции ускоряются или идут только в плазменной струе.</a:t>
            </a:r>
            <a:br>
              <a:rPr sz="1800"/>
            </a:b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отроны применяются и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горно-рудной промышленности, и для резки металлов. Созданы также плазменные двигатели, магнитогидродинамические электростанции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Text Box 5"/>
          <p:cNvSpPr/>
          <p:nvPr/>
        </p:nvSpPr>
        <p:spPr>
          <a:xfrm>
            <a:off x="457200" y="1046880"/>
            <a:ext cx="8077320" cy="563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кама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ТО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роидальная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мера с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МА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гнитными 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К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атушками)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—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это один из варианто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устройства, способного формировать долгоживущую горячую плазму высокой плотно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При достижении определенных параметров плазмы в ней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ется термоядерная реакция синтеза ядер гелия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з исходного сырья — изотопов водорода (дейтерия и трития). При этом в токамак-реакторе должно вырабатываться существенно больше энергии, чем затрачивается на формирование плазмы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Термин“токамак” был введён русскими физикам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.В.Таммо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.Д.Сахаровым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5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х годах. Первый токамак был разработан под руководство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кадемика Л.А.Арцимова в Институте атомной энергии им. И. В. Курчатова в Москве и продемонстрирован в1968 в Новосибирск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В настоящее время токамак считается наиболее перспективным устройством для осуществления управляемого термоядерного синтеза. Токамак представляет по сут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олый  тор (бублик), на который намотан проводник, образующий магнитное пол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Основное магнитное поле в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камере-ловушке, содержащей горячую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создается тороидальными магнитными катушками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380880" y="78840"/>
            <a:ext cx="83059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4c2b"/>
                </a:solidFill>
                <a:latin typeface="Times New Roman"/>
              </a:rPr>
              <a:t>Центральной задачей физики плазмы является проблема управляемого термоядерного синтеза.</a:t>
            </a: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Литература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37" name="Text Box 11"/>
          <p:cNvSpPr/>
          <p:nvPr/>
        </p:nvSpPr>
        <p:spPr>
          <a:xfrm>
            <a:off x="1219320" y="1057320"/>
            <a:ext cx="6553080" cy="60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1.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Арцимович Л.А. Элементарная физика плазмы. М, Атомиздат, 1966.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2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Ерухимов Л.М. Ионосфера Земли как космическая плазменная лаборатория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,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1998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3.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Мякишев Г. Я.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Физика 10 кл., М. Просвещение, 2004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4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Ораевский Н.В. Плазма на Земле и в космосе. К, Наукова думка, 1980.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5.</a:t>
            </a:r>
            <a:r>
              <a:rPr b="0" lang="ru-RU" sz="2000" spc="-1" strike="noStrike">
                <a:solidFill>
                  <a:srgbClr val="333333"/>
                </a:solidFill>
                <a:latin typeface="Times New Roman"/>
              </a:rPr>
              <a:t> Трубников Б. А., Введение в теорию плазмы. М., 1969</a:t>
            </a: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6.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http://ru.wikipedia.org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7.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www.posternazakaz.ru (фотографии)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Что такое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3581280" y="1371600"/>
            <a:ext cx="5257800" cy="46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Плазма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(от греч. plásma — вылепленное, оформленное), частично или полностью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ионизованный газ, состоящий из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электрически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заряженных и нейтральных частиц, 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в котором</a:t>
            </a:r>
            <a:r>
              <a:rPr b="1" lang="ru-RU" sz="2400" spc="-1" strike="noStrike">
                <a:solidFill>
                  <a:srgbClr val="333333"/>
                </a:solidFill>
                <a:latin typeface="Times New Roman"/>
              </a:rPr>
              <a:t> суммарный электрический заряд равен нулю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(выполнено так называемое условие квазинейтральности ).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Но не каждое скопление частиц можно назвать плазмой, например, пучок электронов, летящих в вакууме, не плазма: он несет только отрицательный заряд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88" name="Picture 10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124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Плазма- четвёртое состояние вещества  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Text Box 5"/>
          <p:cNvSpPr/>
          <p:nvPr/>
        </p:nvSpPr>
        <p:spPr>
          <a:xfrm>
            <a:off x="4648320" y="1596240"/>
            <a:ext cx="4114800" cy="463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lvl="3" marL="1371600" algn="just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33"/>
                </a:solidFill>
                <a:latin typeface="Times New Roman Cyr"/>
              </a:rPr>
              <a:t>Еще в глубокой древности мыслители считали, что мир состоит из четырех простых стихий: земли, воды, воздуха и огня. Частично они были правы. Этим стихиям соответствуют твердое, жидкое и газообразное состояния вещества и вещество в состоянии плазмы. </a:t>
            </a:r>
            <a:r>
              <a:rPr b="1" lang="ru-RU" sz="2000" spc="-1" strike="noStrike">
                <a:solidFill>
                  <a:srgbClr val="333333"/>
                </a:solidFill>
                <a:latin typeface="Times New Roman Cyr"/>
              </a:rPr>
              <a:t>При температурах выше 10000°С все вещества находятся в своем четвертом состоянии - состоянии плазмы. </a:t>
            </a:r>
            <a:br>
              <a:rPr sz="2000"/>
            </a:br>
            <a:endParaRPr b="1" lang="en-US" sz="20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3809880" cy="406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Где встречается плазма</a:t>
            </a: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3962520" y="1600200"/>
            <a:ext cx="4343400" cy="45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азма — наиболее распространённое состояние вещества в природ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на неё приходится </a:t>
            </a:r>
            <a:r>
              <a:rPr b="1" lang="ru-RU" sz="2000" spc="-1" strike="noStrike">
                <a:solidFill>
                  <a:srgbClr val="333333"/>
                </a:solidFill>
                <a:latin typeface="Times New Roman"/>
              </a:rPr>
              <a:t>около 99 % массы Вселенной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Солнце, большинство звёзд, туманности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— это полностью ионизованная плазма. Внешняя часть земной атмосферы (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ионосфер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) тоже плазма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Ещё выше располагаются радиационные пояса, содержащие плазму.</a:t>
            </a:r>
            <a:br>
              <a:rPr sz="1600"/>
            </a:b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олярные сияния, молнии, в том числе шаровые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, — всё это различные виды плазмы, наблюдать которые можно в естественных условиях на Земле. И лишь ничтожную часть Вселенной составляет вещество в твёрдом состоянии — планеты, астероиды и пылевые туманности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4c2b"/>
              </a:solidFill>
              <a:latin typeface="Times New Roman"/>
            </a:endParaRPr>
          </a:p>
        </p:txBody>
      </p:sp>
      <p:pic>
        <p:nvPicPr>
          <p:cNvPr id="94" name="Picture 6" descr=""/>
          <p:cNvPicPr/>
          <p:nvPr/>
        </p:nvPicPr>
        <p:blipFill>
          <a:blip r:embed="rId1"/>
          <a:stretch/>
        </p:blipFill>
        <p:spPr>
          <a:xfrm>
            <a:off x="457200" y="1905120"/>
            <a:ext cx="3276720" cy="35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8076960" cy="685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Условия возникновения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6" name="Text Box 5"/>
          <p:cNvSpPr/>
          <p:nvPr/>
        </p:nvSpPr>
        <p:spPr>
          <a:xfrm>
            <a:off x="1066680" y="1295280"/>
            <a:ext cx="7086600" cy="50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зависимости от температуры любое вещество изменяет своё состояние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Так, вода при отрицательных температурах находится в твёрдом состоянии, от 0 до 100 </a:t>
            </a:r>
            <a:r>
              <a:rPr b="0" lang="ru-RU" sz="1800" spc="-1" strike="noStrike" baseline="30000">
                <a:solidFill>
                  <a:srgbClr val="333333"/>
                </a:solidFill>
                <a:latin typeface="Times New Roman"/>
              </a:rPr>
              <a:t>0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С - в жидком, выше 100 °С—в газообразном.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Если температура продолжает расти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атомы и молекулы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ачинают терять свои электроны — ионизуются и газ превращается в плазму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Если любое вещество накалить до очень высокой температуры или пропускать через него сильный электрический ток , его электроны начинают отрываться от атомов . То , что остается от атомов после отрыва электрона , имеет положительный заряд и называется ионом , сам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процесс отрыва электронов от атомов называется ионизацие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 результате ионизации получается смесь свободных частиц с положительными и отрицательными зарядами . Эту смесь назвали плазмой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.</a:t>
            </a:r>
            <a:r>
              <a:rPr b="0" lang="ru-RU" sz="10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 температурах более 1 000 000 °С плазма абсолютно ионизована — она состоит только из электронов и положительных ионов. 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8" name="Text Box 9"/>
          <p:cNvSpPr/>
          <p:nvPr/>
        </p:nvSpPr>
        <p:spPr>
          <a:xfrm>
            <a:off x="4343400" y="1825920"/>
            <a:ext cx="403848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лазма обычно разделяется на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идеаль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из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высокотемператур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,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равновесную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 и </a:t>
            </a:r>
            <a:r>
              <a:rPr b="1" lang="ru-RU" sz="1800" spc="-1" strike="noStrike">
                <a:solidFill>
                  <a:srgbClr val="333333"/>
                </a:solidFill>
                <a:latin typeface="Times New Roman"/>
              </a:rPr>
              <a:t>неравновесную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Газовую плазму принято разделять на низкотемпературную — до 100 тыс. градусов и высокотемпературную — до 100 млн градусов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Примером низкотемпературной плазмы является обыкновенный огонь.</a:t>
            </a:r>
            <a:endParaRPr b="1" lang="en-US" sz="1800" spc="-1" strike="noStrike">
              <a:solidFill>
                <a:srgbClr val="004c2b"/>
              </a:solidFill>
              <a:latin typeface="Times New Roman"/>
            </a:endParaRPr>
          </a:p>
        </p:txBody>
      </p:sp>
      <p:graphicFrame>
        <p:nvGraphicFramePr>
          <p:cNvPr id="99" name="Object 14"/>
          <p:cNvGraphicFramePr/>
          <p:nvPr/>
        </p:nvGraphicFramePr>
        <p:xfrm>
          <a:off x="609480" y="1752480"/>
          <a:ext cx="3575160" cy="4114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Object 1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752480"/>
                    <a:ext cx="3575160" cy="41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Виды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2" name="Text Box 1029"/>
          <p:cNvSpPr/>
          <p:nvPr/>
        </p:nvSpPr>
        <p:spPr>
          <a:xfrm>
            <a:off x="838080" y="2169000"/>
            <a:ext cx="769644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неравновесной плазме электронная температура существенно превышает температуру ион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Это происходит из-за различия в массах иона и электрона, которое затрудняет процесс обмена энергией. Такая ситуация встречается в газовых разрядах, когда ионы имеют температуру около сотен, а электроны около десятков тысяч градус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В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овесной плазме обе температуры равн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Поскольку для осуществления процесса ионизации необходимы температуры, сравнимые с потенциалом ионизации, равновесная плазма обычно является горячей (с температурой больше нескольких тысяч градусов)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Понятие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высокотемпературная плаз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употребляется обычно для плазмы термоядерного синтеза, который требует температур в миллионы кельвинов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4c2b"/>
                </a:solidFill>
                <a:latin typeface="Times New Roman"/>
              </a:rPr>
              <a:t>Характеристики плазмы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4" name="Text Box 1029"/>
          <p:cNvSpPr/>
          <p:nvPr/>
        </p:nvSpPr>
        <p:spPr>
          <a:xfrm>
            <a:off x="609480" y="1051200"/>
            <a:ext cx="7925040" cy="47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Температура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описания плазмы в физике удобно использовать не температуру, а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энергию, выраженную в электрон-вольтах (эВ).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Для перевода температуры в эВ можно воспользоваться следующим соотношением: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1эВ = 11600 градусов Кельвин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333333"/>
                </a:solidFill>
                <a:latin typeface="Arial Black"/>
              </a:rPr>
              <a:t>Степень ионизации.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тепень ионизации определяется как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отношение числа ионизованных частиц к общему числу частиц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. Для низкотемпературных плазм характерны малые степени ионизации (&lt;1 %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Горячая плазма почти всегда полностью ионизована (степень ионизации ~100 %). Обычно именно она понимается под “четвертым агрегатным состоянием вещества”. Примером может служить Солнце.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Плотность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Слово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плазмы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обычно обозначает плотность электронов,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то есть число свободных электронов в единице объема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(строго говоря, здесь, плотностью называют концентрацию — не массу единицы объема, а число частиц в единице объема).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</a:t>
            </a:r>
            <a:endParaRPr b="1" lang="en-US" sz="2400" spc="-1" strike="noStrike">
              <a:solidFill>
                <a:srgbClr val="004c2b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33"/>
                </a:solidFill>
                <a:latin typeface="Arial Black"/>
              </a:rPr>
              <a:t>Квазинейтральность</a:t>
            </a:r>
            <a:r>
              <a:rPr b="0" lang="ru-RU" sz="2400" spc="-1" strike="noStrike">
                <a:solidFill>
                  <a:srgbClr val="333333"/>
                </a:solidFill>
                <a:latin typeface="Times New Roman"/>
              </a:rPr>
              <a:t> -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плотность отрицательных зарядов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 с хорошей точностью </a:t>
            </a:r>
            <a:r>
              <a:rPr b="1" lang="ru-RU" sz="1600" spc="-1" strike="noStrike">
                <a:solidFill>
                  <a:srgbClr val="333333"/>
                </a:solidFill>
                <a:latin typeface="Times New Roman"/>
              </a:rPr>
              <a:t>равна плотности положительных зарядов. </a:t>
            </a:r>
            <a:r>
              <a:rPr b="0" lang="ru-RU" sz="1600" spc="-1" strike="noStrike">
                <a:solidFill>
                  <a:srgbClr val="333333"/>
                </a:solidFill>
                <a:latin typeface="Times New Roman"/>
              </a:rPr>
              <a:t>Нарушение квазинейтральности ведёт к немедленному появлению сильных электрических полей пространственных зарядов, тут же восстанавливающих квазинейтральность. </a:t>
            </a:r>
            <a:endParaRPr b="1" lang="en-US" sz="1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2T12:30:19Z</dcterms:created>
  <dc:creator>Администратор</dc:creator>
  <dc:description/>
  <dc:language>en-US</dc:language>
  <cp:lastModifiedBy>1</cp:lastModifiedBy>
  <dcterms:modified xsi:type="dcterms:W3CDTF">2013-05-18T11:55:59Z</dcterms:modified>
  <cp:revision>26</cp:revision>
  <dc:subject/>
  <dc:title>Презентация на тему:  Плазма</dc:title>
</cp:coreProperties>
</file>