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D6F-C8B3-48DB-A440-A0DBDCA3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559-8EAE-4538-B65F-6347C375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D3A-2F10-4F55-848D-1FEF7172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343-D820-454E-82EF-0E03D439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AE87-FC6F-4CB9-9ADD-4C1EA02E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ED1A-BDAC-4169-BE29-215E12A2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996B-51AC-452C-A698-1F1B0245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8D09-8395-467E-960B-3D194AD9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6D6B-71F6-4D60-A642-725514F7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FAC6-A51E-4983-B7A6-465FF513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0AF1-D8D2-4784-B367-5C13D70C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978-3ECD-4F48-855E-F511C46D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0634-CD23-4257-A035-B745575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28A4-CD6B-41EF-8F4C-85541475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4A9B-4D67-4199-B667-DFB2D30C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0ECA-AF1D-4301-8B86-D238718A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EEA1-AD03-4A84-9ED9-A2CFB2F7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663-B3B8-414E-8241-840DC24B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48D-F336-49BB-9B5F-5ED33BBB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9FD-EDB2-4934-BAAE-6BB0805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130-97D6-420C-ACBE-2BBCAA39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CB1-C8A9-437A-8972-25578FE7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39A-FBC3-4F4A-A61F-447337E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D82-37A8-4DBE-B59E-F4C3797B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538F-E89C-42A4-9194-CD3761EDB4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435C-D168-4E2B-BFDF-1598E33CE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425520"/>
            <a:ext cx="828036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ю состави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монова Вероника Геннадьевна 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валификацион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«Средняя общеобразовательная школа № 43 с углубленным изучением отдельных предметов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во- Савиновского района города Каз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7.04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выживать и маскироватьс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ува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19640" y="1916280"/>
            <a:ext cx="2508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ни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ый сорванный цветок, каждое раздавленное насекомое, костер в лесу, брошенная бутылка … ведут к непоправимым последствия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вай будем жить так, чтобы гордиться соб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рирода в новом формате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с- наше богатств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1656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мечательный писатель М.Пришвин писал : «Мы- хозяева нашей природы, и она для нас кладовая солнца с великими сокровищами жизни. Рыбе- вода, птице- воздух, зверю- лес и горы. А человеку нужна Родина. И охранять природу- значит охранять Родин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92720" y="4437000"/>
            <a:ext cx="2941560" cy="220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4360" y="4437000"/>
            <a:ext cx="29397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равствуй, лес, дремучий ле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ный сказок и чудес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о чем шумишь листво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чью темной, грозово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в глуши твоей таить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за зверь, какая птиц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открой, не ута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же видишь- мы сво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30589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зочные существа встречаются и в наше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- Эн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2302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кто обитает здес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3640" y="1628640"/>
            <a:ext cx="32256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одного дерева можно сделать миллион спичек, а одной спичкой сжечь миллион деревьев. Будьте осторожны в лесу с огне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36608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вестно, что 90 из 100 пожаров возникают по вине человека. Все живое не успевает спастись и погибает в море огня. И хотя в нашей стране имеется наземная и воздушная службы охраны лесов от пожаров, но любой пожар легче предупредить, чем ту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360" y="4005360"/>
            <a:ext cx="375624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с- это дом для братьев наших меньших. Они доверяют нам. Не обманите их довер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3097440" cy="2022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456000" cy="215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4437000"/>
            <a:ext cx="2881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0:58:56Z</dcterms:created>
  <dc:creator>вероника</dc:creator>
  <dc:description/>
  <dc:language>en-US</dc:language>
  <cp:lastModifiedBy>андрей</cp:lastModifiedBy>
  <dcterms:modified xsi:type="dcterms:W3CDTF">2012-11-04T20:35:00Z</dcterms:modified>
  <cp:revision>25</cp:revision>
  <dc:subject/>
  <dc:title>Природа в новом формате.</dc:title>
</cp:coreProperties>
</file>