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F1DAE-9B43-456A-BEB6-97B0B509E9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B1086-5D58-425C-A7CE-93954F55C4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0C340-1B30-48F2-9CD1-260EFF5785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0918D-6683-43E5-A5AE-81E3E7AC6D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CA2-B061-4716-B616-182DB60F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299-6121-4E6A-A288-B7771083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C8F-4050-4F7E-80E8-BD9348CF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C50-05C1-4BCD-9C26-0F2650D9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916-8408-48DD-84B4-E3FD1F6D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D98-64F0-49F7-89E7-5931DE7B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21A-8DCC-4D88-9B71-35E1CDE5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F42-8A61-40FA-A492-6174720D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732-95EA-4A88-861C-140EDB84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D34-E2E2-4274-BFD6-65B92AB3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8C0-F15A-4B19-829E-B9188919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A09-ACE7-4E8C-B863-7C02AF47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A1DEF-AEB0-45A7-B5F5-5BF3D9188D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reeform 26"/>
          <p:cNvSpPr/>
          <p:nvPr/>
        </p:nvSpPr>
        <p:spPr>
          <a:xfrm>
            <a:off x="1152360" y="1042920"/>
            <a:ext cx="8763120" cy="4996080"/>
          </a:xfrm>
          <a:custGeom>
            <a:avLst/>
            <a:gdLst/>
            <a:ahLst/>
            <a:rect l="l" t="t" r="r" b="b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Прямоугольник 5" descr=""/>
          <p:cNvPicPr/>
          <p:nvPr/>
        </p:nvPicPr>
        <p:blipFill>
          <a:blip r:embed="rId1"/>
          <a:stretch/>
        </p:blipFill>
        <p:spPr>
          <a:xfrm>
            <a:off x="2548080" y="1755720"/>
            <a:ext cx="5846760" cy="334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Людмила\Desktop\shkola[1].jpg"/>
          <p:cNvPicPr/>
          <p:nvPr/>
        </p:nvPicPr>
        <p:blipFill>
          <a:blip r:embed="rId2"/>
          <a:stretch/>
        </p:blipFill>
        <p:spPr>
          <a:xfrm rot="21173400">
            <a:off x="2376000" y="5796000"/>
            <a:ext cx="1727280" cy="176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51_sign"/>
          <p:cNvPicPr/>
          <p:nvPr/>
        </p:nvPicPr>
        <p:blipFill>
          <a:blip r:embed="rId3"/>
          <a:stretch/>
        </p:blipFill>
        <p:spPr>
          <a:xfrm rot="954600">
            <a:off x="8542080" y="272880"/>
            <a:ext cx="1119240" cy="15415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111528.gif"/>
          <p:cNvPicPr/>
          <p:nvPr/>
        </p:nvPicPr>
        <p:blipFill>
          <a:blip r:embed="rId4"/>
          <a:stretch/>
        </p:blipFill>
        <p:spPr>
          <a:xfrm>
            <a:off x="8431200" y="6119640"/>
            <a:ext cx="682560" cy="11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91640" y="2339640"/>
            <a:ext cx="87807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«Дисциплина на улице – залог безопасности!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222222222.jpeg"/>
          <p:cNvPicPr/>
          <p:nvPr/>
        </p:nvPicPr>
        <p:blipFill>
          <a:blip r:embed="rId2"/>
          <a:stretch/>
        </p:blipFill>
        <p:spPr>
          <a:xfrm>
            <a:off x="1511280" y="4716360"/>
            <a:ext cx="218268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9" descr="44444444444.jpeg"/>
          <p:cNvPicPr/>
          <p:nvPr/>
        </p:nvPicPr>
        <p:blipFill>
          <a:blip r:embed="rId3"/>
          <a:stretch/>
        </p:blipFill>
        <p:spPr>
          <a:xfrm>
            <a:off x="431640" y="184320"/>
            <a:ext cx="1704960" cy="1923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i.jpeg"/>
          <p:cNvPicPr/>
          <p:nvPr/>
        </p:nvPicPr>
        <p:blipFill>
          <a:blip r:embed="rId4"/>
          <a:stretch/>
        </p:blipFill>
        <p:spPr>
          <a:xfrm>
            <a:off x="7632720" y="22068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3" descr="zn1_8.gif"/>
          <p:cNvPicPr/>
          <p:nvPr/>
        </p:nvPicPr>
        <p:blipFill>
          <a:blip r:embed="rId5"/>
          <a:stretch/>
        </p:blipFill>
        <p:spPr>
          <a:xfrm>
            <a:off x="4464000" y="1111320"/>
            <a:ext cx="123048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Obl_Vash_rebenok_%D0%B8%D0%B7%D0%BC%D0%B5%D0%BD_%D1%80%D0%B0%D0%B7%D0%BC%D0%B5%D1%80"/>
          <p:cNvPicPr/>
          <p:nvPr/>
        </p:nvPicPr>
        <p:blipFill>
          <a:blip r:embed="rId1"/>
          <a:stretch/>
        </p:blipFill>
        <p:spPr>
          <a:xfrm>
            <a:off x="2952720" y="0"/>
            <a:ext cx="5616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360" y="1042920"/>
            <a:ext cx="90691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ru-RU" sz="6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“</a:t>
            </a:r>
            <a:r>
              <a:rPr b="1" lang="ru-RU" sz="6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опрос – ответ”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944720" y="2771640"/>
          <a:ext cx="7200720" cy="3876840"/>
        </p:xfrm>
        <a:graphic>
          <a:graphicData uri="http://schemas.openxmlformats.org/drawingml/2006/table">
            <a:tbl>
              <a:tblPr/>
              <a:tblGrid>
                <a:gridCol w="1092240"/>
                <a:gridCol w="6108480"/>
              </a:tblGrid>
              <a:tr h="959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ы светофора, дорожная размет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15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нности пассажир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16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перехода улиц и дор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085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ые зна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592360" y="755640"/>
          <a:ext cx="6985080" cy="922320"/>
        </p:xfrm>
        <a:graphic>
          <a:graphicData uri="http://schemas.openxmlformats.org/drawingml/2006/table">
            <a:tbl>
              <a:tblPr/>
              <a:tblGrid>
                <a:gridCol w="863640"/>
                <a:gridCol w="6121440"/>
              </a:tblGrid>
              <a:tr h="9223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ы светофора, дорожная размет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59" name="TextBox 6"/>
          <p:cNvSpPr/>
          <p:nvPr/>
        </p:nvSpPr>
        <p:spPr>
          <a:xfrm>
            <a:off x="1944720" y="2050920"/>
            <a:ext cx="74246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ие сигналы пешеходного светофора вы знаете, что они обозначают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на проезжей части улиц и дорог обозначен пешеходный переход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светофоры вы знает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де и как должны ходить пешеходы по улиц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В каких местах пешеходам разрешается переходить улиц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592360" y="915840"/>
          <a:ext cx="6616800" cy="943200"/>
        </p:xfrm>
        <a:graphic>
          <a:graphicData uri="http://schemas.openxmlformats.org/drawingml/2006/table">
            <a:tbl>
              <a:tblPr/>
              <a:tblGrid>
                <a:gridCol w="1224000"/>
                <a:gridCol w="5392800"/>
              </a:tblGrid>
              <a:tr h="943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нности пассажир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61" name="TextBox 5"/>
          <p:cNvSpPr/>
          <p:nvPr/>
        </p:nvSpPr>
        <p:spPr>
          <a:xfrm>
            <a:off x="2417760" y="2266920"/>
            <a:ext cx="676908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де нужно стоять в ожидании трамвая, троллейбуса, автобус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ие правила поведения в транспорте общественного пользования вы знает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 нужно переходить улицу при выходе из трамвая, автобус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ов порядок посадки в автобус и выход из нег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808360" y="539640"/>
          <a:ext cx="5948280" cy="936720"/>
        </p:xfrm>
        <a:graphic>
          <a:graphicData uri="http://schemas.openxmlformats.org/drawingml/2006/table">
            <a:tbl>
              <a:tblPr/>
              <a:tblGrid>
                <a:gridCol w="1224000"/>
                <a:gridCol w="4724280"/>
              </a:tblGrid>
              <a:tr h="936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перехода улиц и дор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63" name="TextBox 5"/>
          <p:cNvSpPr/>
          <p:nvPr/>
        </p:nvSpPr>
        <p:spPr>
          <a:xfrm>
            <a:off x="1944720" y="2340000"/>
            <a:ext cx="7848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 каких местах можно переходить улиц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 надо правильно переходить улицу, дорог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Можно ли перебегать через улицу, дорог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чему пешеходам нельзя ходить по проезжей части улицы, дорог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колько сигналов у пешеходного светофор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52720" y="1116000"/>
          <a:ext cx="6616800" cy="863640"/>
        </p:xfrm>
        <a:graphic>
          <a:graphicData uri="http://schemas.openxmlformats.org/drawingml/2006/table">
            <a:tbl>
              <a:tblPr/>
              <a:tblGrid>
                <a:gridCol w="1440000"/>
                <a:gridCol w="5176800"/>
              </a:tblGrid>
              <a:tr h="8636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ые зна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65" name="TextBox 5"/>
          <p:cNvSpPr/>
          <p:nvPr/>
        </p:nvSpPr>
        <p:spPr>
          <a:xfrm>
            <a:off x="1800360" y="2556000"/>
            <a:ext cx="784836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 какие группы делятся дорожные знак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окажите знак, который запрещает движение пешеход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то должен знать дорожные знак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кажите знак “велосипедная дорожка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акие информационно-указательные знаки вы знает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 rot="20935200">
            <a:off x="2592000" y="6552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 rot="820800">
            <a:off x="7762680" y="676080"/>
            <a:ext cx="1409400" cy="188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968400" y="4932360"/>
            <a:ext cx="1482840" cy="148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7056360" y="4824360"/>
            <a:ext cx="1698840" cy="169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5"/>
          <a:stretch/>
        </p:blipFill>
        <p:spPr>
          <a:xfrm rot="664800">
            <a:off x="4753080" y="1739520"/>
            <a:ext cx="1912680" cy="1914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6"/>
          <a:stretch/>
        </p:blipFill>
        <p:spPr>
          <a:xfrm rot="20815200">
            <a:off x="2549520" y="4765320"/>
            <a:ext cx="4672080" cy="113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7"/>
          <a:stretch/>
        </p:blipFill>
        <p:spPr>
          <a:xfrm rot="20529600">
            <a:off x="2346480" y="3028680"/>
            <a:ext cx="1695240" cy="1695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8"/>
          <a:stretch/>
        </p:blipFill>
        <p:spPr>
          <a:xfrm rot="1738800">
            <a:off x="6888240" y="2976480"/>
            <a:ext cx="24638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57:14Z</dcterms:created>
  <dc:creator/>
  <dc:description/>
  <dc:language>en-US</dc:language>
  <cp:lastModifiedBy>-</cp:lastModifiedBy>
  <dcterms:modified xsi:type="dcterms:W3CDTF">2012-12-05T17:06:01Z</dcterms:modified>
  <cp:revision>9</cp:revision>
  <dc:subject/>
  <dc:title>Презентация PowerPoint</dc:title>
</cp:coreProperties>
</file>