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gif" ContentType="image/gif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708-15C8-4DD9-9E00-93BCC2B1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48F-7DCE-43B9-9968-D1EADE39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343-39FA-4DCE-9C85-ABFD4992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45F-6BB8-4C76-BD89-FABF7586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422-E4ED-4065-8E7E-97366B1C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19D-44F7-4100-815B-D10E24B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157-D1CD-4F7F-AAD9-77EB1A4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8CA-E4B7-48DA-A68A-E5260343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EA8-EDF4-4ECC-A583-CADD0E5A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522-4D84-4A66-A3F0-11F8819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4E6-5207-4200-B8EF-E255D29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C41-EC50-43A1-B2DD-7D6489F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A4B-3D62-4D7F-9215-DEFB1A997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357120"/>
            <a:ext cx="7786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62150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vin49.png"/>
          <p:cNvPicPr/>
          <p:nvPr/>
        </p:nvPicPr>
        <p:blipFill>
          <a:blip r:embed="rId1"/>
          <a:stretch/>
        </p:blipFill>
        <p:spPr>
          <a:xfrm>
            <a:off x="785880" y="500040"/>
            <a:ext cx="8572320" cy="3416400"/>
          </a:xfrm>
          <a:prstGeom prst="rect">
            <a:avLst/>
          </a:prstGeom>
          <a:ln w="0">
            <a:noFill/>
          </a:ln>
        </p:spPr>
      </p:pic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006560" y="1428840"/>
            <a:ext cx="7783560" cy="2046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окружающего ми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 2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В каких случаях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мы используем эти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2916360" y="5734080"/>
            <a:ext cx="3168360" cy="576360"/>
          </a:xfrm>
          <a:prstGeom prst="flowChartAlternateProcess">
            <a:avLst/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2"/>
          <p:cNvGrpSpPr/>
          <p:nvPr/>
        </p:nvGrpSpPr>
        <p:grpSpPr>
          <a:xfrm>
            <a:off x="1618920" y="1628640"/>
            <a:ext cx="5761440" cy="4105440"/>
            <a:chOff x="1618920" y="1628640"/>
            <a:chExt cx="5761440" cy="4105440"/>
          </a:xfrm>
        </p:grpSpPr>
        <p:pic>
          <p:nvPicPr>
            <p:cNvPr id="98" name="Picture 4" descr="6"/>
            <p:cNvPicPr/>
            <p:nvPr/>
          </p:nvPicPr>
          <p:blipFill>
            <a:blip r:embed="rId1"/>
            <a:stretch/>
          </p:blipFill>
          <p:spPr>
            <a:xfrm>
              <a:off x="2843280" y="1628640"/>
              <a:ext cx="331308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17"/>
            <p:cNvSpPr/>
            <p:nvPr/>
          </p:nvSpPr>
          <p:spPr>
            <a:xfrm flipV="1">
              <a:off x="6156360" y="2276640"/>
              <a:ext cx="1152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 flipH="1" flipV="1">
              <a:off x="1618920" y="2276640"/>
              <a:ext cx="1297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9"/>
            <p:cNvSpPr/>
            <p:nvPr/>
          </p:nvSpPr>
          <p:spPr>
            <a:xfrm>
              <a:off x="6084720" y="3789360"/>
              <a:ext cx="129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0"/>
            <p:cNvSpPr/>
            <p:nvPr/>
          </p:nvSpPr>
          <p:spPr>
            <a:xfrm flipH="1">
              <a:off x="1692360" y="3789360"/>
              <a:ext cx="1295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>
              <a:off x="4500720" y="4508640"/>
              <a:ext cx="0" cy="122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14"/>
          <p:cNvSpPr/>
          <p:nvPr/>
        </p:nvSpPr>
        <p:spPr>
          <a:xfrm>
            <a:off x="6012000" y="1700280"/>
            <a:ext cx="2736720" cy="576360"/>
          </a:xfrm>
          <a:prstGeom prst="flowChartAlternateProcess">
            <a:avLst/>
          </a:prstGeom>
          <a:solidFill>
            <a:srgbClr val="66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6012000" y="4365720"/>
            <a:ext cx="2736720" cy="576000"/>
          </a:xfrm>
          <a:prstGeom prst="flowChartAlternateProcess">
            <a:avLst/>
          </a:prstGeom>
          <a:solidFill>
            <a:srgbClr val="ff66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395280" y="4365720"/>
            <a:ext cx="2736720" cy="576000"/>
          </a:xfrm>
          <a:prstGeom prst="flowChartAlternateProcess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в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395280" y="1700280"/>
            <a:ext cx="2736720" cy="57636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опия 4"/>
          <p:cNvPicPr/>
          <p:nvPr/>
        </p:nvPicPr>
        <p:blipFill>
          <a:blip r:embed="rId1"/>
          <a:stretch/>
        </p:blipFill>
        <p:spPr>
          <a:xfrm>
            <a:off x="324000" y="1557360"/>
            <a:ext cx="4537080" cy="4156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Здравствуй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71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то обозначает э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слов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ого можно им приветств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ми словами можно заменить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84600" y="5734080"/>
            <a:ext cx="74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ы желаем вам здоровья (здрав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5"/>
          <p:cNvPicPr/>
          <p:nvPr/>
        </p:nvPicPr>
        <p:blipFill>
          <a:blip r:embed="rId2"/>
          <a:stretch/>
        </p:blipFill>
        <p:spPr>
          <a:xfrm flipH="1">
            <a:off x="4932360" y="1268280"/>
            <a:ext cx="32400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7920" y="14526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Я другу говор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ивет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А он в 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орово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Тут нич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лохого н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одходят оба сло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аочло"/>
          <p:cNvPicPr/>
          <p:nvPr/>
        </p:nvPicPr>
        <p:blipFill>
          <a:blip r:embed="rId1"/>
          <a:stretch/>
        </p:blipFill>
        <p:spPr>
          <a:xfrm>
            <a:off x="468360" y="1628640"/>
            <a:ext cx="3960720" cy="36212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116" name="Picture 5" descr="5"/>
          <p:cNvPicPr/>
          <p:nvPr/>
        </p:nvPicPr>
        <p:blipFill>
          <a:blip r:embed="rId2"/>
          <a:stretch/>
        </p:blipFill>
        <p:spPr>
          <a:xfrm>
            <a:off x="6948360" y="0"/>
            <a:ext cx="1871640" cy="153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гыее"/>
          <p:cNvPicPr/>
          <p:nvPr/>
        </p:nvPicPr>
        <p:blipFill>
          <a:blip r:embed="rId3"/>
          <a:stretch/>
        </p:blipFill>
        <p:spPr>
          <a:xfrm>
            <a:off x="2340000" y="404640"/>
            <a:ext cx="4392720" cy="41338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118" name="Text Box 7"/>
          <p:cNvSpPr/>
          <p:nvPr/>
        </p:nvSpPr>
        <p:spPr>
          <a:xfrm>
            <a:off x="1770480" y="4508640"/>
            <a:ext cx="568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Стар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сли встречаемся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рвым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равствуйте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мы гово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До сви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73440" y="4940280"/>
            <a:ext cx="932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огда и кому говорят эти слов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ми словами можно их замен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то обозначает это выраж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539640" y="1316160"/>
            <a:ext cx="8064720" cy="3481200"/>
            <a:chOff x="539640" y="1316160"/>
            <a:chExt cx="8064720" cy="3481200"/>
          </a:xfrm>
        </p:grpSpPr>
        <p:pic>
          <p:nvPicPr>
            <p:cNvPr id="122" name="Picture 4" descr="яванявм"/>
            <p:cNvPicPr/>
            <p:nvPr/>
          </p:nvPicPr>
          <p:blipFill>
            <a:blip r:embed="rId1"/>
            <a:stretch/>
          </p:blipFill>
          <p:spPr>
            <a:xfrm>
              <a:off x="4788000" y="1316160"/>
              <a:ext cx="3816360" cy="34812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123" name="Picture 5" descr="езш"/>
            <p:cNvPicPr/>
            <p:nvPr/>
          </p:nvPicPr>
          <p:blipFill>
            <a:blip r:embed="rId2"/>
            <a:stretch/>
          </p:blipFill>
          <p:spPr>
            <a:xfrm>
              <a:off x="539640" y="1341360"/>
              <a:ext cx="3930840" cy="34416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</p:grpSp>
      <p:sp>
        <p:nvSpPr>
          <p:cNvPr id="124" name="Text Box 7"/>
          <p:cNvSpPr/>
          <p:nvPr/>
        </p:nvSpPr>
        <p:spPr>
          <a:xfrm>
            <a:off x="1049400" y="5229360"/>
            <a:ext cx="68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До свидания» - т.е. мы надеем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видеть вас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1123920" y="260280"/>
            <a:ext cx="7076160" cy="1068840"/>
            <a:chOff x="1123920" y="260280"/>
            <a:chExt cx="7076160" cy="1068840"/>
          </a:xfrm>
        </p:grpSpPr>
        <p:sp>
          <p:nvSpPr>
            <p:cNvPr id="126" name="Text Box 8"/>
            <p:cNvSpPr/>
            <p:nvPr/>
          </p:nvSpPr>
          <p:spPr>
            <a:xfrm>
              <a:off x="1123920" y="476280"/>
              <a:ext cx="282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ff"/>
                  </a:solidFill>
                  <a:latin typeface="Comic Sans MS"/>
                </a:rPr>
                <a:t>До свидания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5661720" y="260280"/>
              <a:ext cx="253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ff"/>
                  </a:solidFill>
                  <a:latin typeface="Comic Sans MS"/>
                </a:rPr>
                <a:t>Пок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ff"/>
                  </a:solidFill>
                  <a:latin typeface="Comic Sans MS"/>
                </a:rPr>
                <a:t>До встреч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56000" y="980640"/>
            <a:ext cx="4176720" cy="4824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о свиданья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а прощан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Говори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 том и реч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то ещё н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дут свидан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Много-м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овых встреч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4"/>
          <p:cNvPicPr/>
          <p:nvPr/>
        </p:nvPicPr>
        <p:blipFill>
          <a:blip r:embed="rId1"/>
          <a:stretch/>
        </p:blipFill>
        <p:spPr>
          <a:xfrm>
            <a:off x="324000" y="3105000"/>
            <a:ext cx="3960720" cy="284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5"/>
          <p:cNvPicPr/>
          <p:nvPr/>
        </p:nvPicPr>
        <p:blipFill>
          <a:blip r:embed="rId2"/>
          <a:stretch/>
        </p:blipFill>
        <p:spPr>
          <a:xfrm>
            <a:off x="1258920" y="404640"/>
            <a:ext cx="21607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fruitka63.gif"/>
          <p:cNvPicPr/>
          <p:nvPr/>
        </p:nvPicPr>
        <p:blipFill>
          <a:blip r:embed="rId1"/>
          <a:stretch/>
        </p:blipFill>
        <p:spPr>
          <a:xfrm>
            <a:off x="706320" y="493560"/>
            <a:ext cx="7804440" cy="5821560"/>
          </a:xfrm>
          <a:prstGeom prst="rect">
            <a:avLst/>
          </a:prstGeom>
          <a:ln w="0">
            <a:noFill/>
          </a:ln>
        </p:spPr>
      </p:pic>
      <p:pic>
        <p:nvPicPr>
          <p:cNvPr id="133" name="Заголовок 1" descr=""/>
          <p:cNvPicPr/>
          <p:nvPr/>
        </p:nvPicPr>
        <p:blipFill>
          <a:blip r:embed="rId2"/>
          <a:stretch/>
        </p:blipFill>
        <p:spPr>
          <a:xfrm>
            <a:off x="633240" y="1920960"/>
            <a:ext cx="8242560" cy="1627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ptah011.jpg"/>
          <p:cNvPicPr/>
          <p:nvPr/>
        </p:nvPicPr>
        <p:blipFill>
          <a:blip r:embed="rId3"/>
          <a:stretch/>
        </p:blipFill>
        <p:spPr>
          <a:xfrm>
            <a:off x="3000240" y="3714840"/>
            <a:ext cx="3005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756720" y="192888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спеш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первым сесть за ст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544040" y="2143080"/>
            <a:ext cx="662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разговарива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о время е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71760" y="17146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забывай закрывать рот, когда жу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2028960" y="2428920"/>
            <a:ext cx="440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чавка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romash02.jpg"/>
          <p:cNvPicPr/>
          <p:nvPr/>
        </p:nvPicPr>
        <p:blipFill>
          <a:blip r:embed="rId1"/>
          <a:stretch/>
        </p:blipFill>
        <p:spPr>
          <a:xfrm>
            <a:off x="5318280" y="3714840"/>
            <a:ext cx="3825720" cy="3443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512640" y="1828800"/>
            <a:ext cx="82774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474120" y="2428920"/>
            <a:ext cx="804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рвись первы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ыскакивать в двер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898640" y="2286000"/>
            <a:ext cx="566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перебива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говорящег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1285920" y="1571760"/>
            <a:ext cx="628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кричи и не повышай голос, если перед тобой не глух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1469160" y="2143080"/>
            <a:ext cx="588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размахив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рук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"/>
          <p:cNvSpPr/>
          <p:nvPr/>
        </p:nvSpPr>
        <p:spPr>
          <a:xfrm>
            <a:off x="1143000" y="1857240"/>
            <a:ext cx="642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показывай пальцем на кого бы то ни бы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928800" y="1500120"/>
            <a:ext cx="65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вмешивайся в чужой разговор, не произнося «простите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428840" y="1643040"/>
            <a:ext cx="607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забудь извиниться если кого-нибудь толкну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714240" y="928800"/>
            <a:ext cx="8072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делай вид в троллейбусе или автобусе, что ты не замечаешь стоящего стари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533960" y="2071800"/>
            <a:ext cx="60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держи ру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 карман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Работа в пара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svitolk20.png"/>
          <p:cNvPicPr/>
          <p:nvPr/>
        </p:nvPicPr>
        <p:blipFill>
          <a:blip r:embed="rId1"/>
          <a:stretch/>
        </p:blipFill>
        <p:spPr>
          <a:xfrm>
            <a:off x="5429160" y="1857240"/>
            <a:ext cx="4286520" cy="48056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281160" y="328680"/>
            <a:ext cx="8918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аться при встрече-вежливо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нуть, не извиниться…-невежлив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чь подняться………….вежливо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929120" y="171468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072040" y="278604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857840" y="3857760"/>
            <a:ext cx="216036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ять упавшую вещь…вежливо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не встать, когда учитель здоровается…невежливо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пустить девочку перед дверью…вежл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072040" y="164304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286080" y="3143160"/>
            <a:ext cx="2160720" cy="57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428920" y="450072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Образуй своё правило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ежлив со своими товарищ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давай им прозвищ и кличек.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порь с товарищами по пустяк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сорься, работай и играй дру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нимательным к окружающи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ичиняй им неприят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71680" y="2214720"/>
            <a:ext cx="566100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00040" y="3286080"/>
            <a:ext cx="628668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00040" y="4572000"/>
            <a:ext cx="666108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Рассмотрите рисунки на стр. 52 учебника. Придумайте и разыграйте разговор между героями, используя вежливы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jcnm"/>
          <p:cNvPicPr/>
          <p:nvPr/>
        </p:nvPicPr>
        <p:blipFill>
          <a:blip r:embed="rId1"/>
          <a:stretch/>
        </p:blipFill>
        <p:spPr>
          <a:xfrm>
            <a:off x="2050920" y="1341360"/>
            <a:ext cx="50403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,kbh"/>
          <p:cNvPicPr/>
          <p:nvPr/>
        </p:nvPicPr>
        <p:blipFill>
          <a:blip r:embed="rId1"/>
          <a:stretch/>
        </p:blipFill>
        <p:spPr>
          <a:xfrm>
            <a:off x="971640" y="1125360"/>
            <a:ext cx="7056360" cy="52848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е правила нужно соблюдать при разговоре по телефону, чтобы он получился вежлив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8"/>
          <p:cNvPicPr/>
          <p:nvPr/>
        </p:nvPicPr>
        <p:blipFill>
          <a:blip r:embed="rId1"/>
          <a:stretch/>
        </p:blipFill>
        <p:spPr>
          <a:xfrm>
            <a:off x="1332000" y="765000"/>
            <a:ext cx="6451560" cy="3834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14280" y="145080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оваривать по телефону нужн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м то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ова приветствия, благо-дарности, извинения, прощ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дует говори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ишком дол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7"/>
          <p:cNvPicPr/>
          <p:nvPr/>
        </p:nvPicPr>
        <p:blipFill>
          <a:blip r:embed="rId1"/>
          <a:stretch/>
        </p:blipFill>
        <p:spPr>
          <a:xfrm>
            <a:off x="428760" y="1341360"/>
            <a:ext cx="3581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1365120" y="1889280"/>
            <a:ext cx="655344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svitolk22.jpg"/>
          <p:cNvPicPr/>
          <p:nvPr/>
        </p:nvPicPr>
        <p:blipFill>
          <a:blip r:embed="rId2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1536840" y="1390680"/>
            <a:ext cx="6484680" cy="4583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svitolk22.jpg"/>
          <p:cNvPicPr/>
          <p:nvPr/>
        </p:nvPicPr>
        <p:blipFill>
          <a:blip r:embed="rId2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1" descr=""/>
          <p:cNvPicPr/>
          <p:nvPr/>
        </p:nvPicPr>
        <p:blipFill>
          <a:blip r:embed="rId1"/>
          <a:stretch/>
        </p:blipFill>
        <p:spPr>
          <a:xfrm>
            <a:off x="506520" y="1762200"/>
            <a:ext cx="8418240" cy="2949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svitolk22.jpg"/>
          <p:cNvPicPr/>
          <p:nvPr/>
        </p:nvPicPr>
        <p:blipFill>
          <a:blip r:embed="rId2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svitolk22.jpg"/>
          <p:cNvPicPr/>
          <p:nvPr/>
        </p:nvPicPr>
        <p:blipFill>
          <a:blip r:embed="rId1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" descr=""/>
          <p:cNvPicPr/>
          <p:nvPr/>
        </p:nvPicPr>
        <p:blipFill>
          <a:blip r:embed="rId2"/>
          <a:stretch/>
        </p:blipFill>
        <p:spPr>
          <a:xfrm>
            <a:off x="517680" y="1792440"/>
            <a:ext cx="8388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svitolk22.jpg"/>
          <p:cNvPicPr/>
          <p:nvPr/>
        </p:nvPicPr>
        <p:blipFill>
          <a:blip r:embed="rId1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2"/>
          <a:stretch/>
        </p:blipFill>
        <p:spPr>
          <a:xfrm>
            <a:off x="579600" y="1792440"/>
            <a:ext cx="82659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5"/>
          <p:cNvPicPr/>
          <p:nvPr/>
        </p:nvPicPr>
        <p:blipFill>
          <a:blip r:embed="rId1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41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64" name="Group 34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65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1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35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70" name="Text Box 13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4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5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6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7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75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8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80" name="Text Box 21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22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3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4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39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85" name="Text Box 26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7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8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9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36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90" name="Text Box 30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31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2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3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40"/>
          <p:cNvSpPr/>
          <p:nvPr/>
        </p:nvSpPr>
        <p:spPr>
          <a:xfrm>
            <a:off x="367920" y="544500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2:17:06Z</dcterms:created>
  <dc:creator>Zver</dc:creator>
  <dc:description/>
  <dc:language>en-US</dc:language>
  <cp:lastModifiedBy>Sveta</cp:lastModifiedBy>
  <dcterms:modified xsi:type="dcterms:W3CDTF">2013-04-06T07:19:43Z</dcterms:modified>
  <cp:revision>55</cp:revision>
  <dc:subject/>
  <dc:title>Правила  вежливости</dc:title>
</cp:coreProperties>
</file>