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DB2-0B46-4CFC-80CE-8B9BB076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A31-6E6F-4D48-9B68-F1BCC79A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0A8-66DB-42AD-A989-B85D2986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808E-E905-4BD4-94BE-AAD3F5232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A17-2CCB-485B-BC71-1BBC401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85E-A19A-4508-B0AD-2BF5600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2D0-B933-48EB-89A2-DFE7D4C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BA4-5DF5-4BDC-99D6-CA0678D0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E19-7E3C-4163-894D-35472AFD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5E3-F10B-4960-B854-FE33EEA9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659-66B8-430C-90E1-4C80E8C9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6F7-3842-4752-9589-9596B31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B48-EA6E-4661-A009-21D4D7F23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mgpgu.ru/" TargetMode="External"/><Relationship Id="rId2" Type="http://schemas.openxmlformats.org/officeDocument/2006/relationships/hyperlink" Target="http://old.priroda.ru/index.php" TargetMode="External"/><Relationship Id="rId3" Type="http://schemas.openxmlformats.org/officeDocument/2006/relationships/hyperlink" Target="http://old.priroda.ru/index.php" TargetMode="External"/><Relationship Id="rId4" Type="http://schemas.openxmlformats.org/officeDocument/2006/relationships/hyperlink" Target="http://www.liveinternet.ru/tags/%FF%ED%F2%E0%F0%FC+%E8%F1%F2%EE%F0%E8%FF+%E8+%EC%E8%F4%FB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http://dragotsennye-kamni.ru/images/stories/yzntari.jpg"/>
          <p:cNvPicPr/>
          <p:nvPr/>
        </p:nvPicPr>
        <p:blipFill>
          <a:blip r:embed="rId1"/>
          <a:stretch/>
        </p:blipFill>
        <p:spPr>
          <a:xfrm>
            <a:off x="1979640" y="2421000"/>
            <a:ext cx="5040360" cy="3352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79280" y="61657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выполнила Васильева И.Ю.                                                                                             ГБОУ школа № 454 Колпинский район Санкт- Петербург  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536400" y="-249120"/>
            <a:ext cx="82170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2840" y="12600"/>
            <a:ext cx="8948880" cy="646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g2.delphi.lv/images/pix/520x360/f57f7c73/file39186907_c2bdb1bf.jpg"/>
          <p:cNvPicPr/>
          <p:nvPr/>
        </p:nvPicPr>
        <p:blipFill>
          <a:blip r:embed="rId2"/>
          <a:stretch/>
        </p:blipFill>
        <p:spPr>
          <a:xfrm>
            <a:off x="3924360" y="1989000"/>
            <a:ext cx="49528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amgpgu.r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.priroda.ru/index.php Министерство природных ресурсов Российской Федерации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_x000b_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liveinternet.ru/tags/%FF%ED%F2%E0%F0%FC+%E8%F1%F2%EE%F0%E8%FF+%E8+%EC%E8%F4%FB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stoneofsun.ru/names.ph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www.spmi.ru/media/mineral/inklyuziya-v-yant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baltamber.ru/pages/dobycha-i-mestorozhdenija-jantarja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http://lavrovit.ru/?page_id=214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Прямоугольник 3" descr=""/>
          <p:cNvPicPr/>
          <p:nvPr/>
        </p:nvPicPr>
        <p:blipFill>
          <a:blip r:embed="rId1"/>
          <a:stretch/>
        </p:blipFill>
        <p:spPr>
          <a:xfrm>
            <a:off x="390600" y="-208080"/>
            <a:ext cx="8783640" cy="2017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324000" y="17614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менелая моча рыси (древние римляне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т солнечных лучей (древние греки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я морских животных – ки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рская пена, затвердевшая от солнечного с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фть со дна мор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твердевшая см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amgpgu.ru/Evolution/Lectures/History/Pictures/Scale.png"/>
          <p:cNvPicPr/>
          <p:nvPr/>
        </p:nvPicPr>
        <p:blipFill>
          <a:blip r:embed="rId1"/>
          <a:stretch/>
        </p:blipFill>
        <p:spPr>
          <a:xfrm>
            <a:off x="755640" y="907920"/>
            <a:ext cx="3672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динозавр_2"/>
          <p:cNvPicPr/>
          <p:nvPr/>
        </p:nvPicPr>
        <p:blipFill>
          <a:blip r:embed="rId2"/>
          <a:stretch/>
        </p:blipFill>
        <p:spPr>
          <a:xfrm>
            <a:off x="5148360" y="981000"/>
            <a:ext cx="360036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0" name="Прямая со стрелкой 6"/>
          <p:cNvCxnSpPr/>
          <p:nvPr/>
        </p:nvCxnSpPr>
        <p:spPr>
          <a:xfrm>
            <a:off x="3347640" y="1773360"/>
            <a:ext cx="1656360" cy="10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1" name="Picture 4" descr="динозавр_1"/>
          <p:cNvPicPr/>
          <p:nvPr/>
        </p:nvPicPr>
        <p:blipFill>
          <a:blip r:embed="rId3"/>
          <a:stretch/>
        </p:blipFill>
        <p:spPr>
          <a:xfrm>
            <a:off x="5148360" y="3933720"/>
            <a:ext cx="360036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2" name="Прямая со стрелкой 9"/>
          <p:cNvCxnSpPr/>
          <p:nvPr/>
        </p:nvCxnSpPr>
        <p:spPr>
          <a:xfrm>
            <a:off x="3491280" y="3068640"/>
            <a:ext cx="1585080" cy="244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Прямоугольник 10" descr=""/>
          <p:cNvPicPr/>
          <p:nvPr/>
        </p:nvPicPr>
        <p:blipFill>
          <a:blip r:embed="rId4"/>
          <a:stretch/>
        </p:blipFill>
        <p:spPr>
          <a:xfrm>
            <a:off x="-79200" y="-208080"/>
            <a:ext cx="93024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79280" y="106740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алтийский янтарь (сукцинит) - это окаменевшая смола янтареносной сосны пинус сукцинифера, произраставшей около 50 млн. лет назад на территории Скандинавского полуостр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месте повреждения ствола смола застывала в виде капель, сосулек и нате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орских условиях под сло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ины спрессовалас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лежи и образов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стор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сосна янтароносная"/>
          <p:cNvPicPr/>
          <p:nvPr/>
        </p:nvPicPr>
        <p:blipFill>
          <a:blip r:embed="rId1"/>
          <a:stretch/>
        </p:blipFill>
        <p:spPr>
          <a:xfrm>
            <a:off x="5148360" y="3357720"/>
            <a:ext cx="367164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Прямоугольник 8" descr=""/>
          <p:cNvPicPr/>
          <p:nvPr/>
        </p:nvPicPr>
        <p:blipFill>
          <a:blip r:embed="rId2"/>
          <a:stretch/>
        </p:blipFill>
        <p:spPr>
          <a:xfrm>
            <a:off x="407880" y="-208080"/>
            <a:ext cx="8394840" cy="197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img0.liveinternet.ru/images/attach/c/0/45/322/45322648_800pxAmber_Bernstein_many_stones.jpg"/>
          <p:cNvPicPr/>
          <p:nvPr/>
        </p:nvPicPr>
        <p:blipFill>
          <a:blip r:embed="rId3"/>
          <a:stretch/>
        </p:blipFill>
        <p:spPr>
          <a:xfrm>
            <a:off x="2843280" y="5013360"/>
            <a:ext cx="22366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.pandoraopen.ru/http:/sphotos.ak.fbcdn.net/hphotos-ak-ash2/hs017.ash2/34203_108455655871206_108439025872869_63644_4854221_n.jpg"/>
          <p:cNvPicPr/>
          <p:nvPr/>
        </p:nvPicPr>
        <p:blipFill>
          <a:blip r:embed="rId1"/>
          <a:stretch/>
        </p:blipFill>
        <p:spPr>
          <a:xfrm>
            <a:off x="3851280" y="3716280"/>
            <a:ext cx="5111640" cy="30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4" descr="http://www.ambercombine.ru/images/combinat.jpg"/>
          <p:cNvPicPr/>
          <p:nvPr/>
        </p:nvPicPr>
        <p:blipFill>
          <a:blip r:embed="rId2"/>
          <a:stretch/>
        </p:blipFill>
        <p:spPr>
          <a:xfrm>
            <a:off x="108000" y="115920"/>
            <a:ext cx="37432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108000" y="3938760"/>
            <a:ext cx="3527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йоне поселка Янтарный Калининградской области расположилось одно из наиболее крупных мировых месторождений янтаря, на территории которого добывают около 90 % мировых запасов янта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3"/>
          <p:cNvCxnSpPr/>
          <p:nvPr/>
        </p:nvCxnSpPr>
        <p:spPr>
          <a:xfrm>
            <a:off x="3780000" y="4653000"/>
            <a:ext cx="721440" cy="2894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62" name="Picture 7" descr="&amp;YAcy;&amp;ncy;&amp;tcy;&amp;acy;&amp;rcy;&amp;ncy;&amp;ycy;&amp;jcy; &amp;acy;&amp;dcy;"/>
          <p:cNvPicPr/>
          <p:nvPr/>
        </p:nvPicPr>
        <p:blipFill>
          <a:blip r:embed="rId3"/>
          <a:stretch/>
        </p:blipFill>
        <p:spPr>
          <a:xfrm>
            <a:off x="4643280" y="981000"/>
            <a:ext cx="333864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Прямоугольник 15" descr=""/>
          <p:cNvPicPr/>
          <p:nvPr/>
        </p:nvPicPr>
        <p:blipFill>
          <a:blip r:embed="rId4"/>
          <a:stretch/>
        </p:blipFill>
        <p:spPr>
          <a:xfrm>
            <a:off x="3529080" y="-208080"/>
            <a:ext cx="592596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1"/>
          <a:stretch/>
        </p:blipFill>
        <p:spPr>
          <a:xfrm>
            <a:off x="822240" y="-208080"/>
            <a:ext cx="699948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08000" y="2924280"/>
            <a:ext cx="5400720" cy="37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irc_mi" descr="ANd9GcQyrpKq26UnTHkxMIxgiqdv4W2fngH6De3B3OdmvvxSR7_Nwd1q8g"/>
          <p:cNvPicPr/>
          <p:nvPr/>
        </p:nvPicPr>
        <p:blipFill>
          <a:blip r:embed="rId3"/>
          <a:stretch/>
        </p:blipFill>
        <p:spPr>
          <a:xfrm>
            <a:off x="6156360" y="836640"/>
            <a:ext cx="23432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08000" y="836640"/>
            <a:ext cx="219060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irc_mi" descr="76511713_3937309_1253651067_14"/>
          <p:cNvPicPr/>
          <p:nvPr/>
        </p:nvPicPr>
        <p:blipFill>
          <a:blip r:embed="rId5"/>
          <a:stretch/>
        </p:blipFill>
        <p:spPr>
          <a:xfrm>
            <a:off x="4572000" y="836640"/>
            <a:ext cx="14860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6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2411280" y="836640"/>
            <a:ext cx="206388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8" descr="http://img0.liveinternet.ru/images/foto/c/0/apps/3/386/3386664_0709c2629ce51.jpg"/>
          <p:cNvPicPr/>
          <p:nvPr/>
        </p:nvPicPr>
        <p:blipFill>
          <a:blip r:embed="rId7"/>
          <a:stretch/>
        </p:blipFill>
        <p:spPr>
          <a:xfrm>
            <a:off x="5651640" y="2924280"/>
            <a:ext cx="3313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1060560" y="-208080"/>
            <a:ext cx="7192800" cy="119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101hotels.info/uploads/image/facility/668/100714.jpeg"/>
          <p:cNvPicPr/>
          <p:nvPr/>
        </p:nvPicPr>
        <p:blipFill>
          <a:blip r:embed="rId2"/>
          <a:stretch/>
        </p:blipFill>
        <p:spPr>
          <a:xfrm>
            <a:off x="250920" y="1052640"/>
            <a:ext cx="866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63680" y="-324000"/>
            <a:ext cx="8242200" cy="1165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68000" y="1052280"/>
            <a:ext cx="837252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Слезы» сосны стали своеобразной ловушкой для многих обитателей "янтарного леса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клюзии - включения насеком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растений в янтаре придают 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овторимую прелес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ще римский поэт Марциал (I век н.э.)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их знаменитых "Эпиграммах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славил янтарные инклюз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encrypted-tbn3.gstatic.com/images?q=tbn:ANd9GcQk6Ld1Yhe2gVMojIDfHs4T2BZSunBSvRxIhBO_ULQBC5_XQWQMyQ"/>
          <p:cNvPicPr/>
          <p:nvPr/>
        </p:nvPicPr>
        <p:blipFill>
          <a:blip r:embed="rId1"/>
          <a:stretch/>
        </p:blipFill>
        <p:spPr>
          <a:xfrm>
            <a:off x="6156360" y="2565360"/>
            <a:ext cx="251928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4" descr="https://encrypted-tbn1.gstatic.com/images?q=tbn:ANd9GcTgfeNW-8MQCDapXNE8uANie0RpYn0hdS7RHrAmTxLS1ZGawesB"/>
          <p:cNvPicPr/>
          <p:nvPr/>
        </p:nvPicPr>
        <p:blipFill>
          <a:blip r:embed="rId2"/>
          <a:stretch/>
        </p:blipFill>
        <p:spPr>
          <a:xfrm>
            <a:off x="250920" y="4581360"/>
            <a:ext cx="266544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6" descr="https://encrypted-tbn0.gstatic.com/images?q=tbn:ANd9GcRmjUw9YJZE_8fkAuEYnrqu3kOLBsTExh74WzgKyj3Q336ScgpaZg"/>
          <p:cNvPicPr/>
          <p:nvPr/>
        </p:nvPicPr>
        <p:blipFill>
          <a:blip r:embed="rId3"/>
          <a:stretch/>
        </p:blipFill>
        <p:spPr>
          <a:xfrm>
            <a:off x="250920" y="2565360"/>
            <a:ext cx="266544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8" descr="http://upload.wikimedia.org/wikipedia/commons/thumb/c/c8/Spider_in_amber_%281%29.jpg/220px-Spider_in_amber_%281%29.jpg"/>
          <p:cNvPicPr/>
          <p:nvPr/>
        </p:nvPicPr>
        <p:blipFill>
          <a:blip r:embed="rId4"/>
          <a:stretch/>
        </p:blipFill>
        <p:spPr>
          <a:xfrm>
            <a:off x="3132000" y="2565360"/>
            <a:ext cx="2808360" cy="19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10" descr="https://encrypted-tbn1.gstatic.com/images?q=tbn:ANd9GcRWdgt5lNOEUMXpI5TafNX1ivaDeb7IVH4BiRMPufDxmVSyLwPC2g"/>
          <p:cNvPicPr/>
          <p:nvPr/>
        </p:nvPicPr>
        <p:blipFill>
          <a:blip r:embed="rId5"/>
          <a:stretch/>
        </p:blipFill>
        <p:spPr>
          <a:xfrm>
            <a:off x="5219640" y="7650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https://encrypted-tbn0.gstatic.com/images?q=tbn:ANd9GcTcC7A0WaPytE1lNedyv5EA9WmWojEhPKVes247UXulqdV1i2xa"/>
          <p:cNvPicPr/>
          <p:nvPr/>
        </p:nvPicPr>
        <p:blipFill>
          <a:blip r:embed="rId6"/>
          <a:stretch/>
        </p:blipFill>
        <p:spPr>
          <a:xfrm>
            <a:off x="6156360" y="4581360"/>
            <a:ext cx="251928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1" name="Picture 16" descr="http://blogokamne.ru/wp-content/uploads/2011/09/yantar2-520-x-346.jpg"/>
          <p:cNvPicPr/>
          <p:nvPr/>
        </p:nvPicPr>
        <p:blipFill>
          <a:blip r:embed="rId7"/>
          <a:srcRect l="0" t="0" r="-296" b="0"/>
          <a:stretch/>
        </p:blipFill>
        <p:spPr>
          <a:xfrm>
            <a:off x="3132000" y="4581360"/>
            <a:ext cx="2808360" cy="18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Прямоугольник 8" descr=""/>
          <p:cNvPicPr/>
          <p:nvPr/>
        </p:nvPicPr>
        <p:blipFill>
          <a:blip r:embed="rId8"/>
          <a:stretch/>
        </p:blipFill>
        <p:spPr>
          <a:xfrm>
            <a:off x="804960" y="-353880"/>
            <a:ext cx="7589880" cy="1135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0" y="765000"/>
            <a:ext cx="52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тополевой тени гуляя, мурав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рилипчивой смоле завяз ногой свое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тя он у людей был в жизнь свою презренн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мерти в янтаре у них стал драгоценный.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ПереводМ.В.Ломонос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2:25:29Z</dcterms:created>
  <dc:creator>Witcher</dc:creator>
  <dc:description/>
  <dc:language>en-US</dc:language>
  <cp:lastModifiedBy>Witcher</cp:lastModifiedBy>
  <dcterms:modified xsi:type="dcterms:W3CDTF">2013-05-02T15:30:33Z</dcterms:modified>
  <cp:revision>71</cp:revision>
  <dc:subject/>
  <dc:title>Слайд 1</dc:title>
</cp:coreProperties>
</file>