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B0A-75BC-4EFA-9C88-A1CA2A7D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D53-2304-46D1-816C-B63F0997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654-820F-490F-AAE9-20303566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9D2-FC45-4E8D-B2C5-9ABC8DE8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101-DB73-4A91-9E26-C2E19A1E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EC-AC65-4E66-BCD3-35042B85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615-F136-4198-A63A-3FDFEA0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CCA-8624-4C5C-8E2B-900D802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FEE-D92E-4540-B1B3-023F6C8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BA7-7AFD-448F-8DD9-4BB9D85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6E7-70D6-44E9-A339-5F93948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E7E-EFF3-4368-BF76-2E8136B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BF3-0417-43E8-99DB-C25DCCBD9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страница 30" descr="Атлас  Биология 6 класс0002.jpg"/>
          <p:cNvPicPr/>
          <p:nvPr/>
        </p:nvPicPr>
        <p:blipFill>
          <a:blip r:embed="rId1"/>
          <a:stretch/>
        </p:blipFill>
        <p:spPr>
          <a:xfrm>
            <a:off x="214200" y="-14400"/>
            <a:ext cx="4429080" cy="5711760"/>
          </a:xfrm>
          <a:prstGeom prst="rect">
            <a:avLst/>
          </a:prstGeom>
          <a:ln w="0">
            <a:noFill/>
          </a:ln>
        </p:spPr>
      </p:pic>
      <p:pic>
        <p:nvPicPr>
          <p:cNvPr id="44" name="страница 1" descr="Атлас  Биология 6 класс0001.jpg"/>
          <p:cNvPicPr/>
          <p:nvPr/>
        </p:nvPicPr>
        <p:blipFill>
          <a:blip r:embed="rId2"/>
          <a:stretch/>
        </p:blipFill>
        <p:spPr>
          <a:xfrm>
            <a:off x="4646520" y="-9360"/>
            <a:ext cx="428328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траница 3" descr="Атлас  Биология 6 класс0001.jpg"/>
          <p:cNvPicPr/>
          <p:nvPr/>
        </p:nvPicPr>
        <p:blipFill>
          <a:blip r:embed="rId1"/>
          <a:stretch/>
        </p:blipFill>
        <p:spPr>
          <a:xfrm>
            <a:off x="4643280" y="571680"/>
            <a:ext cx="4284720" cy="5700600"/>
          </a:xfrm>
          <a:prstGeom prst="rect">
            <a:avLst/>
          </a:prstGeom>
          <a:ln w="0">
            <a:noFill/>
          </a:ln>
        </p:spPr>
      </p:pic>
      <p:pic>
        <p:nvPicPr>
          <p:cNvPr id="46" name="страница 28" descr="Атлас  Биология 6 класс0002.jpg"/>
          <p:cNvPicPr/>
          <p:nvPr/>
        </p:nvPicPr>
        <p:blipFill>
          <a:blip r:embed="rId2"/>
          <a:stretch/>
        </p:blipFill>
        <p:spPr>
          <a:xfrm>
            <a:off x="285840" y="571680"/>
            <a:ext cx="4357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5:40:23Z</dcterms:created>
  <dc:creator>Ольга Николаевна</dc:creator>
  <dc:description/>
  <dc:language>en-US</dc:language>
  <cp:lastModifiedBy>Ольга Николаевна</cp:lastModifiedBy>
  <dcterms:modified xsi:type="dcterms:W3CDTF">2013-03-31T15:42:25Z</dcterms:modified>
  <cp:revision>1</cp:revision>
  <dc:subject/>
  <dc:title>Слайд 1</dc:title>
</cp:coreProperties>
</file>