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A5B-28CB-4437-9BFB-B8BA0846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6AF-6128-46E0-A0CD-CB71BB4C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6EB-EE90-4F89-B340-A4990AB2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064-2B9E-4D9B-9E42-8D02699D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8A1-5307-47E5-B94A-40A2E63D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6FE-4F6C-4795-B056-9C8558B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B46-A6D1-466E-95DE-3086829B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49E-34E6-495C-8AD3-8C601AD0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EFB-53E0-4605-9980-2F9EE511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941-C2D0-4D87-9A34-EBCDBE0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599-620A-4147-9F83-3659AC88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280-D267-492F-A329-8149C4EB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2976-3A10-46B1-A68F-83F1C7103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Documents and Settings\Администратор.COMP\Мои документы\картинки\ФОНЫ\фоны синие\14-12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" name="Прямоугольник 10"/>
          <p:cNvSpPr/>
          <p:nvPr/>
        </p:nvSpPr>
        <p:spPr>
          <a:xfrm>
            <a:off x="142920" y="1285920"/>
            <a:ext cx="9001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Georgia"/>
              </a:rPr>
              <a:t>ПОРТФОЛИО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 9 класса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МБОУ «СОШ № 111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города Барнаула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2012-2013 учебный г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C:\Documents and Settings\Администратор.COMP\Мои документы\картинки\ФОНЫ\фоны синие\14-12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Администратор.COMP\Мои документы\разное\ФОТО\мой класс\вот и 9\турслет 9 а\P9120037.JPG"/>
          <p:cNvPicPr/>
          <p:nvPr/>
        </p:nvPicPr>
        <p:blipFill>
          <a:blip r:embed="rId2"/>
          <a:stretch/>
        </p:blipFill>
        <p:spPr>
          <a:xfrm>
            <a:off x="642960" y="857160"/>
            <a:ext cx="7680240" cy="5759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1133640" y="-128520"/>
            <a:ext cx="6535440" cy="133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4" descr="C:\Documents and Settings\Администратор.COMP\Мои документы\картинки\солнышко\Рисунок10.gif"/>
          <p:cNvPicPr/>
          <p:nvPr/>
        </p:nvPicPr>
        <p:blipFill>
          <a:blip r:embed="rId1"/>
          <a:stretch/>
        </p:blipFill>
        <p:spPr>
          <a:xfrm>
            <a:off x="7215120" y="0"/>
            <a:ext cx="178920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Documents and Settings\Администратор.COMP\Мои документы\картинки\ФОНЫ\фоны синие\14-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420920" y="231840"/>
            <a:ext cx="6192720" cy="1334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0000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571840" y="1714680"/>
            <a:ext cx="121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9" descr=""/>
          <p:cNvPicPr/>
          <p:nvPr/>
        </p:nvPicPr>
        <p:blipFill>
          <a:blip r:embed="rId4"/>
          <a:stretch/>
        </p:blipFill>
        <p:spPr>
          <a:xfrm>
            <a:off x="1994040" y="2749680"/>
            <a:ext cx="27493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:\Documents and Settings\Администратор.COMP\Мои документы\картинки\люди\дети\один герой\32.gif"/>
          <p:cNvPicPr/>
          <p:nvPr/>
        </p:nvPicPr>
        <p:blipFill>
          <a:blip r:embed="rId5"/>
          <a:stretch/>
        </p:blipFill>
        <p:spPr>
          <a:xfrm flipH="1">
            <a:off x="214200" y="5143680"/>
            <a:ext cx="222120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C:\Documents and Settings\Администратор.COMP\Мои документы\картинки\люди\дети\один герой\20.gif"/>
          <p:cNvPicPr/>
          <p:nvPr/>
        </p:nvPicPr>
        <p:blipFill>
          <a:blip r:embed="rId6"/>
          <a:stretch/>
        </p:blipFill>
        <p:spPr>
          <a:xfrm>
            <a:off x="3286080" y="3714840"/>
            <a:ext cx="2514600" cy="2571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C:\Documents and Settings\Администратор.COMP\Мои документы\картинки\люди\дети\один герой\detia-836.gif"/>
          <p:cNvPicPr/>
          <p:nvPr/>
        </p:nvPicPr>
        <p:blipFill>
          <a:blip r:embed="rId7"/>
          <a:stretch/>
        </p:blipFill>
        <p:spPr>
          <a:xfrm>
            <a:off x="7286760" y="5000760"/>
            <a:ext cx="1643040" cy="170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:\Documents and Settings\Администратор.COMP\Мои документы\картинки\буквы, цифры\11.gif"/>
          <p:cNvPicPr/>
          <p:nvPr/>
        </p:nvPicPr>
        <p:blipFill>
          <a:blip r:embed="rId8"/>
          <a:stretch/>
        </p:blipFill>
        <p:spPr>
          <a:xfrm>
            <a:off x="642960" y="2081160"/>
            <a:ext cx="1285920" cy="146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:\Documents and Settings\Администратор.COMP\Мои документы\картинки\буквы, цифры\22.gif"/>
          <p:cNvPicPr/>
          <p:nvPr/>
        </p:nvPicPr>
        <p:blipFill>
          <a:blip r:embed="rId9"/>
          <a:stretch/>
        </p:blipFill>
        <p:spPr>
          <a:xfrm>
            <a:off x="4714920" y="2357280"/>
            <a:ext cx="1139760" cy="119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C:\Documents and Settings\Администратор.COMP\Мои документы\картинки\буквы, цифры\00.gif"/>
          <p:cNvPicPr/>
          <p:nvPr/>
        </p:nvPicPr>
        <p:blipFill>
          <a:blip r:embed="rId10"/>
          <a:stretch/>
        </p:blipFill>
        <p:spPr>
          <a:xfrm>
            <a:off x="6715080" y="2286000"/>
            <a:ext cx="114300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C:\Documents and Settings\Администратор.COMP\Мои документы\картинки\буквы, цифры\00.gif"/>
          <p:cNvPicPr/>
          <p:nvPr/>
        </p:nvPicPr>
        <p:blipFill>
          <a:blip r:embed="rId11"/>
          <a:stretch/>
        </p:blipFill>
        <p:spPr>
          <a:xfrm>
            <a:off x="5857920" y="2357280"/>
            <a:ext cx="1130400" cy="116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C:\Documents and Settings\Администратор.COMP\Мои документы\картинки\буквы, цифры\44.gif"/>
          <p:cNvPicPr/>
          <p:nvPr/>
        </p:nvPicPr>
        <p:blipFill>
          <a:blip r:embed="rId12"/>
          <a:stretch/>
        </p:blipFill>
        <p:spPr>
          <a:xfrm>
            <a:off x="7858080" y="2214720"/>
            <a:ext cx="92880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20:13:46Z</dcterms:created>
  <dc:creator>Ольга Николаевна</dc:creator>
  <dc:description/>
  <dc:language>en-US</dc:language>
  <cp:lastModifiedBy>Ольга Николаевна</cp:lastModifiedBy>
  <dcterms:modified xsi:type="dcterms:W3CDTF">2013-03-30T20:14:35Z</dcterms:modified>
  <cp:revision>1</cp:revision>
  <dc:subject/>
  <dc:title>Слайд 1</dc:title>
</cp:coreProperties>
</file>