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406-5007-480F-86CC-0768E6CA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F0E-522E-4BA2-8482-CDDA014C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95D-650B-4D40-8410-1F345E25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2DF-1A1F-48FC-8F27-A182EB6A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544-5546-4358-AEF5-EB17A21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093-9814-423B-B3BC-823CA0A9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061-098D-4C67-B69A-8B316635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83A-468E-4B3A-8886-05F2E3AD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A04-8F29-4C0C-94E6-5016C129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FFFA-075B-46FA-AFD5-F77B806C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8D0-725F-4A0E-8F55-C9E38D30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A57-528E-4453-BB9A-A235416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8F6C-3417-49AF-8199-8EC1A7CC6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Documents and Settings\Администратор.COMP\Мои документы\картинки\ФОНЫ\фоны синие\14-1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" name="Прямоугольник 10"/>
          <p:cNvSpPr/>
          <p:nvPr/>
        </p:nvSpPr>
        <p:spPr>
          <a:xfrm>
            <a:off x="142920" y="1285920"/>
            <a:ext cx="9001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Georgia"/>
              </a:rPr>
              <a:t>ПОРТФОЛИО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 9 класса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МБОУ «СОШ № 111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города Барнаула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2012-2013 учебный г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C:\Documents and Settings\Администратор.COMP\Мои документы\картинки\ФОНЫ\фоны синие\14-12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Администратор.COMP\Мои документы\разное\ФОТО\мой класс\вот и 9\турслет 9 а\P9120037.JPG"/>
          <p:cNvPicPr/>
          <p:nvPr/>
        </p:nvPicPr>
        <p:blipFill>
          <a:blip r:embed="rId2"/>
          <a:stretch/>
        </p:blipFill>
        <p:spPr>
          <a:xfrm>
            <a:off x="642960" y="857160"/>
            <a:ext cx="7680240" cy="5759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3"/>
          <a:stretch/>
        </p:blipFill>
        <p:spPr>
          <a:xfrm>
            <a:off x="1133640" y="-128520"/>
            <a:ext cx="6535440" cy="133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C:\Documents and Settings\Администратор.COMP\Мои документы\картинки\солнышко\Рисунок10.gif"/>
          <p:cNvPicPr/>
          <p:nvPr/>
        </p:nvPicPr>
        <p:blipFill>
          <a:blip r:embed="rId1"/>
          <a:stretch/>
        </p:blipFill>
        <p:spPr>
          <a:xfrm>
            <a:off x="7215120" y="0"/>
            <a:ext cx="178920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Documents and Settings\Администратор.COMP\Мои документы\картинки\ФОНЫ\фоны синие\14-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420920" y="231840"/>
            <a:ext cx="6192720" cy="1334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0000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2571840" y="1714680"/>
            <a:ext cx="121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9" descr=""/>
          <p:cNvPicPr/>
          <p:nvPr/>
        </p:nvPicPr>
        <p:blipFill>
          <a:blip r:embed="rId4"/>
          <a:stretch/>
        </p:blipFill>
        <p:spPr>
          <a:xfrm>
            <a:off x="1994040" y="2749680"/>
            <a:ext cx="27493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C:\Documents and Settings\Администратор.COMP\Мои документы\картинки\люди\дети\один герой\32.gif"/>
          <p:cNvPicPr/>
          <p:nvPr/>
        </p:nvPicPr>
        <p:blipFill>
          <a:blip r:embed="rId5"/>
          <a:stretch/>
        </p:blipFill>
        <p:spPr>
          <a:xfrm flipH="1">
            <a:off x="214200" y="5143680"/>
            <a:ext cx="222120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C:\Documents and Settings\Администратор.COMP\Мои документы\картинки\люди\дети\один герой\20.gif"/>
          <p:cNvPicPr/>
          <p:nvPr/>
        </p:nvPicPr>
        <p:blipFill>
          <a:blip r:embed="rId6"/>
          <a:stretch/>
        </p:blipFill>
        <p:spPr>
          <a:xfrm>
            <a:off x="3286080" y="3714840"/>
            <a:ext cx="2514600" cy="2571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C:\Documents and Settings\Администратор.COMP\Мои документы\картинки\люди\дети\один герой\detia-836.gif"/>
          <p:cNvPicPr/>
          <p:nvPr/>
        </p:nvPicPr>
        <p:blipFill>
          <a:blip r:embed="rId7"/>
          <a:stretch/>
        </p:blipFill>
        <p:spPr>
          <a:xfrm>
            <a:off x="7286760" y="5000760"/>
            <a:ext cx="1643040" cy="1701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C:\Documents and Settings\Администратор.COMP\Мои документы\картинки\буквы, цифры\11.gif"/>
          <p:cNvPicPr/>
          <p:nvPr/>
        </p:nvPicPr>
        <p:blipFill>
          <a:blip r:embed="rId8"/>
          <a:stretch/>
        </p:blipFill>
        <p:spPr>
          <a:xfrm>
            <a:off x="642960" y="2081160"/>
            <a:ext cx="1285920" cy="146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C:\Documents and Settings\Администратор.COMP\Мои документы\картинки\буквы, цифры\22.gif"/>
          <p:cNvPicPr/>
          <p:nvPr/>
        </p:nvPicPr>
        <p:blipFill>
          <a:blip r:embed="rId9"/>
          <a:stretch/>
        </p:blipFill>
        <p:spPr>
          <a:xfrm>
            <a:off x="4714920" y="2357280"/>
            <a:ext cx="1139760" cy="119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C:\Documents and Settings\Администратор.COMP\Мои документы\картинки\буквы, цифры\00.gif"/>
          <p:cNvPicPr/>
          <p:nvPr/>
        </p:nvPicPr>
        <p:blipFill>
          <a:blip r:embed="rId10"/>
          <a:stretch/>
        </p:blipFill>
        <p:spPr>
          <a:xfrm>
            <a:off x="6715080" y="2286000"/>
            <a:ext cx="114300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C:\Documents and Settings\Администратор.COMP\Мои документы\картинки\буквы, цифры\00.gif"/>
          <p:cNvPicPr/>
          <p:nvPr/>
        </p:nvPicPr>
        <p:blipFill>
          <a:blip r:embed="rId11"/>
          <a:stretch/>
        </p:blipFill>
        <p:spPr>
          <a:xfrm>
            <a:off x="5857920" y="2357280"/>
            <a:ext cx="1130400" cy="116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C:\Documents and Settings\Администратор.COMP\Мои документы\картинки\буквы, цифры\44.gif"/>
          <p:cNvPicPr/>
          <p:nvPr/>
        </p:nvPicPr>
        <p:blipFill>
          <a:blip r:embed="rId12"/>
          <a:stretch/>
        </p:blipFill>
        <p:spPr>
          <a:xfrm>
            <a:off x="7858080" y="2214720"/>
            <a:ext cx="92880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0:13:46Z</dcterms:created>
  <dc:creator>Ольга Николаевна</dc:creator>
  <dc:description/>
  <dc:language>en-US</dc:language>
  <cp:lastModifiedBy>Ольга Николаевна</cp:lastModifiedBy>
  <dcterms:modified xsi:type="dcterms:W3CDTF">2013-03-30T20:14:35Z</dcterms:modified>
  <cp:revision>1</cp:revision>
  <dc:subject/>
  <dc:title>Слайд 1</dc:title>
</cp:coreProperties>
</file>