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D9D-E699-47A4-ABC4-35595038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469-9A15-49BE-A19E-7643C2FC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B89-E395-4CF4-A2EB-BB204FF6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52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88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52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88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9DF-444E-410E-9469-40BCDAD6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1B8-D37C-4608-A48A-C2DCA810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67D0-426B-46FE-ABBE-FE1447D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FE0B-1E9B-4843-AF2B-8D1CA9F6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AEF-8860-465D-801F-910C916E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D429-8B51-437C-9803-A130D6C7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-360"/>
            <a:ext cx="72295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5BCA-31C0-4472-8AE7-4099F5B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002-4BB3-4B13-8A8F-65976C3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EE-0805-48FB-9791-89C1AD8D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C56-E0A7-41C9-8BCD-9089B423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A7A-CC2C-479F-83F3-832D2BC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353-B563-4DA5-B749-2D3F7134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2E7-E134-49AD-AB73-44CEE73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852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88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852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88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13D2-4646-4E69-89CD-15050153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1D8-2A5B-4960-83F5-55D2377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536-FC40-44F6-91D2-F985F175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E2B-0256-45F3-B4EA-F28C9B7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760" y="-360"/>
            <a:ext cx="72295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032-B00B-4733-972B-FBCFF6A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FAD-32FF-4E7D-AA15-E70DB37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05E-E363-46FC-BDDB-98015F2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78E-D4E3-491D-8C5C-443804E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E82-E507-4535-A76C-D6D671389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44C-CAF9-4171-BA37-E075F49B3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65280" y="969840"/>
            <a:ext cx="3882960" cy="156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9720" y="5072040"/>
            <a:ext cx="3057480" cy="1214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alibri"/>
              </a:rPr>
              <a:t>АВТОР: Карпушева Ксения Алексеевн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alibri"/>
              </a:rPr>
              <a:t>студентка   группы Ю-10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C:\Users\1\Desktop\justice.png"/>
          <p:cNvPicPr/>
          <p:nvPr/>
        </p:nvPicPr>
        <p:blipFill>
          <a:blip r:embed="rId2"/>
          <a:stretch/>
        </p:blipFill>
        <p:spPr>
          <a:xfrm>
            <a:off x="1428840" y="2714760"/>
            <a:ext cx="2071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42960" y="959040"/>
            <a:ext cx="37148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Жил поживал и горя не знал Юрист.  Знал он и законы, и кодексы, и уставы различные, в общем,  ас в своем дел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Помогал всем кто оказался в беде, точно добрый молодец в русско-народных сказках, только наш молодец, умом всех побеждал, да смекалкой. Готов он прийти был на помощь и старому и малому. На суде юрист был всегда незаменим, как скажет слово свое да подтвердит все конституцией, так и будет. И не было до сей поры ситуации такой, что бы наш Юрист не прав был. И вот однажды возникла такая ситуация, очень жестокая! В городе происходили убийства одни за другим, а так же были случаи, когда убивали группами! Всем ясно, что настоящий юрист это просто так не оставит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642960" y="1285920"/>
            <a:ext cx="37148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Он начал сопоставлять все факты, и эти изверги были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 схвачены в ближайшее время, это были двое взрослых мужчины, как позже выяснилось, они являются участниками бандитской группировки! И да нужно сказать, что наш юрист, нервноустойчив был, не каждый такое выдержит! Любой бы растерялся на его месте, ну не тут то было! Юрист тут же возбудил дело по статье 105, и посадил их сроком 14 лет лишения свободы! Будущие заключенные, давали взятку, но юрист наш эталон - честных правил, естественно отказал им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857160" y="1214280"/>
            <a:ext cx="3357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В городе все граждане, когда узнали, приходили и благодарили его, ведь они понимали,  что в городе больше не будет такого коварства, да и они обдумают, может их и исправит колония строгого режима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А Юристу же было приятно, что он спас мирных граждан, и теперь они только лишь будут вспоминать это как страшный с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9720" y="4714560"/>
            <a:ext cx="3057480" cy="142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Мораль в итоге такова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Мы без юриста не куда!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Ведь если ты встревожен, мигом он тебе поможет!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51:55Z</dcterms:created>
  <dc:creator>Comp</dc:creator>
  <dc:description/>
  <dc:language>en-US</dc:language>
  <cp:lastModifiedBy>User</cp:lastModifiedBy>
  <dcterms:modified xsi:type="dcterms:W3CDTF">2012-02-08T04:49:45Z</dcterms:modified>
  <cp:revision>9</cp:revision>
  <dc:subject/>
  <dc:title>Слайд 1</dc:title>
</cp:coreProperties>
</file>