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654-E678-423B-ADEE-AC6DBC67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AFD-B540-4D37-AF20-A4C9A0F8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0E58-58C8-4A5F-8AD9-7841CBC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52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788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52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788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5CC-3546-4ECA-B845-E5F3CA5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3A48-68CA-4ADF-BB46-B283D74E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446E-62C2-4BFD-8554-59B029D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C267-3202-4F2F-81BF-7866250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24BA-3E7D-470B-AC0B-81DDA54D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08E3-F52B-4C88-9DF8-45565A0D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-360"/>
            <a:ext cx="72295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A5CF-F798-46EB-8633-0FC8915B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7D96-952A-433F-A8CF-805EE11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1DD-F4A4-4FCD-85D5-6AFA8F56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40AE-EFF1-49F8-B824-B495E84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E4A1-981C-4EE2-B201-F622E9A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003-EBAF-47C7-AA87-B27E574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BDC9-E792-4673-B40E-6E4AAD67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852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7880" y="107136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852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7880" y="3944520"/>
            <a:ext cx="23230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A01D-1F36-4FDB-AA50-0FC0D6D8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942-5137-4E41-81BC-DF1B840B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06E3-F848-4C9A-B535-D651225A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9C85-F7EF-4F74-9C9B-8DE415D2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760" y="-360"/>
            <a:ext cx="72295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605-B286-4652-B5B5-6884D797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8EB-DF90-4259-AA9E-9B4C415C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6000" y="394452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BE5-966A-44FC-A768-A5418B99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6000" y="1071360"/>
            <a:ext cx="35208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44520"/>
            <a:ext cx="721512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C6F-CE5F-4EF0-B776-30C3F7F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A59-74CD-401D-9DC9-F5E86B4495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760" y="-360"/>
            <a:ext cx="7229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15120" cy="55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37B8-DB30-4385-B7C6-C67F9CB98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65280" y="969840"/>
            <a:ext cx="3882960" cy="1565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99720" y="5072040"/>
            <a:ext cx="3057480" cy="1214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alibri"/>
              </a:rPr>
              <a:t>АВТОР: Карпушева Ксения Алексеевна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Calibri"/>
              </a:rPr>
              <a:t>студентка   группы Ю-10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C:\Users\1\Desktop\justice.png"/>
          <p:cNvPicPr/>
          <p:nvPr/>
        </p:nvPicPr>
        <p:blipFill>
          <a:blip r:embed="rId2"/>
          <a:stretch/>
        </p:blipFill>
        <p:spPr>
          <a:xfrm>
            <a:off x="1428840" y="2714760"/>
            <a:ext cx="2071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42960" y="959040"/>
            <a:ext cx="37148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Жил поживал и горя не знал Юрист.  Знал он и законы, и кодексы, и уставы различные, в общем,  ас в своем деле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Помогал всем кто оказался в беде, точно добрый молодец в русско-народных сказках, только наш молодец, умом всех побеждал, да смекалкой. Готов он прийти был на помощь и старому и малому. На суде юрист был всегда незаменим, как скажет слово свое да подтвердит все конституцией, так и будет. И не было до сей поры ситуации такой, что бы наш Юрист не прав был. И вот однажды возникла такая ситуация, очень жестокая! В городе происходили убийства одни за другим, а так же были случаи, когда убивали группами! Всем ясно, что настоящий юрист это просто так не оставит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5"/>
          <p:cNvSpPr/>
          <p:nvPr/>
        </p:nvSpPr>
        <p:spPr>
          <a:xfrm>
            <a:off x="642960" y="1285920"/>
            <a:ext cx="37148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Он начал сопоставлять все факты, и эти изверги были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 схвачены в ближайшее время, это были двое взрослых мужчины, как позже выяснилось, они являются участниками бандитской группировки! И да нужно сказать, что наш юрист, нервноустойчив был, не каждый такое выдержит! Любой бы растерялся на его месте, ну не тут то было! Юрист тут же возбудил дело по статье 105, и посадил их сроком 14 лет лишения свободы! Будущие заключенные, давали взятку, но юрист наш эталон - честных правил, естественно отказал им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857160" y="1214280"/>
            <a:ext cx="3357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В городе все граждане, когда узнали, приходили и благодарили его, ведь они понимали,  что в городе больше не будет такого коварства, да и они обдумают, может их и исправит колония строгого режима?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 Narrow"/>
                <a:ea typeface="Calibri"/>
              </a:rPr>
              <a:t>А Юристу же было приятно, что он спас мирных граждан, и теперь они только лишь будут вспоминать это как страшный с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99720" y="4714560"/>
            <a:ext cx="3057480" cy="142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Мораль в итоге такова: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Мы без юриста не куда!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Ведь если ты встревожен, мигом он тебе поможет!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51:55Z</dcterms:created>
  <dc:creator>Comp</dc:creator>
  <dc:description/>
  <dc:language>en-US</dc:language>
  <cp:lastModifiedBy>User</cp:lastModifiedBy>
  <dcterms:modified xsi:type="dcterms:W3CDTF">2012-02-08T04:49:45Z</dcterms:modified>
  <cp:revision>9</cp:revision>
  <dc:subject/>
  <dc:title>Слайд 1</dc:title>
</cp:coreProperties>
</file>