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11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6.jpeg" ContentType="image/jpeg"/>
  <Override PartName="/ppt/media/image3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E5C-FF98-462A-9F00-3C3DAB19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A8A-6B35-4035-ADC4-0C8BCFA7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FF316-6D50-480E-B521-7BD1C5AC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D8F2B-91A9-4FF7-AD6C-ED553383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7C515-2263-494A-9AD4-B9B25677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A6426-AFEC-4E13-A187-953ED16B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9DE18-50F4-4F73-BEB4-0A6E8CAC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86A1D-D58A-4B3A-AABB-CE397FC4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F032B-FBC5-44DB-BBB5-8E24B32F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67678-3B0D-4207-9A59-817AB30B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5E426-E6B7-40C8-B90E-4A3C57BE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18C3-1702-4DDC-A287-51D7C31D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A30-2AB5-4FBF-A24E-DF73E131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9672-D56A-4A0F-AD05-71D6C444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FA63-3BB8-4C40-8329-47A7299A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BCB4-CF24-48D8-B9E6-F829EDAD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127D-E592-441E-82FC-C4BEF74D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1AB8-5A8B-49BA-8AD2-D3C11584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90A0-B053-448A-BE82-15CD71BD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0EE9-45A1-402C-995E-BDD7B495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3D6-91D9-40B2-AC81-412F728F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E204-320D-447F-BA03-F4DB85ED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7FC8-E179-411C-8035-FEFF18A2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457B-7D36-4DA7-B209-95E21D81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0175-4AFC-4875-967C-B1F7298C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90E2-05DB-4108-9EDC-219D4069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05D6-8FE4-4E22-8ED4-CFCF6511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B78F0-6B12-4AC5-9FF2-054FCF8C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EC27-CD1E-4BFD-94DF-46539FFC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F1E0-3E9D-435C-A5A6-C2C28A81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B9F9-4F14-4C85-8EDA-FF639D02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C1E-540E-4D2B-AC39-5B8A07F8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C8EA-7BD7-4D31-9B5C-DAFEE5FB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23BD6-0997-422D-91D7-A893C4F4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E151-3FAA-4A1F-822C-2EE4C439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1177-48A2-4A4E-A169-ED88670F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EAE69-3BA0-4C77-B9E4-906966B9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E919-A765-46B3-92B8-2BB58C27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C6EF-EE1C-4407-84D2-5C0EAF1E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C973-389B-4B1A-9894-424CD647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7B6AF-33F3-4409-BC5D-359E1334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C16C3-A8C5-4ECE-9BAC-84CCACC1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FCD-DA64-499F-8DD0-2F4FA517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38996-A040-41AC-95C2-85AD5FA5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D8DD-D0D5-4BDF-AB56-8884E840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0AB68-C699-4CDE-85AE-8C718D67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C6000-9985-4D50-8219-9CBAAB98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CC302-DCF9-425A-9D0C-C1FDF081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93F0-8421-483D-BF75-9CEFCB0E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5E5EF-BAAD-4A16-96A3-7AD2E560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C64FD-7759-4800-A87B-D7B7BD20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B7B63-1F3E-4495-97D2-EA0F2826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F5218-9F45-4261-950D-FE9F89AB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BB7-7570-49F1-84B5-1F91F566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176C-DCC9-4D1C-AB6C-6A9307E6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51CF8-4133-4A41-B4BE-F39A712B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CB9C6-B983-4FBE-9E45-1545C6F1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BCF7E-A406-481F-85A7-FCA899DF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F3357-B28D-4D50-9207-3CF4AC55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7EB21-1768-435E-8250-5CC4E4A7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35521-CBB2-41B4-A61F-525B3C92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B185A-2EAB-4578-8B5B-E271116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58B91-99AA-44A3-97ED-070D65EE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2499C-B799-4DD1-BAC8-B079AB03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172-23EB-493B-9367-0455E62B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C4862-718D-4738-AE2E-A0575853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1460-EBC1-4D0D-A4E4-ED89EDF7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35CAE-F324-467D-B52E-3DA04E40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E2AE1-EABD-4D5A-8573-0C01DACE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55E86-548E-4FA1-81D6-C5A87F81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D3C05-1CCB-49AF-A752-5B9F1C50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48631-3C72-448E-B28E-E071E35A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E5144-21DF-48A3-B2FA-FDBD49E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F521F-CD85-4F97-A367-BCB39E9F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A25A1-EDDA-463F-8E17-5539F7E0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C81-4BD1-47AD-89FF-2E4C15F0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8506A-D5C7-4B51-8D6B-EE07C6C6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11571-DC81-436F-8396-D93FB947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FDFD8-274E-4F85-9D34-4399E5B2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6F103-4D64-42C9-9B07-0E3995E1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7FEF5-281C-4204-837C-EF1FE779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4C27E-73BC-490F-BEEB-F1B1146C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9723F-3185-486A-99AE-9F590280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D3EC0-3266-4A97-A8B3-E1F9453B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B3BDC-39EA-49E5-A3D9-F469D7AD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FEE46-7491-46CC-A173-08B4B70F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975-0492-4FD4-B4ED-B32E5CF3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0F1C8-DA76-4D40-8911-A75C79C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1D164-4872-4D65-9F25-3CE7B131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A600B-6395-4FDA-8850-7CF9BFB0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04740-9FDE-44A6-9629-57E7E73E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D9FD5-3446-435F-818E-81D708A1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F7627-288C-4BDA-9163-0D6C596F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83B6B-D148-4828-9F2D-7D5D87B7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66BFE-F328-4513-A127-AED63342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9D963-D50A-4B0F-AA88-711D0B98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1F3A8-882E-467B-AD1B-61730ECA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69C-9DF7-4900-942D-C534C8A1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004C8-C35C-48D2-9A51-5EB64FBC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9533B-3027-40C4-BBDF-DA3F4150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F79CA-19AA-4F85-87FC-BB66CA10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55D1B-0A5F-4C79-B521-951C46D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51786-9ED9-4110-A11D-19A0E8AA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421C6-609F-42A8-999E-DEEDF93F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602D6-3713-45DE-B799-A9DADB74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4813F-6915-43CA-A32C-F958BD6C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D3727-917C-498D-8654-61FA8CFD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A7F7F-01C9-4EAA-B176-7BAAE997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C8D6-66F1-4722-AD6C-F9188A9F60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CE44-47F1-4653-BBB7-FA081BB914F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B2A4-BE67-412F-8BC5-C8A44A891BA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4C30-04E3-4CB3-B888-E23B3AD334F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6F44-3069-4CAC-AE42-7013D373C8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59D2-9527-4531-B565-BEF16935F2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3D6E-C23B-4DCF-BA96-770BA150F6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07C7-CBB4-4634-8770-42336D29D3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4D6A-B81C-4992-9F66-6CA7D79123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654760" cy="2159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00360" y="5643360"/>
            <a:ext cx="442908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43329"/>
                </a:solidFill>
                <a:latin typeface="Franklin Gothic Book"/>
              </a:rPr>
              <a:t>Презентацию подготовили ученицы 10 класса МБОУ «Верх-Обской СОШ» Ширяева Ю, Листопад В.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Рисунок 4" descr="http://badnews.org.ru/_nw/97/14139527.jpg"/>
          <p:cNvPicPr/>
          <p:nvPr/>
        </p:nvPicPr>
        <p:blipFill>
          <a:blip r:embed="rId2"/>
          <a:srcRect l="17505" t="0" r="14999" b="0"/>
          <a:stretch/>
        </p:blipFill>
        <p:spPr>
          <a:xfrm>
            <a:off x="1143000" y="2347920"/>
            <a:ext cx="1643040" cy="19954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7" descr=""/>
          <p:cNvPicPr/>
          <p:nvPr/>
        </p:nvPicPr>
        <p:blipFill>
          <a:blip r:embed="rId3"/>
          <a:stretch/>
        </p:blipFill>
        <p:spPr>
          <a:xfrm>
            <a:off x="3852720" y="1096920"/>
            <a:ext cx="5083200" cy="12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08000" y="499680"/>
            <a:ext cx="45352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конце октября 1856 года Достоевский получает офицерский чин. Теперь он добивается официального разрешения на поездку в Кузнецк. Дорога шла через Барнаул, где Федор Михайлович оказался 24 ноября и пробыл там два дня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день приезда писателя в Барнаул горный начальник давал бал в честь именин жены. Федор Михайлович имел возможность наблюдать многих барнаульских инженеров и чиновников и в письме все к Врангелю дал им емкую характеристику:«О барнаульских я не пишу вам. Я с ними со многими познакомился. Хлопотливый город, и сколько в нем сплетен и доморощенных Талейранов»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7" name="Рисунок 4" descr="Достоевский "/>
          <p:cNvPicPr/>
          <p:nvPr/>
        </p:nvPicPr>
        <p:blipFill>
          <a:blip r:embed="rId1"/>
          <a:stretch/>
        </p:blipFill>
        <p:spPr>
          <a:xfrm>
            <a:off x="6424560" y="2352600"/>
            <a:ext cx="1354320" cy="2067120"/>
          </a:xfrm>
          <a:prstGeom prst="rect">
            <a:avLst/>
          </a:prstGeom>
          <a:ln w="0">
            <a:noFill/>
          </a:ln>
        </p:spPr>
      </p:pic>
      <p:pic>
        <p:nvPicPr>
          <p:cNvPr id="438" name="Прямоугольник 5" descr=""/>
          <p:cNvPicPr/>
          <p:nvPr/>
        </p:nvPicPr>
        <p:blipFill>
          <a:blip r:embed="rId2"/>
          <a:stretch/>
        </p:blipFill>
        <p:spPr>
          <a:xfrm>
            <a:off x="6797520" y="5065560"/>
            <a:ext cx="2237040" cy="35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071960" y="404280"/>
            <a:ext cx="48211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феврале 1857 года Достоевский вновь в Барнауле. Теперь он ехал в Кузнецк на свою свадьбу(после смерти мужа Мария  Исаева согласилась стать женой Достоевского). Эту зиму в Барнауле провел магистр ботаники  Семенов (Тян-Шанский)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Писатель остановился у него. Жил, вероятно, несколько дней, делая покупки к свадьбе. Эта встреча известна в истории литературы. Именно тогда Достоевский впервые читал Семенову главы «Записок из мертвого дома»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1" name="Рисунок 5" descr="Достоевский "/>
          <p:cNvPicPr/>
          <p:nvPr/>
        </p:nvPicPr>
        <p:blipFill>
          <a:blip r:embed="rId1"/>
          <a:srcRect l="27085" t="0" r="5206" b="9442"/>
          <a:stretch/>
        </p:blipFill>
        <p:spPr>
          <a:xfrm>
            <a:off x="1285920" y="2357280"/>
            <a:ext cx="1214280" cy="1793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http://www.hrono.ru/biograf/bio_s/semenov_pp.jpg"/>
          <p:cNvPicPr/>
          <p:nvPr/>
        </p:nvPicPr>
        <p:blipFill>
          <a:blip r:embed="rId2"/>
          <a:stretch/>
        </p:blipFill>
        <p:spPr>
          <a:xfrm>
            <a:off x="3143160" y="4357800"/>
            <a:ext cx="1478160" cy="172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18900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сле свадьбы Достоевский вновь заезжает в Барнаул и останавливается вместе с женой у Семенова. Но это посещение города оказалось трагическим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5" name="Рисунок 16" descr=""/>
          <p:cNvPicPr/>
          <p:nvPr/>
        </p:nvPicPr>
        <p:blipFill>
          <a:blip r:embed="rId1"/>
          <a:stretch/>
        </p:blipFill>
        <p:spPr>
          <a:xfrm>
            <a:off x="500040" y="3381480"/>
            <a:ext cx="3643200" cy="2174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188965"/>
          <p:cNvPicPr/>
          <p:nvPr/>
        </p:nvPicPr>
        <p:blipFill>
          <a:blip r:embed="rId2"/>
          <a:stretch/>
        </p:blipFill>
        <p:spPr>
          <a:xfrm>
            <a:off x="5929200" y="3052800"/>
            <a:ext cx="1643040" cy="208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0" y="115560"/>
            <a:ext cx="464328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частливые дни омрачил сильнейший припадок падучей. Несколько дней Фёдор Михайлович находился без сознания. По просьбе Семенова (Тян-Шанского) барнаульский врач определил всю тяжесть положения ссыльного писателя – он безнадежно болен эпилепсией. Болезнь Фёдора Михайловича напугала Марию Дмитриевну и, возможно, даже убила ее надежды на новое семейное счастье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9" name="Рисунок 4" descr="Картинка 101 из 312"/>
          <p:cNvPicPr/>
          <p:nvPr/>
        </p:nvPicPr>
        <p:blipFill>
          <a:blip r:embed="rId1"/>
          <a:srcRect l="10225" t="4361" r="0" b="14239"/>
          <a:stretch/>
        </p:blipFill>
        <p:spPr>
          <a:xfrm>
            <a:off x="5500800" y="1285920"/>
            <a:ext cx="132552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284360" y="18864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1859 году Достоевскому разрешили выйти в отставку с правом публиковать свои произведения. Но жить в столицах ему не разрешалось.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едор Михайлович поселяется в Твери. Отсюда он пишет своему другу Врангелю: «Приезжайте же... Поговорим о Сибири, которая мне теперь стала мила, когда я покинул ее, о милейших Змеиногорске и Барнауле, где я после вас бывал довольно часто... Ну, да обо всем...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2" name="Рисунок 4" descr="http://www.dostoevsky.df.ru/dost41.jpg"/>
          <p:cNvPicPr/>
          <p:nvPr/>
        </p:nvPicPr>
        <p:blipFill>
          <a:blip r:embed="rId1"/>
          <a:stretch/>
        </p:blipFill>
        <p:spPr>
          <a:xfrm>
            <a:off x="1428840" y="1714680"/>
            <a:ext cx="1436760" cy="253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8000" y="-4138920"/>
            <a:ext cx="34920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188640"/>
            <a:ext cx="578628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</a:t>
            </a:r>
            <a:r>
              <a:rPr b="0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биографии Достоевского, невероятно насыщенной яркими и трагическими событиями, сильными страстями, огромной работой мысли, титаническим трудом, сибирский период является, пожалуй, самым тяжелым. Но он расширил представления писателя о жизни, позволил ему глубже узнать и почувствовать невыносимость страданий униженного и оскорбленного человека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0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Если я узнал не Россию, — писал он, — так народ русский хорошо, так хорошо, как, может быть, немногие знают его»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 Сибири он кроме «Записок из Мертвого дома» говорит во многих своих романах: «Униженные и оскорбленные», «Преступление и наказание», «Идиот», «Бесы», «Подросток» и, наконец, «Братья Карамазовы»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5" name="Рисунок 4" descr="http://sibtube.ru/img/image237.jpg"/>
          <p:cNvPicPr/>
          <p:nvPr/>
        </p:nvPicPr>
        <p:blipFill>
          <a:blip r:embed="rId1"/>
          <a:stretch/>
        </p:blipFill>
        <p:spPr>
          <a:xfrm>
            <a:off x="6711840" y="1279440"/>
            <a:ext cx="157824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Рисунок 7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2000520" cy="15001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357200" y="285840"/>
            <a:ext cx="75009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до полагать, что и пребывание в Барнауле и на Алтае тоже оставило какой-то след в творчестве великого писателя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звуки алтайских впечатлений          Достоевского еще станут                   объектом изучения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4950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920" y="4214520"/>
            <a:ext cx="868680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4392720" cy="544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олее полувека назад барнаульский литератор и педагог П. А. Казанский предлагал переименовать Демидовскую площадь в площадь Достоевского. Основанием для этого служило городское предание о том, что Федор Михайлович Достоевский, бывая в Барнауле, прогуливался по этой площади, напоминавшей ему далекий желанный Петербург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ким же образом великий писатель оказался в нашем городе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Рисунок 4" descr="http://www.ab.ru/~muzei/progects/2011/progects_images2011/pr01_2011_36.jpg"/>
          <p:cNvPicPr/>
          <p:nvPr/>
        </p:nvPicPr>
        <p:blipFill>
          <a:blip r:embed="rId1"/>
          <a:stretch/>
        </p:blipFill>
        <p:spPr>
          <a:xfrm>
            <a:off x="5857920" y="1643040"/>
            <a:ext cx="17859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363640" y="1642680"/>
            <a:ext cx="3529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1849 году за участие в революционном кружке Спешнева и Петрашевского Федор Достоевский был заключен в Алексеевский равелин Петропавловской крепости. Через четыре месяца его осудили и приговорили к четырем годам каторги, которые он провел в Омском остроге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Рисунок 13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1214280" cy="181152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6" descr="Достоевский Достоевский на каторге"/>
          <p:cNvPicPr/>
          <p:nvPr/>
        </p:nvPicPr>
        <p:blipFill>
          <a:blip r:embed="rId2"/>
          <a:stretch/>
        </p:blipFill>
        <p:spPr>
          <a:xfrm>
            <a:off x="714240" y="4714920"/>
            <a:ext cx="1278000" cy="185724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10" descr=""/>
          <p:cNvPicPr/>
          <p:nvPr/>
        </p:nvPicPr>
        <p:blipFill>
          <a:blip r:embed="rId3"/>
          <a:stretch/>
        </p:blipFill>
        <p:spPr>
          <a:xfrm>
            <a:off x="3143160" y="2614680"/>
            <a:ext cx="1643040" cy="117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571680"/>
            <a:ext cx="3857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3 января 1854 года арестанта Достоевского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бывшего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лный срок заточения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свободили от цепей и кандалов и направили в качестве рядового в Сибирский 7-й линейный батальон в Семипалатинск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Рисунок 5" descr="Картинка 9 из 313"/>
          <p:cNvPicPr/>
          <p:nvPr/>
        </p:nvPicPr>
        <p:blipFill>
          <a:blip r:embed="rId1"/>
          <a:srcRect l="0" t="0" r="0" b="2252"/>
          <a:stretch/>
        </p:blipFill>
        <p:spPr>
          <a:xfrm>
            <a:off x="5643720" y="1714680"/>
            <a:ext cx="132696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00720" y="571680"/>
            <a:ext cx="43192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Семипалатинске писатель познакомился с Александром Егоровичем Врангелем, исправлявшим должность областного прокурора. Благодаря Врангелю Достоевский получил возможность совершать поездки. Иногда тайно, а иногда и вполне официально он выезжал с Врангелем по его служебным делам. Таким образом, Достоевский побывал на Локтевском заводе, в городе Змиеве, а позже - и в Барнауле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Рисунок 5" descr="http://www.dostoevsky.df.ru/dost41.jpg"/>
          <p:cNvPicPr/>
          <p:nvPr/>
        </p:nvPicPr>
        <p:blipFill>
          <a:blip r:embed="rId1"/>
          <a:srcRect l="11216" t="8001" r="27567" b="54204"/>
          <a:stretch/>
        </p:blipFill>
        <p:spPr>
          <a:xfrm>
            <a:off x="714240" y="2146320"/>
            <a:ext cx="1357560" cy="18223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http://dostoevsky.df.ru/dost26.jpg"/>
          <p:cNvPicPr/>
          <p:nvPr/>
        </p:nvPicPr>
        <p:blipFill>
          <a:blip r:embed="rId2"/>
          <a:srcRect l="12304" t="1253" r="0" b="4625"/>
          <a:stretch/>
        </p:blipFill>
        <p:spPr>
          <a:xfrm>
            <a:off x="2857680" y="3857760"/>
            <a:ext cx="1144440" cy="1788840"/>
          </a:xfrm>
          <a:prstGeom prst="rect">
            <a:avLst/>
          </a:prstGeom>
          <a:ln w="0">
            <a:noFill/>
          </a:ln>
        </p:spPr>
      </p:pic>
      <p:pic>
        <p:nvPicPr>
          <p:cNvPr id="418" name="Прямоугольник 6" descr=""/>
          <p:cNvPicPr/>
          <p:nvPr/>
        </p:nvPicPr>
        <p:blipFill>
          <a:blip r:embed="rId3"/>
          <a:stretch/>
        </p:blipFill>
        <p:spPr>
          <a:xfrm>
            <a:off x="2981160" y="6089760"/>
            <a:ext cx="255600" cy="34740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7" descr=""/>
          <p:cNvPicPr/>
          <p:nvPr/>
        </p:nvPicPr>
        <p:blipFill>
          <a:blip r:embed="rId4"/>
          <a:stretch/>
        </p:blipFill>
        <p:spPr>
          <a:xfrm>
            <a:off x="-6480" y="4791240"/>
            <a:ext cx="262080" cy="38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427280" y="1213920"/>
            <a:ext cx="43923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стоевский приезжал в Барнаул три раза. Все эти поездки связаны с драматической историей его «грозного чувства», с его трудной и спасительной первой любовью. Трудной потому, что на пути этой любви стояло много, казалось, непреодолимых препятствий, спасительной потому, что к этой женщине обращены его слова: «Если б вас не было, я бы, может быть, одеревенел окончательно»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2" descr="Картинка 35 из 155"/>
          <p:cNvPicPr/>
          <p:nvPr/>
        </p:nvPicPr>
        <p:blipFill>
          <a:blip r:embed="rId1"/>
          <a:stretch/>
        </p:blipFill>
        <p:spPr>
          <a:xfrm>
            <a:off x="785880" y="2892600"/>
            <a:ext cx="2214360" cy="256212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5" descr=""/>
          <p:cNvPicPr/>
          <p:nvPr/>
        </p:nvPicPr>
        <p:blipFill>
          <a:blip r:embed="rId2"/>
          <a:stretch/>
        </p:blipFill>
        <p:spPr>
          <a:xfrm>
            <a:off x="1901880" y="6089760"/>
            <a:ext cx="255600" cy="347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1357200"/>
            <a:ext cx="4214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стоевский с Марией Исаевой познакомились в Семипалатинске. Двадцатишестилетняя Мария Дмитриевна была замужем за опустившимся, пьющим чиновником в отставке Александром Исаевым. В этом браке она была несчастна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рнуться в литературу и соединиться с любимой женщиной — эти две мечты слились теперь для Достоевского в одну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2" descr="Картинка 2 из 155"/>
          <p:cNvPicPr/>
          <p:nvPr/>
        </p:nvPicPr>
        <p:blipFill>
          <a:blip r:embed="rId1"/>
          <a:srcRect l="0" t="0" r="0" b="18551"/>
          <a:stretch/>
        </p:blipFill>
        <p:spPr>
          <a:xfrm>
            <a:off x="6072120" y="2143080"/>
            <a:ext cx="1514520" cy="201312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5" descr=""/>
          <p:cNvPicPr/>
          <p:nvPr/>
        </p:nvPicPr>
        <p:blipFill>
          <a:blip r:embed="rId2"/>
          <a:stretch/>
        </p:blipFill>
        <p:spPr>
          <a:xfrm>
            <a:off x="6797520" y="5724360"/>
            <a:ext cx="255600" cy="352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8000" y="189000"/>
            <a:ext cx="8856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скоре семья Исаевых переехала в Кузнецк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разу начались и поездки Достоевского в Змеиногорск, куда обещала, но так и не сумела вырваться Исаева, потом через Барнаул в Кузнецк.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рвый раз Фёдор Михайлович появился в Барнауле в 1856 году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десь Федор Михайлович познакомился с местными горными инженерами, многое узнал о Барнауле как одном из самых культурных городов Сибири.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Рисунок 4" descr=""/>
          <p:cNvPicPr/>
          <p:nvPr/>
        </p:nvPicPr>
        <p:blipFill>
          <a:blip r:embed="rId1"/>
          <a:srcRect l="3610" t="8198" r="1690" b="13109"/>
          <a:stretch/>
        </p:blipFill>
        <p:spPr>
          <a:xfrm>
            <a:off x="2357280" y="4094280"/>
            <a:ext cx="2928960" cy="1439640"/>
          </a:xfrm>
          <a:prstGeom prst="rect">
            <a:avLst/>
          </a:prstGeom>
          <a:ln w="0">
            <a:noFill/>
          </a:ln>
        </p:spPr>
      </p:pic>
      <p:pic>
        <p:nvPicPr>
          <p:cNvPr id="431" name="Прямоугольник 6" descr=""/>
          <p:cNvPicPr/>
          <p:nvPr/>
        </p:nvPicPr>
        <p:blipFill>
          <a:blip r:embed="rId2"/>
          <a:stretch/>
        </p:blipFill>
        <p:spPr>
          <a:xfrm>
            <a:off x="603360" y="2706840"/>
            <a:ext cx="2474640" cy="35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1000080"/>
            <a:ext cx="9144000" cy="19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этот период великий писатель мечтает о переезде в Барнаул. Он пишет Врангелю, находившемуся в Петербурге: «Если будет возможность говорить и хлопотать о переводе моем в статскую службу, именно в Барнаул, то ради бога не оставляйте без внимания».</a:t>
            </a:r>
            <a:br>
              <a:rPr sz="1600"/>
            </a:b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остоевский стремился попасть в наш город не только потому, что он был приметным культурным центром. Сюда одно время думала переехать Исаев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Рисунок 1" descr=""/>
          <p:cNvPicPr/>
          <p:nvPr/>
        </p:nvPicPr>
        <p:blipFill>
          <a:blip r:embed="rId1"/>
          <a:srcRect l="1496" t="0" r="0" b="10054"/>
          <a:stretch/>
        </p:blipFill>
        <p:spPr>
          <a:xfrm>
            <a:off x="1143000" y="3675240"/>
            <a:ext cx="2643120" cy="159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3:35:20Z</dcterms:created>
  <dc:creator>ал</dc:creator>
  <dc:description/>
  <dc:language>en-US</dc:language>
  <cp:lastModifiedBy>Худякова</cp:lastModifiedBy>
  <dcterms:modified xsi:type="dcterms:W3CDTF">2013-03-27T03:17:43Z</dcterms:modified>
  <cp:revision>33</cp:revision>
  <dc:subject/>
  <dc:title>Барнаульское счастье и несчастье Федора Достоевского</dc:title>
</cp:coreProperties>
</file>