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11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6.jpeg" ContentType="image/jpeg"/>
  <Override PartName="/ppt/media/image3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901-D49B-43A7-AB01-D5D616C1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26E-7197-425B-B5C2-16B7EDD2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AFF37-72DA-4869-A630-8C1E8C93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7C3E9-1922-4162-95FD-8AA832D0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45B40-294A-40E9-9BAA-D2A3E1D7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7A169-204F-4C29-BDB3-7D60CBD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0BD59-BAC6-4D28-B6F6-57B41EFB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D25DC-46E6-438B-AABA-548DE5B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32FC4-7D95-41EE-850F-E493593F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72B7A-518F-4166-9417-FF6B1A00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2E72F-6B7F-4A09-B113-52692855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A67-F452-46EE-80BF-CEAEFCA9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B1E-9F99-4FE9-A54A-9248EF1E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0A20-E1D8-4DAB-83EB-B34583EF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898C-E053-459C-AC24-5AD3D62F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3D5F-E9D6-4171-9861-815D1375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184D-0206-4B8D-AD12-775C0151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4105-AA02-42F1-8B66-B985AB02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F8FE-0B65-4314-BEFB-130C0308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B9E8-A938-45AD-AB43-76D72C0C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DE3-30A2-49C7-89C8-6ECA079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6615-CE45-486B-AA7A-BF61B9D4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56EE-3A32-4DE9-AE10-296AA70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AD07-7E5F-417D-9DDD-261E1FB8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D3D6-27AD-428C-9318-E6E9AE21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2321-E826-468E-B7BE-7EB5AA47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8FFB-4BA6-4A38-9CB4-F7D98028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2223-6AD6-4918-8C5D-EB93E31D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0DD1D-235D-430C-8513-918A7854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493F-6ABE-487B-B894-488A1D74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330B-533A-4180-8DD0-2E3F9EF2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261-92E9-4823-B190-615624C7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F6C4-C291-4A09-8457-4B03E2FF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6FE9-A831-4D2E-97E8-B24A3787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05AF-596D-43F7-AD8E-64E66DDB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3307-FD2D-41FF-B74E-8397D881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E5E7-DB16-4BB9-937E-2D16B681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3842-0D99-48DD-85F3-CB296C6D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696F-D3BF-405C-9213-EEF53E27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69B47-2E7E-4937-A374-0A47A26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DE74-6E69-4F18-B1E9-7794471B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9205-2E8C-4FA3-A9DF-F2F550A5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F56-9C76-4199-AFE1-B6E4F59E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CF44E-1CAE-4BFB-839C-6A5BDACA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7170C-2A65-4717-9E99-79A08B6A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8219-C98C-42C9-8932-2F938F13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141EF-DDE2-428A-AAC0-DA72AC68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9A7E-E478-4B84-81D4-FE01E11E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726B-E803-4E7C-A0E1-6F10898E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1349-A02B-46EB-B4A9-412A207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B12D-7595-4D26-AF92-4A7BD9DB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ACEA-AE46-4B73-B61B-D655DA27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468BE-F638-4503-B60D-EF1598C0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313-7704-4D1C-9D11-E61430EE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D28C1-CEA0-496F-A199-5C86F350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528D-3080-4254-BDF8-1A06CC17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C15E3-D104-4114-B40C-752EED44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CB203-1B95-411C-BE07-7FC41E43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5865-5F74-46BD-A1CA-87D267F2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965B5-1570-4D12-999A-FAECD5E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0612-3AC1-433F-9768-DB10DA18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B419-F12C-40C4-9E85-CE7BF22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1C1B2-5AF9-4B17-AE56-8EF7F0C1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A9A48-196F-4566-A0B0-7C7E9B85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9CB-BFA3-4B1C-9E46-402AEB88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029FB-C9BF-4019-91E7-43C37BB2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4B388-57AA-4B08-AF71-D2520724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2A41D-0C78-4DC3-8600-29DE068F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9021C-F491-4D41-B033-7B729C31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847F1-94B5-4BEF-B064-90EE2E12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0132-211D-4725-98C6-150F6143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BE421-E665-4432-A096-017E4D5C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4D1C5-3675-474C-8F57-367614FA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88C7F-1B92-4F5B-A531-F832AF46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E173-3741-4156-BC37-B4144AFA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343-E780-463C-B7B1-53E822A4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58241-053C-42E0-B792-0000268B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201BE-136F-4173-9516-387A2C37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EB743-E785-4316-8B67-73BECEC5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A3D30-6826-4ACE-AB70-CAEB1F38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68224-B580-46E4-97DA-F6577FEA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7BB13-2131-436B-AE21-7A7E2701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094D1-3CBA-4556-87D4-CEB927FB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EEBC6-E93D-4862-98F7-B8B32300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03AA1-A857-4C73-92FE-19B9919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FEA8F-9133-4D09-8CBD-655C48F2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082-EC33-45CA-A31F-14034E0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23400-3FF6-46BE-ADB6-64998BB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19A7A-FF60-4069-AF31-79D5E748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33F64-10A7-4530-B04D-9C62F485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928F3-20A1-4B0A-A064-DAA95AAB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5C32B-ACDF-4C34-BC04-79191964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1068E-0D73-490A-A3BE-0D97D8E6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3B3BB-9411-4275-AF77-DF0890DA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5ACB5-1F30-45D9-9250-2C65644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86C81-D5C4-4C23-BCA7-0ACC038F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C6F00-96FE-4B4A-9BEB-F398C4F1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E60-3346-40CC-B971-1338E282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1146A-D86B-49C8-AF84-A4D70B3D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E90CF-FB51-4989-BE2D-DD7AC16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FD704-593D-4AFE-8F80-95095CEB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20FF5-2CEA-4C3D-8A53-A3DD03D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7558-B254-4CEE-8B95-20FD6BD3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22265-E943-43F9-8B8D-3967CEA9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0D59B-8034-41C7-8319-F9C534B2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D04A5-C22D-41BE-8B83-40585C30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12BD6-0014-4E4C-B1F1-1AF4BB09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60FC0-9E8F-4D41-BD8D-AE755697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358F-E406-463C-9688-39B98B67B5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412D-AD5D-40D3-8B79-8A51F44D04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89E2-D946-4533-80DC-2C17C041CF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0F75-E3E4-467A-9503-479FC2F671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41CB-A9DB-4A17-A59A-42C92AD3EB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EBD5-52A5-4E4B-A416-376E9DA954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E561-F0B0-4D65-9C8A-F044CDB93B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3CBF-82BB-44D0-9A0E-FAEEAAA491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C21E-4063-4D26-9D53-029F37DC38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654760" cy="2159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00360" y="5643360"/>
            <a:ext cx="442908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Презентацию подготовили ученицы 10 класса МБОУ «Верх-Обской СОШ» Ширяева Ю, Листопад В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Рисунок 4" descr="http://badnews.org.ru/_nw/97/14139527.jpg"/>
          <p:cNvPicPr/>
          <p:nvPr/>
        </p:nvPicPr>
        <p:blipFill>
          <a:blip r:embed="rId2"/>
          <a:srcRect l="17505" t="0" r="14999" b="0"/>
          <a:stretch/>
        </p:blipFill>
        <p:spPr>
          <a:xfrm>
            <a:off x="1143000" y="2347920"/>
            <a:ext cx="1643040" cy="19954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7" descr=""/>
          <p:cNvPicPr/>
          <p:nvPr/>
        </p:nvPicPr>
        <p:blipFill>
          <a:blip r:embed="rId3"/>
          <a:stretch/>
        </p:blipFill>
        <p:spPr>
          <a:xfrm>
            <a:off x="3852720" y="1096920"/>
            <a:ext cx="5083200" cy="12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08000" y="499680"/>
            <a:ext cx="45352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конце октября 1856 года Достоевский получает офицерский чин. Теперь он добивается официального разрешения на поездку в Кузнецк. Дорога шла через Барнаул, где Федор Михайлович оказался 24 ноября и пробыл там два дн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день приезда писателя в Барнаул горный начальник давал бал в честь именин жены. Федор Михайлович имел возможность наблюдать многих барнаульских инженеров и чиновников и в письме все к Врангелю дал им емкую характеристику:«О барнаульских я не пишу вам. Я с ними со многими познакомился. Хлопотливый город, и сколько в нем сплетен и доморощенных Талейранов»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Рисунок 4" descr="Достоевский "/>
          <p:cNvPicPr/>
          <p:nvPr/>
        </p:nvPicPr>
        <p:blipFill>
          <a:blip r:embed="rId1"/>
          <a:stretch/>
        </p:blipFill>
        <p:spPr>
          <a:xfrm>
            <a:off x="6424560" y="2352600"/>
            <a:ext cx="1354320" cy="206712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5" descr=""/>
          <p:cNvPicPr/>
          <p:nvPr/>
        </p:nvPicPr>
        <p:blipFill>
          <a:blip r:embed="rId2"/>
          <a:stretch/>
        </p:blipFill>
        <p:spPr>
          <a:xfrm>
            <a:off x="6797520" y="5065560"/>
            <a:ext cx="2237040" cy="35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071960" y="404280"/>
            <a:ext cx="48211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феврале 1857 года Достоевский вновь в Барнауле. Теперь он ехал в Кузнецк на свою свадьбу(после смерти мужа Мария  Исаева согласилась стать женой Достоевского). Эту зиму в Барнауле провел магистр ботаники  Семенов (Тян-Шанский)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Писатель остановился у него. Жил, вероятно, несколько дней, делая покупки к свадьбе. Эта встреча известна в истории литературы. Именно тогда Достоевский впервые читал Семенову главы «Записок из мертвого дома»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Рисунок 5" descr="Достоевский "/>
          <p:cNvPicPr/>
          <p:nvPr/>
        </p:nvPicPr>
        <p:blipFill>
          <a:blip r:embed="rId1"/>
          <a:srcRect l="27085" t="0" r="5206" b="9442"/>
          <a:stretch/>
        </p:blipFill>
        <p:spPr>
          <a:xfrm>
            <a:off x="1285920" y="2357280"/>
            <a:ext cx="1214280" cy="1793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http://www.hrono.ru/biograf/bio_s/semenov_pp.jpg"/>
          <p:cNvPicPr/>
          <p:nvPr/>
        </p:nvPicPr>
        <p:blipFill>
          <a:blip r:embed="rId2"/>
          <a:stretch/>
        </p:blipFill>
        <p:spPr>
          <a:xfrm>
            <a:off x="3143160" y="4357800"/>
            <a:ext cx="1478160" cy="172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189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ле свадьбы Достоевский вновь заезжает в Барнаул и останавливается вместе с женой у Семенова. Но это посещение города оказалось трагическим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Рисунок 16" descr=""/>
          <p:cNvPicPr/>
          <p:nvPr/>
        </p:nvPicPr>
        <p:blipFill>
          <a:blip r:embed="rId1"/>
          <a:stretch/>
        </p:blipFill>
        <p:spPr>
          <a:xfrm>
            <a:off x="500040" y="3381480"/>
            <a:ext cx="3643200" cy="2174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188965"/>
          <p:cNvPicPr/>
          <p:nvPr/>
        </p:nvPicPr>
        <p:blipFill>
          <a:blip r:embed="rId2"/>
          <a:stretch/>
        </p:blipFill>
        <p:spPr>
          <a:xfrm>
            <a:off x="5929200" y="3052800"/>
            <a:ext cx="1643040" cy="208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115560"/>
            <a:ext cx="46432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частливые дни омрачил сильнейший припадок падучей. Несколько дней Фёдор Михайлович находился без сознания. По просьбе Семенова (Тян-Шанского) барнаульский врач определил всю тяжесть положения ссыльного писателя – он безнадежно болен эпилепсией. Болезнь Фёдора Михайловича напугала Марию Дмитриевну и, возможно, даже убила ее надежды на новое семейное счасть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Рисунок 4" descr="Картинка 101 из 312"/>
          <p:cNvPicPr/>
          <p:nvPr/>
        </p:nvPicPr>
        <p:blipFill>
          <a:blip r:embed="rId1"/>
          <a:srcRect l="10225" t="4361" r="0" b="14239"/>
          <a:stretch/>
        </p:blipFill>
        <p:spPr>
          <a:xfrm>
            <a:off x="5500800" y="1285920"/>
            <a:ext cx="13255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284360" y="18864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1859 году Достоевскому разрешили выйти в отставку с правом публиковать свои произведения. Но жить в столицах ему не разрешалось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едор Михайлович поселяется в Твери. Отсюда он пишет своему другу Врангелю: «Приезжайте же... Поговорим о Сибири, которая мне теперь стала мила, когда я покинул ее, о милейших Змеиногорске и Барнауле, где я после вас бывал довольно часто... Ну, да обо всем...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Рисунок 4" descr="http://www.dostoevsky.df.ru/dost41.jpg"/>
          <p:cNvPicPr/>
          <p:nvPr/>
        </p:nvPicPr>
        <p:blipFill>
          <a:blip r:embed="rId1"/>
          <a:stretch/>
        </p:blipFill>
        <p:spPr>
          <a:xfrm>
            <a:off x="1428840" y="1714680"/>
            <a:ext cx="1436760" cy="253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000" y="-4138920"/>
            <a:ext cx="3492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188640"/>
            <a:ext cx="578628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биографии Достоевского, невероятно насыщенной яркими и трагическими событиями, сильными страстями, огромной работой мысли, титаническим трудом, сибирский период является, пожалуй, самым тяжелым. Но он расширил представления писателя о жизни, позволил ему глубже узнать и почувствовать невыносимость страданий униженного и оскорбленного человека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Если я узнал не Россию, — писал он, — так народ русский хорошо, так хорошо, как, может быть, немногие знают его»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Сибири он кроме «Записок из Мертвого дома» говорит во многих своих романах: «Униженные и оскорбленные», «Преступление и наказание», «Идиот», «Бесы», «Подросток» и, наконец, «Братья Карамазовы»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5" name="Рисунок 4" descr="http://sibtube.ru/img/image237.jpg"/>
          <p:cNvPicPr/>
          <p:nvPr/>
        </p:nvPicPr>
        <p:blipFill>
          <a:blip r:embed="rId1"/>
          <a:stretch/>
        </p:blipFill>
        <p:spPr>
          <a:xfrm>
            <a:off x="6711840" y="1279440"/>
            <a:ext cx="15782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Рисунок 7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2000520" cy="15001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357200" y="285840"/>
            <a:ext cx="7500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до полагать, что и пребывание в Барнауле и на Алтае тоже оставило какой-то след в творчестве великого писателя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звуки алтайских впечатлений          Достоевского еще станут                   объектом изучени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4950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4214520"/>
            <a:ext cx="868680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4392720" cy="544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олее полувека назад барнаульский литератор и педагог П. А. Казанский предлагал переименовать Демидовскую площадь в площадь Достоевского. Основанием для этого служило городское предание о том, что Федор Михайлович Достоевский, бывая в Барнауле, прогуливался по этой площади, напоминавшей ему далекий желанный Петербург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им же образом великий писатель оказался в нашем городе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Рисунок 4" descr="http://www.ab.ru/~muzei/progects/2011/progects_images2011/pr01_2011_36.jpg"/>
          <p:cNvPicPr/>
          <p:nvPr/>
        </p:nvPicPr>
        <p:blipFill>
          <a:blip r:embed="rId1"/>
          <a:stretch/>
        </p:blipFill>
        <p:spPr>
          <a:xfrm>
            <a:off x="5857920" y="1643040"/>
            <a:ext cx="17859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363640" y="1642680"/>
            <a:ext cx="3529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1849 году за участие в революционном кружке Спешнева и Петрашевского Федор Достоевский был заключен в Алексеевский равелин Петропавловской крепости. Через четыре месяца его осудили и приговорили к четырем годам каторги, которые он провел в Омском острог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Рисунок 13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1214280" cy="18115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6" descr="Достоевский Достоевский на каторге"/>
          <p:cNvPicPr/>
          <p:nvPr/>
        </p:nvPicPr>
        <p:blipFill>
          <a:blip r:embed="rId2"/>
          <a:stretch/>
        </p:blipFill>
        <p:spPr>
          <a:xfrm>
            <a:off x="714240" y="4714920"/>
            <a:ext cx="1278000" cy="18572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10" descr=""/>
          <p:cNvPicPr/>
          <p:nvPr/>
        </p:nvPicPr>
        <p:blipFill>
          <a:blip r:embed="rId3"/>
          <a:stretch/>
        </p:blipFill>
        <p:spPr>
          <a:xfrm>
            <a:off x="3143160" y="2614680"/>
            <a:ext cx="1643040" cy="117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571680"/>
            <a:ext cx="3857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3 января 1854 года арестанта Достоевского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бывшего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лный срок заточения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вободили от цепей и кандалов и направили в качестве рядового в Сибирский 7-й линейный батальон в Семипалатинск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Рисунок 5" descr="Картинка 9 из 313"/>
          <p:cNvPicPr/>
          <p:nvPr/>
        </p:nvPicPr>
        <p:blipFill>
          <a:blip r:embed="rId1"/>
          <a:srcRect l="0" t="0" r="0" b="2252"/>
          <a:stretch/>
        </p:blipFill>
        <p:spPr>
          <a:xfrm>
            <a:off x="5643720" y="1714680"/>
            <a:ext cx="132696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00720" y="571680"/>
            <a:ext cx="43192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Семипалатинске писатель познакомился с Александром Егоровичем Врангелем, исправлявшим должность областного прокурора. Благодаря Врангелю Достоевский получил возможность совершать поездки. Иногда тайно, а иногда и вполне официально он выезжал с Врангелем по его служебным делам. Таким образом, Достоевский побывал на Локтевском заводе, в городе Змиеве, а позже - и в Барнаул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Рисунок 5" descr="http://www.dostoevsky.df.ru/dost41.jpg"/>
          <p:cNvPicPr/>
          <p:nvPr/>
        </p:nvPicPr>
        <p:blipFill>
          <a:blip r:embed="rId1"/>
          <a:srcRect l="11216" t="8001" r="27567" b="54204"/>
          <a:stretch/>
        </p:blipFill>
        <p:spPr>
          <a:xfrm>
            <a:off x="714240" y="2146320"/>
            <a:ext cx="1357560" cy="1822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http://dostoevsky.df.ru/dost26.jpg"/>
          <p:cNvPicPr/>
          <p:nvPr/>
        </p:nvPicPr>
        <p:blipFill>
          <a:blip r:embed="rId2"/>
          <a:srcRect l="12304" t="1253" r="0" b="4625"/>
          <a:stretch/>
        </p:blipFill>
        <p:spPr>
          <a:xfrm>
            <a:off x="2857680" y="3857760"/>
            <a:ext cx="1144440" cy="178884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6" descr=""/>
          <p:cNvPicPr/>
          <p:nvPr/>
        </p:nvPicPr>
        <p:blipFill>
          <a:blip r:embed="rId3"/>
          <a:stretch/>
        </p:blipFill>
        <p:spPr>
          <a:xfrm>
            <a:off x="2981160" y="6089760"/>
            <a:ext cx="255600" cy="34740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7" descr=""/>
          <p:cNvPicPr/>
          <p:nvPr/>
        </p:nvPicPr>
        <p:blipFill>
          <a:blip r:embed="rId4"/>
          <a:stretch/>
        </p:blipFill>
        <p:spPr>
          <a:xfrm>
            <a:off x="-6480" y="4791240"/>
            <a:ext cx="262080" cy="38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427280" y="1213920"/>
            <a:ext cx="43923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стоевский приезжал в Барнаул три раза. Все эти поездки связаны с драматической историей его «грозного чувства», с его трудной и спасительной первой любовью. Трудной потому, что на пути этой любви стояло много, казалось, непреодолимых препятствий, спасительной потому, что к этой женщине обращены его слова: «Если б вас не было, я бы, может быть, одеревенел окончательно»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2" descr="Картинка 35 из 155"/>
          <p:cNvPicPr/>
          <p:nvPr/>
        </p:nvPicPr>
        <p:blipFill>
          <a:blip r:embed="rId1"/>
          <a:stretch/>
        </p:blipFill>
        <p:spPr>
          <a:xfrm>
            <a:off x="785880" y="2892600"/>
            <a:ext cx="2214360" cy="25621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5" descr=""/>
          <p:cNvPicPr/>
          <p:nvPr/>
        </p:nvPicPr>
        <p:blipFill>
          <a:blip r:embed="rId2"/>
          <a:stretch/>
        </p:blipFill>
        <p:spPr>
          <a:xfrm>
            <a:off x="1901880" y="6089760"/>
            <a:ext cx="255600" cy="34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1357200"/>
            <a:ext cx="4214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стоевский с Марией Исаевой познакомились в Семипалатинске. Двадцатишестилетняя Мария Дмитриевна была замужем за опустившимся, пьющим чиновником в отставке Александром Исаевым. В этом браке она была несчастна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рнуться в литературу и соединиться с любимой женщиной — эти две мечты слились теперь для Достоевского в одну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2" descr="Картинка 2 из 155"/>
          <p:cNvPicPr/>
          <p:nvPr/>
        </p:nvPicPr>
        <p:blipFill>
          <a:blip r:embed="rId1"/>
          <a:srcRect l="0" t="0" r="0" b="18551"/>
          <a:stretch/>
        </p:blipFill>
        <p:spPr>
          <a:xfrm>
            <a:off x="6072120" y="2143080"/>
            <a:ext cx="1514520" cy="201312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5" descr=""/>
          <p:cNvPicPr/>
          <p:nvPr/>
        </p:nvPicPr>
        <p:blipFill>
          <a:blip r:embed="rId2"/>
          <a:stretch/>
        </p:blipFill>
        <p:spPr>
          <a:xfrm>
            <a:off x="6797520" y="5724360"/>
            <a:ext cx="255600" cy="35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8000" y="189000"/>
            <a:ext cx="8856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скоре семья Исаевых переехала в Кузнецк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разу начались и поездки Достоевского в Змеиногорск, куда обещала, но так и не сумела вырваться Исаева, потом через Барнаул в Кузнецк.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рвый раз Фёдор Михайлович появился в Барнауле в 1856 году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десь Федор Михайлович познакомился с местными горными инженерами, многое узнал о Барнауле как одном из самых культурных городов Сибири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Рисунок 4" descr=""/>
          <p:cNvPicPr/>
          <p:nvPr/>
        </p:nvPicPr>
        <p:blipFill>
          <a:blip r:embed="rId1"/>
          <a:srcRect l="3610" t="8198" r="1690" b="13109"/>
          <a:stretch/>
        </p:blipFill>
        <p:spPr>
          <a:xfrm>
            <a:off x="2357280" y="4094280"/>
            <a:ext cx="2928960" cy="143964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6" descr=""/>
          <p:cNvPicPr/>
          <p:nvPr/>
        </p:nvPicPr>
        <p:blipFill>
          <a:blip r:embed="rId2"/>
          <a:stretch/>
        </p:blipFill>
        <p:spPr>
          <a:xfrm>
            <a:off x="603360" y="2706840"/>
            <a:ext cx="2474640" cy="35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1000080"/>
            <a:ext cx="9144000" cy="19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этот период великий писатель мечтает о переезде в Барнаул. Он пишет Врангелю, находившемуся в Петербурге: «Если будет возможность говорить и хлопотать о переводе моем в статскую службу, именно в Барнаул, то ради бога не оставляйте без внимания»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стоевский стремился попасть в наш город не только потому, что он был приметным культурным центром. Сюда одно время думала переехать Исаев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Рисунок 1" descr=""/>
          <p:cNvPicPr/>
          <p:nvPr/>
        </p:nvPicPr>
        <p:blipFill>
          <a:blip r:embed="rId1"/>
          <a:srcRect l="1496" t="0" r="0" b="10054"/>
          <a:stretch/>
        </p:blipFill>
        <p:spPr>
          <a:xfrm>
            <a:off x="1143000" y="3675240"/>
            <a:ext cx="2643120" cy="159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35:20Z</dcterms:created>
  <dc:creator>ал</dc:creator>
  <dc:description/>
  <dc:language>en-US</dc:language>
  <cp:lastModifiedBy>Худякова</cp:lastModifiedBy>
  <dcterms:modified xsi:type="dcterms:W3CDTF">2013-03-27T03:17:43Z</dcterms:modified>
  <cp:revision>33</cp:revision>
  <dc:subject/>
  <dc:title>Барнаульское счастье и несчастье Федора Достоевского</dc:title>
</cp:coreProperties>
</file>