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7.jpeg" ContentType="image/jpeg"/>
  <Override PartName="/ppt/media/image12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16B-C52B-4B7A-89DA-76CE09F5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268-BB95-4FF6-860E-1D20C4E2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A20-76DF-4ED5-BEA6-C6087A30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02C-F681-48B7-A6D9-22008869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7F7D-07F6-4675-8EED-8E56EC35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4869-CA45-4ACE-9FB8-6DAF2021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8889-140A-4BD5-B6FF-E1713915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56D7-6AB7-489B-9BA1-7F66956D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6C97-7E37-47B8-B061-986FFB71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2F05-3FAE-49F2-A8B5-AD54F460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7CFC-35A8-4C24-A3E9-00B6F1CF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783-6BBF-4853-A3F6-8289DC8F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D2CA-2470-40A6-8E10-6B22DF13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084D-E5DF-4252-A350-3F00358B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D9F8-D277-46DC-AF20-A1666A7C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345E-4008-4B9B-86EC-A5BDDE72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8F45-9F5B-482A-8F15-5D8FBC18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FF2-038D-4E78-BAB1-31CAC102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821-A0DF-462B-84FC-DBEF5514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818D-D10C-40DE-B41A-778F3FCA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D2BD-D5C6-4830-8575-093EA357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5DE6-D06E-4A76-A888-B1C4345D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16C-7AB0-4F61-AD41-6044AE4F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005-E590-4CD2-95D1-D3CBAA3F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C7A6-B6BD-4FA9-9C62-9694AC89CC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CD74-FC94-4E70-B0DF-C1268058681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Arial"/>
              </a:rPr>
              <a:t>КРЕСТЬЯНСКИЕ ХОРОМЫ,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Arial"/>
              </a:rPr>
              <a:t>РУССКАЯ ИЗБА</a:t>
            </a:r>
            <a:endParaRPr b="0" lang="en-US" sz="54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Наличники и ставни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наличники на урале"/>
          <p:cNvPicPr/>
          <p:nvPr/>
        </p:nvPicPr>
        <p:blipFill>
          <a:blip r:embed="rId1"/>
          <a:stretch/>
        </p:blipFill>
        <p:spPr>
          <a:xfrm>
            <a:off x="468360" y="1557360"/>
            <a:ext cx="3924360" cy="4824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7ee658802d2a"/>
          <p:cNvPicPr/>
          <p:nvPr/>
        </p:nvPicPr>
        <p:blipFill>
          <a:blip r:embed="rId2"/>
          <a:stretch/>
        </p:blipFill>
        <p:spPr>
          <a:xfrm>
            <a:off x="4500720" y="1557360"/>
            <a:ext cx="4174920" cy="4824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3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Дымники  и коньки крыш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дымник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476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izba2"/>
          <p:cNvPicPr/>
          <p:nvPr/>
        </p:nvPicPr>
        <p:blipFill>
          <a:blip r:embed="rId2"/>
          <a:stretch/>
        </p:blipFill>
        <p:spPr>
          <a:xfrm>
            <a:off x="4643280" y="1557360"/>
            <a:ext cx="417672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3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Изба изнутри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изба внутри"/>
          <p:cNvPicPr/>
          <p:nvPr/>
        </p:nvPicPr>
        <p:blipFill>
          <a:blip r:embed="rId1"/>
          <a:stretch/>
        </p:blipFill>
        <p:spPr>
          <a:xfrm>
            <a:off x="468360" y="1341360"/>
            <a:ext cx="835164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Изба изнутри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аждого дела св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избаизнутри"/>
          <p:cNvPicPr/>
          <p:nvPr/>
        </p:nvPicPr>
        <p:blipFill>
          <a:blip r:embed="rId1"/>
          <a:stretch/>
        </p:blipFill>
        <p:spPr>
          <a:xfrm>
            <a:off x="468360" y="1916280"/>
            <a:ext cx="8281800" cy="4174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71680" y="9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енние стены рубленой избы обшивались тесом или липовой доской, а затем белились, потолок обмазывался глиной, пол был земляной, или настеленный из бревен или досок, что считалось верхом роско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all-pages.com/img/repphotos2/repphoto_2539_5182.jpg"/>
          <p:cNvPicPr/>
          <p:nvPr/>
        </p:nvPicPr>
        <p:blipFill>
          <a:blip r:embed="rId1"/>
          <a:stretch/>
        </p:blipFill>
        <p:spPr>
          <a:xfrm>
            <a:off x="5342040" y="285840"/>
            <a:ext cx="380196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6"/>
          <p:cNvSpPr/>
          <p:nvPr/>
        </p:nvSpPr>
        <p:spPr>
          <a:xfrm>
            <a:off x="0" y="0"/>
            <a:ext cx="5286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м местом в избе был передний или как его еще называли «красный угол». Здесь, в самом дальнем углу избы, обращенном к востоку, устанавливались иконы, перед которыми всегда горела лампадка. Красный угол устраивался с таким расчетом, что бы иконы были первым, что встретит взгляд, каждого входящего в избу. В красном же углу, под иконами стояла лавка, на которой сидел, глава семьи или почетный гость, это место называлось «большим». Остальные члены семьи рассаживались за столом в порядке старши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0" y="0"/>
            <a:ext cx="9144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диционно центром домашнего уклада была печь. Она согревала избу и кормила ее хозяев и была таким элементом зонирования внутреннего пространства избы. Например, напротив печи устраивался кут или бабий угол, мужской угол был у входа и назывался конник, пространство за печью называлось закут. Самым теплым местом в избе были полати, они устраивались на полке между печью и задней стеной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vamteplo.ru/img/d341c1a7.jpg"/>
          <p:cNvPicPr/>
          <p:nvPr/>
        </p:nvPicPr>
        <p:blipFill>
          <a:blip r:embed="rId1"/>
          <a:stretch/>
        </p:blipFill>
        <p:spPr>
          <a:xfrm>
            <a:off x="2500200" y="2214720"/>
            <a:ext cx="6091200" cy="4038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33"/>
                </a:solidFill>
                <a:latin typeface="Arial"/>
              </a:rPr>
              <a:t>Презентация к урокам по истокам в 5 классе на тему «Крестьянские хоромы»: можно использовать на первых двух уроках из четырех по данной теме.</a:t>
            </a:r>
            <a:endParaRPr b="0" lang="en-US" sz="1800" spc="-1" strike="noStrike">
              <a:solidFill>
                <a:srgbClr val="666633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СОСТАВ КРЕСТЬЯНСКИХ ХОРОМ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а (жилая ча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ворки, двор (хоз. помещ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и (помещение перед входом в изб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ет (холодное помещение для хранения продук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в (помещение для ск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ть (помещение для хранения хоз. принадлежност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новал ( помещение для хранения с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вка (помещение, в котором жили в холодное время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6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Дом Терентьева, 19 век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0" name="Picture 6" descr="дом терентьева 19в карелия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6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Arial"/>
              </a:rPr>
              <a:t>Изба в нижегородской губернии, 19 век.</a:t>
            </a:r>
            <a:endParaRPr b="0" lang="en-US" sz="32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2" name="Picture 4" descr="ниж новгород изба19"/>
          <p:cNvPicPr/>
          <p:nvPr/>
        </p:nvPicPr>
        <p:blipFill>
          <a:blip r:embed="rId1"/>
          <a:stretch/>
        </p:blipFill>
        <p:spPr>
          <a:xfrm>
            <a:off x="2268360" y="1700280"/>
            <a:ext cx="424836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6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33"/>
                </a:solidFill>
                <a:latin typeface="Arial"/>
              </a:rPr>
              <a:t>Сарай и дом, 19 век</a:t>
            </a:r>
            <a:endParaRPr b="0" lang="en-US" sz="36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4" name="Picture 4" descr="сарай и дом 19век"/>
          <p:cNvPicPr/>
          <p:nvPr/>
        </p:nvPicPr>
        <p:blipFill>
          <a:blip r:embed="rId1"/>
          <a:stretch/>
        </p:blipFill>
        <p:spPr>
          <a:xfrm>
            <a:off x="611280" y="148428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Погодинская изба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pic>
        <p:nvPicPr>
          <p:cNvPr id="106" name="Picture 4" descr="погодинская изба"/>
          <p:cNvPicPr/>
          <p:nvPr/>
        </p:nvPicPr>
        <p:blipFill>
          <a:blip r:embed="rId1"/>
          <a:stretch/>
        </p:blipFill>
        <p:spPr>
          <a:xfrm>
            <a:off x="2050920" y="1628640"/>
            <a:ext cx="511344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  <p:sndAc>
      <p:stSnd>
        <p:snd r:embed="rId2" name="wind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6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Arial"/>
              </a:rPr>
              <a:t>Из чего и как строили хоромы</a:t>
            </a:r>
            <a:endParaRPr b="0" lang="en-US" sz="32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 – дерево (ель, сосна, д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тавливали лес зи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ики собирали ср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ушка 1-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опатили (мох, лен, пак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угол – символический предм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еньги, шерсть, лад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6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6633"/>
                </a:solidFill>
                <a:latin typeface="Arial"/>
              </a:rPr>
              <a:t>Красота крестьянского дома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асад: окна, наличники, став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ьки кры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зоры и причелины (украшенные резьбой дос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м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сем было чувство 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1" name="wind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6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7:05:29Z</dcterms:created>
  <dc:creator>1</dc:creator>
  <dc:description/>
  <dc:language>en-US</dc:language>
  <cp:lastModifiedBy>Кабинет337</cp:lastModifiedBy>
  <dcterms:modified xsi:type="dcterms:W3CDTF">2013-02-16T08:58:32Z</dcterms:modified>
  <cp:revision>9</cp:revision>
  <dc:subject/>
  <dc:title>КРЕСТЬЯНСКИЕ ХОРОМЫ, РУССКАЯ ИЗБА ИСТОКИ 5 КЛАСС</dc:title>
</cp:coreProperties>
</file>