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ind.wav" ContentType="audio/x-wav"/>
  <Override PartName="/ppt/media/image7.jpeg" ContentType="image/jpeg"/>
  <Override PartName="/ppt/media/image12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6010-A68F-44B3-9FF7-83F8523C4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FEC4-DEE5-4A1E-96D8-87E734F04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E3D7-4530-4F75-B550-F85241177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767D-468F-4782-9B45-F5C659451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16649-9BC9-4A4E-8165-A8E005F41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13780-62EA-4582-A109-5D80DF215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BDB0B-6BD5-4321-9A58-892DDD4F2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0DD4F-52F6-4C94-9B16-A4B54FCAC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CB409-6977-465A-9504-641A38AEB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9DDBD-7661-4B45-86FD-C7FC59A4D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740E0-872B-4FA8-995E-ABE3A98CE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82A2-D470-4918-AD9B-251D88333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DAD12-FE37-45BC-BE21-061BA239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ACF1C-4D4C-4CF2-AE8C-E607D131A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89F07-316A-4B0E-AEAA-C21373801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043E9-D648-4074-B07B-FAADA3ED3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DA9A5-7AD5-40A8-B474-29E415CF6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CF97-7EEC-4697-A43D-2C343D9F8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238A-B51B-4998-A036-C4B27139B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7604-D7DC-4C6C-B665-2A15403D1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1FCB-74EA-4C47-B614-9E75AEA82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40A6-4D21-44AA-AD1D-9F3E0C33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56A1-6500-4B1B-BEA3-64CF54D0C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FDFE-8E86-46CA-99E5-136E7F88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0E9F2-1F33-42C3-AD21-8644A8C4B7A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886E8-36E9-47AB-AC87-9E5AA483258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ind.wav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1989000"/>
            <a:ext cx="8229600" cy="28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6633"/>
                </a:solidFill>
                <a:latin typeface="Arial"/>
              </a:rPr>
              <a:t>КРЕСТЬЯНСКИЕ ХОРОМЫ,</a:t>
            </a:r>
            <a:br>
              <a:rPr sz="5400"/>
            </a:br>
            <a:r>
              <a:rPr b="1" lang="ru-RU" sz="5400" spc="-1" strike="noStrike">
                <a:solidFill>
                  <a:srgbClr val="666633"/>
                </a:solidFill>
                <a:latin typeface="Arial"/>
              </a:rPr>
              <a:t>РУССКАЯ ИЗБА</a:t>
            </a:r>
            <a:endParaRPr b="0" lang="en-US" sz="5400" spc="-1" strike="noStrike">
              <a:solidFill>
                <a:srgbClr val="666633"/>
              </a:solidFill>
              <a:latin typeface="Arial"/>
            </a:endParaRPr>
          </a:p>
        </p:txBody>
      </p:sp>
    </p:spTree>
  </p:cSld>
  <p:transition spd="med">
    <p:comb dir="horz"/>
    <p:sndAc>
      <p:stSnd>
        <p:snd r:embed="rId1" name="wind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6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6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6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6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6633"/>
                </a:solidFill>
                <a:latin typeface="Arial"/>
              </a:rPr>
              <a:t>Наличники и ставни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наличники на урале"/>
          <p:cNvPicPr/>
          <p:nvPr/>
        </p:nvPicPr>
        <p:blipFill>
          <a:blip r:embed="rId1"/>
          <a:stretch/>
        </p:blipFill>
        <p:spPr>
          <a:xfrm>
            <a:off x="468360" y="1557360"/>
            <a:ext cx="3924360" cy="4824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7ee658802d2a"/>
          <p:cNvPicPr/>
          <p:nvPr/>
        </p:nvPicPr>
        <p:blipFill>
          <a:blip r:embed="rId2"/>
          <a:stretch/>
        </p:blipFill>
        <p:spPr>
          <a:xfrm>
            <a:off x="4500720" y="1557360"/>
            <a:ext cx="4174920" cy="48243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  <p:sndAc>
      <p:stSnd>
        <p:snd r:embed="rId3" name="wind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6633"/>
                </a:solidFill>
                <a:latin typeface="Arial"/>
              </a:rPr>
              <a:t>Дымники  и коньки крыш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дымник"/>
          <p:cNvPicPr/>
          <p:nvPr/>
        </p:nvPicPr>
        <p:blipFill>
          <a:blip r:embed="rId1"/>
          <a:stretch/>
        </p:blipFill>
        <p:spPr>
          <a:xfrm>
            <a:off x="468360" y="1557360"/>
            <a:ext cx="4103640" cy="47624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izba2"/>
          <p:cNvPicPr/>
          <p:nvPr/>
        </p:nvPicPr>
        <p:blipFill>
          <a:blip r:embed="rId2"/>
          <a:stretch/>
        </p:blipFill>
        <p:spPr>
          <a:xfrm>
            <a:off x="4643280" y="1557360"/>
            <a:ext cx="4176720" cy="47512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  <p:sndAc>
      <p:stSnd>
        <p:snd r:embed="rId3" name="wind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6633"/>
                </a:solidFill>
                <a:latin typeface="Arial"/>
              </a:rPr>
              <a:t>Изба изнутри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изба внутри"/>
          <p:cNvPicPr/>
          <p:nvPr/>
        </p:nvPicPr>
        <p:blipFill>
          <a:blip r:embed="rId1"/>
          <a:stretch/>
        </p:blipFill>
        <p:spPr>
          <a:xfrm>
            <a:off x="468360" y="1341360"/>
            <a:ext cx="8351640" cy="51832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  <p:sndAc>
      <p:stSnd>
        <p:snd r:embed="rId2" name="wind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6633"/>
                </a:solidFill>
                <a:latin typeface="Arial"/>
              </a:rPr>
              <a:t>Изба изнутри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ля каждого дела свое мес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избаизнутри"/>
          <p:cNvPicPr/>
          <p:nvPr/>
        </p:nvPicPr>
        <p:blipFill>
          <a:blip r:embed="rId1"/>
          <a:stretch/>
        </p:blipFill>
        <p:spPr>
          <a:xfrm>
            <a:off x="468360" y="1916280"/>
            <a:ext cx="8281800" cy="417492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  <p:sndAc>
      <p:stSnd>
        <p:snd r:embed="rId2" name="wind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71680" y="928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нутренние стены рубленой избы обшивались тесом или липовой доской, а затем белились, потолок обмазывался глиной, пол был земляной, или настеленный из бревен или досок, что считалось верхом роскош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  <p:sndAc>
      <p:stSnd>
        <p:snd r:embed="rId1" name="wind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http://all-pages.com/img/repphotos2/repphoto_2539_5182.jpg"/>
          <p:cNvPicPr/>
          <p:nvPr/>
        </p:nvPicPr>
        <p:blipFill>
          <a:blip r:embed="rId1"/>
          <a:stretch/>
        </p:blipFill>
        <p:spPr>
          <a:xfrm>
            <a:off x="5342040" y="285840"/>
            <a:ext cx="3801960" cy="5715000"/>
          </a:xfrm>
          <a:prstGeom prst="rect">
            <a:avLst/>
          </a:prstGeom>
          <a:ln w="0">
            <a:noFill/>
          </a:ln>
        </p:spPr>
      </p:pic>
      <p:sp>
        <p:nvSpPr>
          <p:cNvPr id="129" name="Прямоугольник 6"/>
          <p:cNvSpPr/>
          <p:nvPr/>
        </p:nvSpPr>
        <p:spPr>
          <a:xfrm>
            <a:off x="0" y="0"/>
            <a:ext cx="52862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вным местом в избе был передний или как его еще называли «красный угол». Здесь, в самом дальнем углу избы, обращенном к востоку, устанавливались иконы, перед которыми всегда горела лампадка. Красный угол устраивался с таким расчетом, что бы иконы были первым, что встретит взгляд, каждого входящего в избу. В красном же углу, под иконами стояла лавка, на которой сидел, глава семьи или почетный гость, это место называлось «большим». Остальные члены семьи рассаживались за столом в порядке старшин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  <p:sndAc>
      <p:stSnd>
        <p:snd r:embed="rId2" name="wind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0" y="0"/>
            <a:ext cx="91440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адиционно центром домашнего уклада была печь. Она согревала избу и кормила ее хозяев и была таким элементом зонирования внутреннего пространства избы. Например, напротив печи устраивался кут или бабий угол, мужской угол был у входа и назывался конник, пространство за печью называлось закут. Самым теплым местом в избе были полати, они устраивались на полке между печью и задней стеной до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http://vamteplo.ru/img/d341c1a7.jpg"/>
          <p:cNvPicPr/>
          <p:nvPr/>
        </p:nvPicPr>
        <p:blipFill>
          <a:blip r:embed="rId1"/>
          <a:stretch/>
        </p:blipFill>
        <p:spPr>
          <a:xfrm>
            <a:off x="2500200" y="2214720"/>
            <a:ext cx="6091200" cy="40384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  <p:sndAc>
      <p:stSnd>
        <p:snd r:embed="rId2" name="wind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6633"/>
                </a:solidFill>
                <a:latin typeface="Arial"/>
              </a:rPr>
              <a:t>Презентация к урокам по истокам в 5 классе на тему «Крестьянские хоромы»: можно использовать на первых двух уроках из четырех по данной теме.</a:t>
            </a:r>
            <a:endParaRPr b="0" lang="en-US" sz="1800" spc="-1" strike="noStrike">
              <a:solidFill>
                <a:srgbClr val="666633"/>
              </a:solidFill>
              <a:latin typeface="Arial"/>
            </a:endParaRPr>
          </a:p>
        </p:txBody>
      </p:sp>
    </p:spTree>
  </p:cSld>
  <p:transition spd="med">
    <p:comb dir="horz"/>
    <p:sndAc>
      <p:stSnd>
        <p:snd r:embed="rId1" name="wind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6633"/>
                </a:solidFill>
                <a:latin typeface="Arial"/>
              </a:rPr>
              <a:t>СОСТАВ КРЕСТЬЯНСКИХ ХОРОМ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ба (жилая ча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ворки, двор (хоз. помещен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ни (помещение перед входом в изб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клет (холодное помещение для хранения продукт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лев (помещение для ско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еть (помещение для хранения хоз. принадлежносте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новал ( помещение для хранения се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имовка (помещение, в котором жили в холодное время год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  <p:sndAc>
      <p:stSnd>
        <p:snd r:embed="rId1" name="wind.wav"/>
      </p:stSnd>
    </p:sndAc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6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6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6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6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6633"/>
                </a:solidFill>
                <a:latin typeface="Arial"/>
              </a:rPr>
              <a:t>Дом Терентьева, 19 век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pic>
        <p:nvPicPr>
          <p:cNvPr id="100" name="Picture 6" descr="дом терентьева 19в карелия"/>
          <p:cNvPicPr/>
          <p:nvPr/>
        </p:nvPicPr>
        <p:blipFill>
          <a:blip r:embed="rId1"/>
          <a:stretch/>
        </p:blipFill>
        <p:spPr>
          <a:xfrm>
            <a:off x="1476360" y="1700280"/>
            <a:ext cx="6264360" cy="424800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  <p:sndAc>
      <p:stSnd>
        <p:snd r:embed="rId2" name="wind.wav"/>
      </p:stSnd>
    </p:sndAc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6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6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6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33"/>
                </a:solidFill>
                <a:latin typeface="Arial"/>
              </a:rPr>
              <a:t>Изба в нижегородской губернии, 19 век.</a:t>
            </a:r>
            <a:endParaRPr b="0" lang="en-US" sz="3200" spc="-1" strike="noStrike">
              <a:solidFill>
                <a:srgbClr val="666633"/>
              </a:solidFill>
              <a:latin typeface="Arial"/>
            </a:endParaRPr>
          </a:p>
        </p:txBody>
      </p:sp>
      <p:pic>
        <p:nvPicPr>
          <p:cNvPr id="102" name="Picture 4" descr="ниж новгород изба19"/>
          <p:cNvPicPr/>
          <p:nvPr/>
        </p:nvPicPr>
        <p:blipFill>
          <a:blip r:embed="rId1"/>
          <a:stretch/>
        </p:blipFill>
        <p:spPr>
          <a:xfrm>
            <a:off x="2268360" y="1700280"/>
            <a:ext cx="4248360" cy="44654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  <p:sndAc>
      <p:stSnd>
        <p:snd r:embed="rId2" name="wind.wav"/>
      </p:stSnd>
    </p:sndAc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6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6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6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6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33"/>
                </a:solidFill>
                <a:latin typeface="Arial"/>
              </a:rPr>
              <a:t>Сарай и дом, 19 век</a:t>
            </a:r>
            <a:endParaRPr b="0" lang="en-US" sz="3600" spc="-1" strike="noStrike">
              <a:solidFill>
                <a:srgbClr val="666633"/>
              </a:solidFill>
              <a:latin typeface="Arial"/>
            </a:endParaRPr>
          </a:p>
        </p:txBody>
      </p:sp>
      <p:pic>
        <p:nvPicPr>
          <p:cNvPr id="104" name="Picture 4" descr="сарай и дом 19век"/>
          <p:cNvPicPr/>
          <p:nvPr/>
        </p:nvPicPr>
        <p:blipFill>
          <a:blip r:embed="rId1"/>
          <a:stretch/>
        </p:blipFill>
        <p:spPr>
          <a:xfrm>
            <a:off x="611280" y="1484280"/>
            <a:ext cx="7704000" cy="47530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  <p:sndAc>
      <p:stSnd>
        <p:snd r:embed="rId2" name="wind.wav"/>
      </p:stSnd>
    </p:sndAc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8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6633"/>
                </a:solidFill>
                <a:latin typeface="Arial"/>
              </a:rPr>
              <a:t>Погодинская изба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pic>
        <p:nvPicPr>
          <p:cNvPr id="106" name="Picture 4" descr="погодинская изба"/>
          <p:cNvPicPr/>
          <p:nvPr/>
        </p:nvPicPr>
        <p:blipFill>
          <a:blip r:embed="rId1"/>
          <a:stretch/>
        </p:blipFill>
        <p:spPr>
          <a:xfrm>
            <a:off x="2050920" y="1628640"/>
            <a:ext cx="5113440" cy="45370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  <p:sndAc>
      <p:stSnd>
        <p:snd r:embed="rId2" name="wind.wav"/>
      </p:stSnd>
    </p:sndAc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6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6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6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6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33"/>
                </a:solidFill>
                <a:latin typeface="Arial"/>
              </a:rPr>
              <a:t>Из чего и как строили хоромы</a:t>
            </a:r>
            <a:endParaRPr b="0" lang="en-US" sz="32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териал – дерево (ель, сосна, дуб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готавливали лес зи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отники собирали сру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сушка 1-2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опатили (мох, лен, пакл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 угол – символический предм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деньги, шерсть, лада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  <p:sndAc>
      <p:stSnd>
        <p:snd r:embed="rId1" name="wind.wav"/>
      </p:stSnd>
    </p:sndAc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6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6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6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6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6633"/>
                </a:solidFill>
                <a:latin typeface="Arial"/>
              </a:rPr>
              <a:t>Красота крестьянского дома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асад: окна, наличники, став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ьки кры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зоры и причелины (украшенные резьбой доск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и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ым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 всем было чувство ме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  <p:sndAc>
      <p:stSnd>
        <p:snd r:embed="rId1" name="wind.wav"/>
      </p:stSnd>
    </p:sndAc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6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6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6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6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4T17:05:29Z</dcterms:created>
  <dc:creator>1</dc:creator>
  <dc:description/>
  <dc:language>en-US</dc:language>
  <cp:lastModifiedBy>Кабинет337</cp:lastModifiedBy>
  <dcterms:modified xsi:type="dcterms:W3CDTF">2013-02-16T08:58:32Z</dcterms:modified>
  <cp:revision>9</cp:revision>
  <dc:subject/>
  <dc:title>КРЕСТЬЯНСКИЕ ХОРОМЫ, РУССКАЯ ИЗБА ИСТОКИ 5 КЛАСС</dc:title>
</cp:coreProperties>
</file>