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F1F7-7C9D-4674-A974-EFB8477D6B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и к слайд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бюджетное дошкольное учреждение детский сад №55 комбинированного вида Колпинского района Санкт – Петербурга  Тема презентации : «Символы  России в художественном творчестве детей». Подготовила  воспитатель высшей кв. категории Майзерова В.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0BFD-0A14-4FC3-981A-45B1A0EE3D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кораблик зол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кораблик над Нев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куда плывешь корабли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нем небе надо м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лубых волнах пар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леске солнечном гор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летишь по небосклон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росая як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рко смотришь,как в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родной моей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орям и океа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лывают кораб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встречу новым дн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ишь путь по облак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ты Адмиралт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ь указывая на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1E8E-BF9D-447F-A1DB-4867CD0B96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ны интегративные качества такие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знательный, активный- дети постоянно интересуются новыми знаниями о своем городе, стране в которой жи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 отзывчивый- эмоционально откликаются на произведения изобразительного искусства, музыкальные и художественные произведения о Род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й первичные представления о себе. семье, государстве- знают и ценят традиции русского на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0995-3839-4357-901D-1DE6EA87A5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87BB-538A-493C-91DA-EDA818BBD2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1. Познакомить детей с основными  неофициальными символами РФ. 2. Воспитывать любовь и уважение к Родине, ее истории и культуре. 3. Воспитывать интерес к русскому народному творчеству, декоративно-прикладному искусству. 4. Развивать Творческие способности детей, воображение. Развивать речь, внимание, память; воспитывать чувство гордости и уважения к Государственной символике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0E49-6731-4CBB-974C-A0CB6AA88D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Российская символика. Есть слово «герб». Есть слово «флаг». Их знает с детства каждый. А «символ»? Символ – это знак, условный знак, но важный. И герб, и флаг стране нужны. Пусть их запомнит всякий: ведь – это символы страны. Ее отличья знаки! Не ради денег или благ, не ради изобилия они даются –герб и флаг, как имя и фам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0C2C-89DF-4207-B27C-8C9BD9B604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любимый край Россия, где в озерах синева, где березки молодые нарядились в круж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людей символом России является белоствольная березка, потому что таких березовых рощ нет больше нигде в мире. Недаром этому дереву многие русские поэты посвящ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E90F-8D72-4CF4-BC87-B4081E66B7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им символом России является цветок. Отгадайте какой? Стоит в лесу кудряшка- белая рубашка, сердечко золотое. Что это такое?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2047-20A3-4619-A796-8D4E068017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ышко ясное. нарядись.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ышко красное, покажис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ри нам красный день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окофь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ревле повелось, что орел- солнечная птица, помощник самого Царя-Солнца. Поэтому очень часто на Руси орлов вышивали золотой нитью. И крылья орлов вышивали так, чтобы походили они на солнечные лу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EBE3-2C7B-4B84-BE00-4AC27A847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решка, наверное, самая популярная русская национальная игрушка. В нее играют дети в разных уголках  нашей планеты. А о самой матрешке написано много стихов, загадок, часту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 кукол деревянных в разноцветных сарафанах на столе у нас живут- всех матрешками зов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ли матрешки по дорожке. Было их совсем немножко: Две Матрешки, три Матрешки и одна Матреше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ли матрешки по дорож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4E49-9C07-47E7-A26E-91CBBE65AB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кольчик, колокольный звон, Царь-коло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кольчик голу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лонился нам с т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кольчики ц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ежлив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D2E-7F55-4950-9541-EE83504EF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D4B0-4F72-4609-8DFD-FFD90A81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D6D-8053-4D3A-8595-B61FBEC4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5E83-E3E3-4733-A467-68E4FAD2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799-EB9D-49EC-B480-531A4575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8E9-0ACE-42A4-A7D4-D025FC7F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2DA-6281-4489-9722-22114ED2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6D9-8FDF-412E-910D-007363CE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850-D50C-41AB-B6C4-8EF7EBE9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F29-EE4F-46E4-BCBC-FBB69DA8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1D0-9099-463C-97FA-E0A8330B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232-71B2-4F19-8ACA-97FC333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D8C7-78E1-488A-A9F3-920D80A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97B-28B6-408B-A577-C1201A912F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осударствен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детский сад № 55 комбинированного ви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лпинского района  Санкт-Петербур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3880" y="3643200"/>
            <a:ext cx="78584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ы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художественном творчестве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 высшей кв. 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йзерова В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анкт-Петербург, 2013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Admin\Мои документы\Мои рисунки\iрисунок.jpg"/>
          <p:cNvPicPr/>
          <p:nvPr/>
        </p:nvPicPr>
        <p:blipFill>
          <a:blip r:embed="rId2"/>
          <a:stretch/>
        </p:blipFill>
        <p:spPr>
          <a:xfrm>
            <a:off x="3429000" y="1785960"/>
            <a:ext cx="2143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анкт-Петербур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71880" y="1714320"/>
            <a:ext cx="32860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ш кораблик над Невой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ы куда плывешь кораблик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синем небе надо мной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голубых волнах пар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блеске солнечном гор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ы летишь по небосклону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 бросая якор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орко смотришь, как вда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 родной моей зем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морям и океана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плывают корабл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И  навстречу новым дня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ржишь путь по облака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соты Адмиралтей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уть указывая нам!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.Гол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K:\детские работы\IMG_2123.jpg"/>
          <p:cNvPicPr/>
          <p:nvPr/>
        </p:nvPicPr>
        <p:blipFill>
          <a:blip r:embed="rId2"/>
          <a:stretch/>
        </p:blipFill>
        <p:spPr>
          <a:xfrm>
            <a:off x="571680" y="1714680"/>
            <a:ext cx="2286000" cy="2952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K:\детские работы\IMG_2129.jpg"/>
          <p:cNvPicPr/>
          <p:nvPr/>
        </p:nvPicPr>
        <p:blipFill>
          <a:blip r:embed="rId3"/>
          <a:stretch/>
        </p:blipFill>
        <p:spPr>
          <a:xfrm>
            <a:off x="6500880" y="3286080"/>
            <a:ext cx="22510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Санкт-Петербур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K:\детские работы\IMG_2138.jpg"/>
          <p:cNvPicPr/>
          <p:nvPr/>
        </p:nvPicPr>
        <p:blipFill>
          <a:blip r:embed="rId2"/>
          <a:stretch/>
        </p:blipFill>
        <p:spPr>
          <a:xfrm>
            <a:off x="3857760" y="1785960"/>
            <a:ext cx="1785960" cy="23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K:\детские работы\IMG_2112.jpg"/>
          <p:cNvPicPr/>
          <p:nvPr/>
        </p:nvPicPr>
        <p:blipFill>
          <a:blip r:embed="rId3"/>
          <a:stretch/>
        </p:blipFill>
        <p:spPr>
          <a:xfrm>
            <a:off x="6715080" y="1785960"/>
            <a:ext cx="1785960" cy="238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K:\детские работы\IMG_2134.jpg"/>
          <p:cNvPicPr/>
          <p:nvPr/>
        </p:nvPicPr>
        <p:blipFill>
          <a:blip r:embed="rId4"/>
          <a:stretch/>
        </p:blipFill>
        <p:spPr>
          <a:xfrm>
            <a:off x="3357720" y="4714920"/>
            <a:ext cx="2928960" cy="1857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K:\детские работы\IMG_2113.jpg"/>
          <p:cNvPicPr/>
          <p:nvPr/>
        </p:nvPicPr>
        <p:blipFill>
          <a:blip r:embed="rId5"/>
          <a:stretch/>
        </p:blipFill>
        <p:spPr>
          <a:xfrm>
            <a:off x="785880" y="1785960"/>
            <a:ext cx="1768320" cy="23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K:\детские работы\IMG_2125.jpg"/>
          <p:cNvPicPr/>
          <p:nvPr/>
        </p:nvPicPr>
        <p:blipFill>
          <a:blip r:embed="rId6"/>
          <a:stretch/>
        </p:blipFill>
        <p:spPr>
          <a:xfrm>
            <a:off x="785880" y="4357800"/>
            <a:ext cx="1698480" cy="226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K:\детские работы\IMG_2117.jpg"/>
          <p:cNvPicPr/>
          <p:nvPr/>
        </p:nvPicPr>
        <p:blipFill>
          <a:blip r:embed="rId7"/>
          <a:stretch/>
        </p:blipFill>
        <p:spPr>
          <a:xfrm>
            <a:off x="6858000" y="4357800"/>
            <a:ext cx="16606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814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зульта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0040" y="185724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формированы интегративные качества такие как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юбознательный, активный - дети постоя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есуются новыми  знаниями о своем городе, ст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которой живу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моционально отзывчивый - эмоциона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ликаются на произведения изобразитель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кусства,  музыкальные и художестве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ведения о Ро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меющий первичные представления о себе, семь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е - знают и ценят традиции русского нар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Documents and Settings\Admin\Мои документы\Мои рисунки\iрисунок.jpg"/>
          <p:cNvPicPr/>
          <p:nvPr/>
        </p:nvPicPr>
        <p:blipFill>
          <a:blip r:embed="rId2"/>
          <a:stretch/>
        </p:blipFill>
        <p:spPr>
          <a:xfrm>
            <a:off x="714240" y="714240"/>
            <a:ext cx="128592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172600" y="4429080"/>
            <a:ext cx="51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Documents and Settings\Admin\Мои документы\Мои рисунки\iрисунок.jpg"/>
          <p:cNvPicPr/>
          <p:nvPr/>
        </p:nvPicPr>
        <p:blipFill>
          <a:blip r:embed="rId2"/>
          <a:stretch/>
        </p:blipFill>
        <p:spPr>
          <a:xfrm>
            <a:off x="3071880" y="1643040"/>
            <a:ext cx="28591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2331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накомить детей с основными неофициальными символами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ывать любовь и уважение к Родине, ее  истории и культу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ывать интерес к русскому народному творчеству, декоративно – прикладному искусств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ть творческие способности детей, воображ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вать речь, внимание, память; воспитывать чувство гордости и уважения к Государственной символике РФ.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Documents and Settings\Admin\Мои документы\Мои рисунки\iрисунок.jpg"/>
          <p:cNvPicPr/>
          <p:nvPr/>
        </p:nvPicPr>
        <p:blipFill>
          <a:blip r:embed="rId2"/>
          <a:stretch/>
        </p:blipFill>
        <p:spPr>
          <a:xfrm>
            <a:off x="571680" y="642960"/>
            <a:ext cx="1285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оссийская символ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35684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ть слово «герб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ть слово «флаг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х знает с детства кажд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«символ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мвол - это зна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ный знак, но важн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герб, и флаг стране нуж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их запомнит всякий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едь это – символы стра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е отличья знак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ради денег или благ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ради изобил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и даются – герб и флаг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имя и фамил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D:\IMG_2172.jpg"/>
          <p:cNvPicPr/>
          <p:nvPr/>
        </p:nvPicPr>
        <p:blipFill>
          <a:blip r:embed="rId2"/>
          <a:stretch/>
        </p:blipFill>
        <p:spPr>
          <a:xfrm>
            <a:off x="457200" y="2347920"/>
            <a:ext cx="368604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71840" y="1571400"/>
            <a:ext cx="40003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ш любимый край Росс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 в озерах синев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де березки молодые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ядились в круж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:\детские работы\IMG_2107.jpg"/>
          <p:cNvPicPr/>
          <p:nvPr/>
        </p:nvPicPr>
        <p:blipFill>
          <a:blip r:embed="rId2"/>
          <a:stretch/>
        </p:blipFill>
        <p:spPr>
          <a:xfrm>
            <a:off x="785880" y="4071960"/>
            <a:ext cx="1677960" cy="223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K:\детские работы\IMG_2106.jpg"/>
          <p:cNvPicPr/>
          <p:nvPr/>
        </p:nvPicPr>
        <p:blipFill>
          <a:blip r:embed="rId3"/>
          <a:stretch/>
        </p:blipFill>
        <p:spPr>
          <a:xfrm>
            <a:off x="6643800" y="400068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Documents and Settings\Admin\Мои документы\Мои рисунки\iберезка.jpg"/>
          <p:cNvPicPr/>
          <p:nvPr/>
        </p:nvPicPr>
        <p:blipFill>
          <a:blip r:embed="rId4"/>
          <a:stretch/>
        </p:blipFill>
        <p:spPr>
          <a:xfrm>
            <a:off x="3714840" y="4071960"/>
            <a:ext cx="17413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2642760"/>
            <a:ext cx="40384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оит в лесу кудряш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елая рубаш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рдечко золот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это такое?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ромашк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:\Documents and Settings\Admin\Мои документы\Мои рисунки\ромашка 2.jpg"/>
          <p:cNvPicPr/>
          <p:nvPr/>
        </p:nvPicPr>
        <p:blipFill>
          <a:blip r:embed="rId2"/>
          <a:stretch/>
        </p:blipFill>
        <p:spPr>
          <a:xfrm>
            <a:off x="5746680" y="1857240"/>
            <a:ext cx="276696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5786280" y="4286160"/>
            <a:ext cx="27864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D:\IMG_2180.jpg"/>
          <p:cNvPicPr/>
          <p:nvPr/>
        </p:nvPicPr>
        <p:blipFill>
          <a:blip r:embed="rId2"/>
          <a:stretch/>
        </p:blipFill>
        <p:spPr>
          <a:xfrm>
            <a:off x="428760" y="1571760"/>
            <a:ext cx="3000240" cy="239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D:\IMG_2163.JPG"/>
          <p:cNvPicPr/>
          <p:nvPr/>
        </p:nvPicPr>
        <p:blipFill>
          <a:blip r:embed="rId3"/>
          <a:stretch/>
        </p:blipFill>
        <p:spPr>
          <a:xfrm>
            <a:off x="5715000" y="407196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6"/>
          <p:cNvSpPr/>
          <p:nvPr/>
        </p:nvSpPr>
        <p:spPr>
          <a:xfrm>
            <a:off x="4214880" y="150012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лнышко ясное. нарядись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лнышко красное, покаж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ари нам красный ден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. Прокофь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7"/>
          <p:cNvSpPr/>
          <p:nvPr/>
        </p:nvSpPr>
        <p:spPr>
          <a:xfrm>
            <a:off x="428760" y="435780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ел - солнечная птица, помощник самого солнца. Поэтому очень часто на Руси орлов вышивали золотой ни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ли матрешки по дорож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ыло их совсем немножк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е Матреш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и Матреш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одна Матрешеч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емь кукол деревя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разноцветных сарафан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столе у нас живу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ех матрешками зов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D:\IMG_2179.jpg"/>
          <p:cNvPicPr/>
          <p:nvPr/>
        </p:nvPicPr>
        <p:blipFill>
          <a:blip r:embed="rId2"/>
          <a:stretch/>
        </p:blipFill>
        <p:spPr>
          <a:xfrm>
            <a:off x="642960" y="1500120"/>
            <a:ext cx="3186000" cy="2389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D:\images.jpg"/>
          <p:cNvPicPr/>
          <p:nvPr/>
        </p:nvPicPr>
        <p:blipFill>
          <a:blip r:embed="rId3"/>
          <a:stretch/>
        </p:blipFill>
        <p:spPr>
          <a:xfrm>
            <a:off x="5143680" y="4286160"/>
            <a:ext cx="3385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K:\детские работы\IMG_2110.jpg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D:\P1000739.JPG"/>
          <p:cNvPicPr/>
          <p:nvPr/>
        </p:nvPicPr>
        <p:blipFill>
          <a:blip r:embed="rId3"/>
          <a:stretch/>
        </p:blipFill>
        <p:spPr>
          <a:xfrm>
            <a:off x="5214960" y="178596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7"/>
          <p:cNvSpPr/>
          <p:nvPr/>
        </p:nvSpPr>
        <p:spPr>
          <a:xfrm>
            <a:off x="571680" y="4572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окольчик голу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клонился нам с т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окольчики цв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чень вежлив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официальные символы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K:\детские работы\IMG_2147.jpg"/>
          <p:cNvPicPr/>
          <p:nvPr/>
        </p:nvPicPr>
        <p:blipFill>
          <a:blip r:embed="rId2"/>
          <a:stretch/>
        </p:blipFill>
        <p:spPr>
          <a:xfrm>
            <a:off x="1214280" y="4286160"/>
            <a:ext cx="2786400" cy="2089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K:\детские работы\IMG_2151.jpg"/>
          <p:cNvPicPr/>
          <p:nvPr/>
        </p:nvPicPr>
        <p:blipFill>
          <a:blip r:embed="rId3"/>
          <a:stretch/>
        </p:blipFill>
        <p:spPr>
          <a:xfrm>
            <a:off x="5072040" y="42861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K:\детские работы\IMG_2145.jpg"/>
          <p:cNvPicPr/>
          <p:nvPr/>
        </p:nvPicPr>
        <p:blipFill>
          <a:blip r:embed="rId4"/>
          <a:stretch/>
        </p:blipFill>
        <p:spPr>
          <a:xfrm>
            <a:off x="3786120" y="2143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K:\детские работы\IMG_2152.jpg"/>
          <p:cNvPicPr/>
          <p:nvPr/>
        </p:nvPicPr>
        <p:blipFill>
          <a:blip r:embed="rId5"/>
          <a:stretch/>
        </p:blipFill>
        <p:spPr>
          <a:xfrm>
            <a:off x="785880" y="171468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K:\детские работы\IMG_2153.jpg"/>
          <p:cNvPicPr/>
          <p:nvPr/>
        </p:nvPicPr>
        <p:blipFill>
          <a:blip r:embed="rId6"/>
          <a:stretch/>
        </p:blipFill>
        <p:spPr>
          <a:xfrm>
            <a:off x="6786720" y="1571760"/>
            <a:ext cx="16891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13:44:57Z</dcterms:created>
  <dc:creator>Admin</dc:creator>
  <dc:description/>
  <dc:language>en-US</dc:language>
  <cp:lastModifiedBy>Ксения</cp:lastModifiedBy>
  <dcterms:modified xsi:type="dcterms:W3CDTF">2013-06-06T09:51:58Z</dcterms:modified>
  <cp:revision>70</cp:revision>
  <dc:subject/>
  <dc:title>Государственное бюджетное дошкольное образовательное учреждение  детский сад № 55 комбинированного вида  Колпинского района  Санкт-Петербурга</dc:title>
</cp:coreProperties>
</file>