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2DCC-CA80-4F39-9274-D1FA3CCDED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писи к слайд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бюджетное дошкольное учреждение детский сад №55 комбинированного вида Колпинского района Санкт – Петербурга  Тема презентации : «Символы  России в художественном творчестве детей». Подготовила  воспитатель высшей кв. категории Майзерова В.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3BA5-B2C6-4F73-AF8C-994DD97088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 кораблик золото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 кораблик над Нево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куда плывешь корабли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нем небе надо м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олубых волнах пар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леске солнечном гор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летишь по небосклон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бросая яко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рко смотришь,как в д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родной моей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орям и океан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лывают корабл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а встречу новым дн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жишь путь по облака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ысоты Адмиралте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ь указывая на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D699-DD94-4EE9-B3DC-7702242F3F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ированы интегративные качества такие к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знательный, активный- дети постоянно интересуются новыми знаниями о своем городе, стране в которой жив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о отзывчивый- эмоционально откликаются на произведения изобразительного искусства, музыкальные и художественные произведения о Род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щий первичные представления о себе. семье, государстве- знают и ценят традиции русского на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070B-5BBD-4335-8176-E511049CBA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29D8-34B6-417C-A6A4-1EFCEDD8F9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1. Познакомить детей с основными  неофициальными символами РФ. 2. Воспитывать любовь и уважение к Родине, ее истории и культуре. 3. Воспитывать интерес к русскому народному творчеству, декоративно-прикладному искусству. 4. Развивать Творческие способности детей, воображение. Развивать речь, внимание, память; воспитывать чувство гордости и уважения к Государственной символике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199E-745B-467C-AC8C-054EB4E022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Российская символика. Есть слово «герб». Есть слово «флаг». Их знает с детства каждый. А «символ»? Символ – это знак, условный знак, но важный. И герб, и флаг стране нужны. Пусть их запомнит всякий: ведь – это символы страны. Ее отличья знаки! Не ради денег или благ, не ради изобилия они даются –герб и флаг, как имя и фами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A51D-556F-4E18-A9BC-6649C2A045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 любимый край Россия, где в озерах синева, где березки молодые нарядились в круж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ногих людей символом России является белоствольная березка, потому что таких березовых рощ нет больше нигде в мире. Недаром этому дереву многие русские поэты посвящали сти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3A84-C462-4B47-9E39-7750FF91B1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одним символом России является цветок. Отгадайте какой? Стоит в лесу кудряшка- белая рубашка, сердечко золотое. Что это такое?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AB3D-8CF4-4BE9-ACCC-E222C173F2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ышко ясное. нарядись.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ышко красное, покажис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ари нам красный день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Прокофь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ревле повелось, что орел- солнечная птица, помощник самого Царя-Солнца. Поэтому очень часто на Руси орлов вышивали золотой нитью. И крылья орлов вышивали так, чтобы походили они на солнечные лу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290D-3BA4-41D4-932C-6871A7A464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решка, наверное, самая популярная русская национальная игрушка. В нее играют дети в разных уголках  нашей планеты. А о самой матрешке написано много стихов, загадок, частуш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емь кукол деревянных в разноцветных сарафанах на столе у нас живут- всех матрешками зов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ли матрешки по дорожке. Было их совсем немножко: Две Матрешки, три Матрешки и одна Матрешеч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ли матрешки по дорож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8115-A8C6-48F5-B12E-4D6CAE8C2A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кольчик, колокольный звон, Царь-колок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кольчик голу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лонился нам с то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кольчики цв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вежлив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A245-9C24-4350-83FC-37819CAFF5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E7F5-EC90-4B95-8B6F-30F43B97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ABB1-E48C-4C4A-B95D-4A8A7342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01A5-FCAD-41BD-9EAF-8204181B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DE78-EC41-452D-9E6B-00BE8AC0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630F-CC62-43A9-893D-0BCFBD43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93F7-D334-4F2E-BD54-399A6649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910D-EBCA-47F7-ABAA-EC0E5802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8DBF-FB9F-4D2E-823E-CC2798C7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8E4D-FFE7-4CFC-87FB-6524BEAE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2030-9528-4A58-9B11-6CB9899B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579E-57A7-41E4-8009-28BFBB72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546F-EF92-4C5C-99CD-F8E9AA19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3E64-E653-44A0-99ED-F715CDD4ED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осударственное бюджетное дошкольное образовательное учреждение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детский сад № 55 комбинированного вид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лпинского района  Санкт-Петербур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3880" y="3643200"/>
            <a:ext cx="785844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имволы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художественном творчестве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дготови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спитатель высшей кв. категор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айзерова В.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анкт-Петербург, 2013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Documents and Settings\Admin\Мои документы\Мои рисунки\iрисунок.jpg"/>
          <p:cNvPicPr/>
          <p:nvPr/>
        </p:nvPicPr>
        <p:blipFill>
          <a:blip r:embed="rId2"/>
          <a:stretch/>
        </p:blipFill>
        <p:spPr>
          <a:xfrm>
            <a:off x="3429000" y="1785960"/>
            <a:ext cx="214308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официальные символ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Санкт-Петербур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071880" y="1714320"/>
            <a:ext cx="32860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ш кораблик над Невой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ы куда плывешь кораблик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синем небе надо мной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голубых волнах паря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блеске солнечном горя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ы летишь по небосклону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е бросая якор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орко смотришь, как вдал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т родной моей земл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 морям и океанам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плывают корабли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  навстречу новым дня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ржишь путь по облакам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высоты Адмиралтей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уть указывая нам!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.Гол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K:\детские работы\IMG_2123.jpg"/>
          <p:cNvPicPr/>
          <p:nvPr/>
        </p:nvPicPr>
        <p:blipFill>
          <a:blip r:embed="rId2"/>
          <a:stretch/>
        </p:blipFill>
        <p:spPr>
          <a:xfrm>
            <a:off x="571680" y="1714680"/>
            <a:ext cx="2286000" cy="2952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K:\детские работы\IMG_2129.jpg"/>
          <p:cNvPicPr/>
          <p:nvPr/>
        </p:nvPicPr>
        <p:blipFill>
          <a:blip r:embed="rId3"/>
          <a:stretch/>
        </p:blipFill>
        <p:spPr>
          <a:xfrm>
            <a:off x="6500880" y="3286080"/>
            <a:ext cx="22510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официальные символ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Санкт-Петербур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K:\детские работы\IMG_2138.jpg"/>
          <p:cNvPicPr/>
          <p:nvPr/>
        </p:nvPicPr>
        <p:blipFill>
          <a:blip r:embed="rId2"/>
          <a:stretch/>
        </p:blipFill>
        <p:spPr>
          <a:xfrm>
            <a:off x="3857760" y="1785960"/>
            <a:ext cx="1785960" cy="2381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K:\детские работы\IMG_2112.jpg"/>
          <p:cNvPicPr/>
          <p:nvPr/>
        </p:nvPicPr>
        <p:blipFill>
          <a:blip r:embed="rId3"/>
          <a:stretch/>
        </p:blipFill>
        <p:spPr>
          <a:xfrm>
            <a:off x="6715080" y="1785960"/>
            <a:ext cx="1785960" cy="2381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K:\детские работы\IMG_2134.jpg"/>
          <p:cNvPicPr/>
          <p:nvPr/>
        </p:nvPicPr>
        <p:blipFill>
          <a:blip r:embed="rId4"/>
          <a:stretch/>
        </p:blipFill>
        <p:spPr>
          <a:xfrm>
            <a:off x="3357720" y="4714920"/>
            <a:ext cx="2928960" cy="1857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K:\детские работы\IMG_2113.jpg"/>
          <p:cNvPicPr/>
          <p:nvPr/>
        </p:nvPicPr>
        <p:blipFill>
          <a:blip r:embed="rId5"/>
          <a:stretch/>
        </p:blipFill>
        <p:spPr>
          <a:xfrm>
            <a:off x="785880" y="1785960"/>
            <a:ext cx="1768320" cy="2357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K:\детские работы\IMG_2125.jpg"/>
          <p:cNvPicPr/>
          <p:nvPr/>
        </p:nvPicPr>
        <p:blipFill>
          <a:blip r:embed="rId6"/>
          <a:stretch/>
        </p:blipFill>
        <p:spPr>
          <a:xfrm>
            <a:off x="785880" y="4357800"/>
            <a:ext cx="1698480" cy="2265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K:\детские работы\IMG_2117.jpg"/>
          <p:cNvPicPr/>
          <p:nvPr/>
        </p:nvPicPr>
        <p:blipFill>
          <a:blip r:embed="rId7"/>
          <a:stretch/>
        </p:blipFill>
        <p:spPr>
          <a:xfrm>
            <a:off x="6858000" y="4357800"/>
            <a:ext cx="16606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143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зульта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00040" y="1857240"/>
            <a:ext cx="814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формированы интегративные качества такие как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юбознательный, активный - дети постоян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тересуются новыми  знаниями о своем городе, ст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которой живу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моционально отзывчивый - эмоциональ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кликаются на произведения изобразительн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кусства,  музыкальные и художествен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изведения о Род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меющий первичные представления о себе, семь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сударстве - знают и ценят традиции русского нар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C:\Documents and Settings\Admin\Мои документы\Мои рисунки\iрисунок.jpg"/>
          <p:cNvPicPr/>
          <p:nvPr/>
        </p:nvPicPr>
        <p:blipFill>
          <a:blip r:embed="rId2"/>
          <a:stretch/>
        </p:blipFill>
        <p:spPr>
          <a:xfrm>
            <a:off x="714240" y="714240"/>
            <a:ext cx="128592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2172600" y="4429080"/>
            <a:ext cx="510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C:\Documents and Settings\Admin\Мои документы\Мои рисунки\iрисунок.jpg"/>
          <p:cNvPicPr/>
          <p:nvPr/>
        </p:nvPicPr>
        <p:blipFill>
          <a:blip r:embed="rId2"/>
          <a:stretch/>
        </p:blipFill>
        <p:spPr>
          <a:xfrm>
            <a:off x="3071880" y="1643040"/>
            <a:ext cx="28591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8760" y="233172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знакомить детей с основными неофициальными символами РФ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спитывать любовь и уважение к Родине, ее  истории и культур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спитывать интерес к русскому народному творчеству, декоративно – прикладному искусств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вивать творческие способности детей, воображ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вивать речь, внимание, память; воспитывать чувство гордости и уважения к Государственной символике РФ.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C:\Documents and Settings\Admin\Мои документы\Мои рисунки\iрисунок.jpg"/>
          <p:cNvPicPr/>
          <p:nvPr/>
        </p:nvPicPr>
        <p:blipFill>
          <a:blip r:embed="rId2"/>
          <a:stretch/>
        </p:blipFill>
        <p:spPr>
          <a:xfrm>
            <a:off x="571680" y="642960"/>
            <a:ext cx="1285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оссийская символ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356840"/>
            <a:ext cx="40384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сть слово «герб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сть слово «флаг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х знает с детства кажд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«символ»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мвол - это зна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словный знак, но важн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герб, и флаг стране нуж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усть их запомнит всякий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едь это – символы стра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е отличья знак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 ради денег или благ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 ради изобил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ни даются – герб и флаг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имя и фамил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D:\IMG_2172.jpg"/>
          <p:cNvPicPr/>
          <p:nvPr/>
        </p:nvPicPr>
        <p:blipFill>
          <a:blip r:embed="rId2"/>
          <a:stretch/>
        </p:blipFill>
        <p:spPr>
          <a:xfrm>
            <a:off x="457200" y="2347920"/>
            <a:ext cx="368604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официальные символы Росс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71840" y="1571400"/>
            <a:ext cx="400032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ш любимый край Росси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де в озерах синев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де березки молодые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рядились в круже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K:\детские работы\IMG_2107.jpg"/>
          <p:cNvPicPr/>
          <p:nvPr/>
        </p:nvPicPr>
        <p:blipFill>
          <a:blip r:embed="rId2"/>
          <a:stretch/>
        </p:blipFill>
        <p:spPr>
          <a:xfrm>
            <a:off x="785880" y="4071960"/>
            <a:ext cx="1677960" cy="2238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K:\детские работы\IMG_2106.jpg"/>
          <p:cNvPicPr/>
          <p:nvPr/>
        </p:nvPicPr>
        <p:blipFill>
          <a:blip r:embed="rId3"/>
          <a:stretch/>
        </p:blipFill>
        <p:spPr>
          <a:xfrm>
            <a:off x="6643800" y="4000680"/>
            <a:ext cx="171432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C:\Documents and Settings\Admin\Мои документы\Мои рисунки\iберезка.jpg"/>
          <p:cNvPicPr/>
          <p:nvPr/>
        </p:nvPicPr>
        <p:blipFill>
          <a:blip r:embed="rId4"/>
          <a:stretch/>
        </p:blipFill>
        <p:spPr>
          <a:xfrm>
            <a:off x="3714840" y="4071960"/>
            <a:ext cx="17413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официальные символы Росс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143000" y="2642760"/>
            <a:ext cx="40384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оит в лесу кудряш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лая рубашк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ердечко золот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это такое?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ромашка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C:\Documents and Settings\Admin\Мои документы\Мои рисунки\ромашка 2.jpg"/>
          <p:cNvPicPr/>
          <p:nvPr/>
        </p:nvPicPr>
        <p:blipFill>
          <a:blip r:embed="rId2"/>
          <a:stretch/>
        </p:blipFill>
        <p:spPr>
          <a:xfrm>
            <a:off x="5746680" y="1857240"/>
            <a:ext cx="2766960" cy="2071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5786280" y="4286160"/>
            <a:ext cx="278640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официальные символы Росс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D:\IMG_2180.jpg"/>
          <p:cNvPicPr/>
          <p:nvPr/>
        </p:nvPicPr>
        <p:blipFill>
          <a:blip r:embed="rId2"/>
          <a:stretch/>
        </p:blipFill>
        <p:spPr>
          <a:xfrm>
            <a:off x="428760" y="1571760"/>
            <a:ext cx="3000240" cy="2395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D:\IMG_2163.JPG"/>
          <p:cNvPicPr/>
          <p:nvPr/>
        </p:nvPicPr>
        <p:blipFill>
          <a:blip r:embed="rId3"/>
          <a:stretch/>
        </p:blipFill>
        <p:spPr>
          <a:xfrm>
            <a:off x="5715000" y="407196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4214880" y="150012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лнышко ясное. нарядись.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лнышко красное, покажи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ари нам красный ден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. Прокофь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"/>
          <p:cNvSpPr/>
          <p:nvPr/>
        </p:nvSpPr>
        <p:spPr>
          <a:xfrm>
            <a:off x="428760" y="435780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ел - солнечная птица, помощник самого солнца. Поэтому очень часто на Руси орлов вышивали золотой нит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официальные символы Росс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0384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ли матрешки по дорож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ыло их совсем немножк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е Матреш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и Матреш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одна Матрешеч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1600200"/>
            <a:ext cx="40384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семь кукол деревян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разноцветных сарафан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столе у нас живут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ех матрешками зову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D:\IMG_2179.jpg"/>
          <p:cNvPicPr/>
          <p:nvPr/>
        </p:nvPicPr>
        <p:blipFill>
          <a:blip r:embed="rId2"/>
          <a:stretch/>
        </p:blipFill>
        <p:spPr>
          <a:xfrm>
            <a:off x="642960" y="1500120"/>
            <a:ext cx="3186000" cy="2389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D:\images.jpg"/>
          <p:cNvPicPr/>
          <p:nvPr/>
        </p:nvPicPr>
        <p:blipFill>
          <a:blip r:embed="rId3"/>
          <a:stretch/>
        </p:blipFill>
        <p:spPr>
          <a:xfrm>
            <a:off x="5143680" y="4286160"/>
            <a:ext cx="3385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официальные символы Росс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K:\детские работы\IMG_2110.jpg"/>
          <p:cNvPicPr/>
          <p:nvPr/>
        </p:nvPicPr>
        <p:blipFill>
          <a:blip r:embed="rId2"/>
          <a:stretch/>
        </p:blipFill>
        <p:spPr>
          <a:xfrm>
            <a:off x="642960" y="171468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D:\P1000739.JPG"/>
          <p:cNvPicPr/>
          <p:nvPr/>
        </p:nvPicPr>
        <p:blipFill>
          <a:blip r:embed="rId3"/>
          <a:stretch/>
        </p:blipFill>
        <p:spPr>
          <a:xfrm>
            <a:off x="5214960" y="178596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7"/>
          <p:cNvSpPr/>
          <p:nvPr/>
        </p:nvSpPr>
        <p:spPr>
          <a:xfrm>
            <a:off x="571680" y="4572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локольчик голу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клонился нам с т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локольчики ц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чень вежлив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официальные символы Росс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K:\детские работы\IMG_2147.jpg"/>
          <p:cNvPicPr/>
          <p:nvPr/>
        </p:nvPicPr>
        <p:blipFill>
          <a:blip r:embed="rId2"/>
          <a:stretch/>
        </p:blipFill>
        <p:spPr>
          <a:xfrm>
            <a:off x="1214280" y="4286160"/>
            <a:ext cx="2786400" cy="2089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K:\детские работы\IMG_2151.jpg"/>
          <p:cNvPicPr/>
          <p:nvPr/>
        </p:nvPicPr>
        <p:blipFill>
          <a:blip r:embed="rId3"/>
          <a:stretch/>
        </p:blipFill>
        <p:spPr>
          <a:xfrm>
            <a:off x="5072040" y="428616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K:\детские работы\IMG_2145.jpg"/>
          <p:cNvPicPr/>
          <p:nvPr/>
        </p:nvPicPr>
        <p:blipFill>
          <a:blip r:embed="rId4"/>
          <a:stretch/>
        </p:blipFill>
        <p:spPr>
          <a:xfrm>
            <a:off x="3786120" y="21430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K:\детские работы\IMG_2152.jpg"/>
          <p:cNvPicPr/>
          <p:nvPr/>
        </p:nvPicPr>
        <p:blipFill>
          <a:blip r:embed="rId5"/>
          <a:stretch/>
        </p:blipFill>
        <p:spPr>
          <a:xfrm>
            <a:off x="785880" y="1714680"/>
            <a:ext cx="1714320" cy="228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K:\детские работы\IMG_2153.jpg"/>
          <p:cNvPicPr/>
          <p:nvPr/>
        </p:nvPicPr>
        <p:blipFill>
          <a:blip r:embed="rId6"/>
          <a:stretch/>
        </p:blipFill>
        <p:spPr>
          <a:xfrm>
            <a:off x="6786720" y="1571760"/>
            <a:ext cx="168912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13:44:57Z</dcterms:created>
  <dc:creator>Admin</dc:creator>
  <dc:description/>
  <dc:language>en-US</dc:language>
  <cp:lastModifiedBy>Ксения</cp:lastModifiedBy>
  <dcterms:modified xsi:type="dcterms:W3CDTF">2013-06-06T09:51:58Z</dcterms:modified>
  <cp:revision>70</cp:revision>
  <dc:subject/>
  <dc:title>Государственное бюджетное дошкольное образовательное учреждение  детский сад № 55 комбинированного вида  Колпинского района  Санкт-Петербурга</dc:title>
</cp:coreProperties>
</file>