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116-04F3-4541-B0BA-90856DAC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244-98B2-457D-BECA-655DCA18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C5E-73AC-4581-BC30-7DA73D28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8BE-6A12-40C7-ACA9-426D4D4E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39D-5F71-448C-891E-50B40F74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246-8494-4DE0-A0E6-86DB8CE4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195-D71F-45CF-8845-69F0283A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EAA-4763-49FB-BFFF-CF09393F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4DD-A7EC-4584-8AFC-7E7DAD4B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0F8-25AF-47A3-BB6A-D337EC4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457-87E5-412E-BCCB-EC7D649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4CB-52B0-45A4-B25A-ED242F42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5255-4FF1-42D8-BDE0-916BAE362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565360"/>
            <a:ext cx="7345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5003640" y="0"/>
            <a:ext cx="4140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Monotype Corsiva"/>
              </a:rPr>
              <a:t>III </a:t>
            </a:r>
            <a:r>
              <a:rPr b="1" lang="ru-RU" sz="1800" spc="-1" strike="noStrike">
                <a:solidFill>
                  <a:srgbClr val="0000cc"/>
                </a:solidFill>
                <a:latin typeface="Monotype Corsiva"/>
              </a:rPr>
              <a:t>районная интерактивная музейная выставка из фондов музеев и музейных экспозиций ОУ Н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Monotype Corsiva"/>
              </a:rPr>
              <a:t>201</a:t>
            </a:r>
            <a:r>
              <a:rPr b="1" lang="en-US" sz="1800" spc="-1" strike="noStrike">
                <a:solidFill>
                  <a:srgbClr val="0000cc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cc"/>
                </a:solidFill>
                <a:latin typeface="Monotype Corsiva"/>
              </a:rPr>
              <a:t> – 201</a:t>
            </a:r>
            <a:r>
              <a:rPr b="1" lang="en-US" sz="1800" spc="-1" strike="noStrike">
                <a:solidFill>
                  <a:srgbClr val="0000cc"/>
                </a:solidFill>
                <a:latin typeface="Monotype Corsiva"/>
              </a:rPr>
              <a:t>3</a:t>
            </a:r>
            <a:r>
              <a:rPr b="1" lang="ru-RU" sz="1800" spc="-1" strike="noStrike">
                <a:solidFill>
                  <a:srgbClr val="0000cc"/>
                </a:solidFill>
                <a:latin typeface="Monotype Corsiva"/>
              </a:rPr>
              <a:t>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19640" y="1268280"/>
            <a:ext cx="3419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ейная антресоль :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219640" y="1916280"/>
            <a:ext cx="36752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вучат лишь письмен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3520" y="4210200"/>
            <a:ext cx="5640480" cy="2647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285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79280" y="299736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1150-летию зарождения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0" y="4984920"/>
            <a:ext cx="38876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Экспонат представ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Песенко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Руководители: Иванова В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Цыбулько Т.А</a:t>
            </a:r>
            <a:r>
              <a:rPr b="1" lang="ru-RU" sz="18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6000" y="3573360"/>
            <a:ext cx="734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авянской письменности и культур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1989000"/>
            <a:ext cx="2556000" cy="2448000"/>
            <a:chOff x="0" y="1989000"/>
            <a:chExt cx="2556000" cy="2448000"/>
          </a:xfrm>
        </p:grpSpPr>
        <p:sp>
          <p:nvSpPr>
            <p:cNvPr id="51" name=""/>
            <p:cNvSpPr/>
            <p:nvPr/>
          </p:nvSpPr>
          <p:spPr>
            <a:xfrm>
              <a:off x="0" y="1989000"/>
              <a:ext cx="2556000" cy="244800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«Три год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войны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194</a:t>
              </a: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4 </a:t>
              </a: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го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9600" y="2936160"/>
              <a:ext cx="1837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95280" y="737280"/>
            <a:ext cx="208908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Monotype Corsiva"/>
              </a:rPr>
              <a:t>Плак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6146640" cy="59976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5" name=""/>
          <p:cNvSpPr/>
          <p:nvPr/>
        </p:nvSpPr>
        <p:spPr>
          <a:xfrm>
            <a:off x="324000" y="4605480"/>
            <a:ext cx="2089080" cy="180036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Художники - Кукрыниксы</a:t>
            </a: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6767640" cy="74916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Плакат «Три года войны» (19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76720" cy="40734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58" name=""/>
          <p:cNvGrpSpPr/>
          <p:nvPr/>
        </p:nvGrpSpPr>
        <p:grpSpPr>
          <a:xfrm>
            <a:off x="971640" y="5310360"/>
            <a:ext cx="7847640" cy="1618560"/>
            <a:chOff x="971640" y="5310360"/>
            <a:chExt cx="7847640" cy="1618560"/>
          </a:xfrm>
        </p:grpSpPr>
        <p:sp>
          <p:nvSpPr>
            <p:cNvPr id="59" name=""/>
            <p:cNvSpPr/>
            <p:nvPr/>
          </p:nvSpPr>
          <p:spPr>
            <a:xfrm>
              <a:off x="971640" y="5418000"/>
              <a:ext cx="7847640" cy="14396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60280" y="5310360"/>
              <a:ext cx="5534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Оригинальный рисунок, легший в основу плаката, находится в Рыбинском  государственном  историко-архитектурном и художественном  музее –заповедник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076720" y="2276640"/>
            <a:ext cx="3528360" cy="1007640"/>
            <a:chOff x="5076720" y="2276640"/>
            <a:chExt cx="3528360" cy="1007640"/>
          </a:xfrm>
        </p:grpSpPr>
        <p:sp>
          <p:nvSpPr>
            <p:cNvPr id="62" name=""/>
            <p:cNvSpPr/>
            <p:nvPr/>
          </p:nvSpPr>
          <p:spPr>
            <a:xfrm>
              <a:off x="5076720" y="2276640"/>
              <a:ext cx="3526920" cy="10076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70680" y="2361600"/>
              <a:ext cx="343440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Размеры плакат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1м22см  на 1м27 см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48360" y="3789360"/>
            <a:ext cx="3528360" cy="1093680"/>
            <a:chOff x="5148360" y="3789360"/>
            <a:chExt cx="3528360" cy="1093680"/>
          </a:xfrm>
        </p:grpSpPr>
        <p:sp>
          <p:nvSpPr>
            <p:cNvPr id="65" name=""/>
            <p:cNvSpPr/>
            <p:nvPr/>
          </p:nvSpPr>
          <p:spPr>
            <a:xfrm>
              <a:off x="5148360" y="3789360"/>
              <a:ext cx="3526920" cy="10076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2320" y="3874320"/>
              <a:ext cx="3434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В 1996 году передал музею Николай Александрович Соколо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859280" y="1125360"/>
            <a:ext cx="4104720" cy="1008000"/>
            <a:chOff x="4859280" y="1125360"/>
            <a:chExt cx="4104720" cy="1008000"/>
          </a:xfrm>
        </p:grpSpPr>
        <p:sp>
          <p:nvSpPr>
            <p:cNvPr id="68" name=""/>
            <p:cNvSpPr/>
            <p:nvPr/>
          </p:nvSpPr>
          <p:spPr>
            <a:xfrm>
              <a:off x="4859280" y="1125360"/>
              <a:ext cx="4102920" cy="10080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720" y="1210320"/>
              <a:ext cx="3995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932360" y="1114920"/>
            <a:ext cx="38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Monotype Corsiva"/>
              </a:rPr>
              <a:t>Крах фашистской армии в ходе трех лет Великой Отечественн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679640" cy="36054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72" name=""/>
          <p:cNvGrpSpPr/>
          <p:nvPr/>
        </p:nvGrpSpPr>
        <p:grpSpPr>
          <a:xfrm>
            <a:off x="5292720" y="981000"/>
            <a:ext cx="3672000" cy="1439640"/>
            <a:chOff x="5292720" y="981000"/>
            <a:chExt cx="3672000" cy="1439640"/>
          </a:xfrm>
        </p:grpSpPr>
        <p:sp>
          <p:nvSpPr>
            <p:cNvPr id="73" name=""/>
            <p:cNvSpPr/>
            <p:nvPr/>
          </p:nvSpPr>
          <p:spPr>
            <a:xfrm>
              <a:off x="5292720" y="981000"/>
              <a:ext cx="3672000" cy="14396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02120" y="1030320"/>
              <a:ext cx="258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Куприян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      </a:t>
              </a: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Михаил Васильевич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(1903 – 199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292720" y="4653000"/>
            <a:ext cx="3635280" cy="1237680"/>
            <a:chOff x="5292720" y="4653000"/>
            <a:chExt cx="3635280" cy="1237680"/>
          </a:xfrm>
        </p:grpSpPr>
        <p:sp>
          <p:nvSpPr>
            <p:cNvPr id="76" name=""/>
            <p:cNvSpPr/>
            <p:nvPr/>
          </p:nvSpPr>
          <p:spPr>
            <a:xfrm>
              <a:off x="5292720" y="4653000"/>
              <a:ext cx="3635280" cy="12376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7080" y="4766400"/>
              <a:ext cx="2563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Соколов Николай Александрович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(1903 – 200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2519280" cy="247824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9" name=""/>
          <p:cNvSpPr/>
          <p:nvPr/>
        </p:nvSpPr>
        <p:spPr>
          <a:xfrm>
            <a:off x="1763640" y="207360"/>
            <a:ext cx="511344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Художники - Кукрыник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076720" y="1483560"/>
            <a:ext cx="1079640" cy="520560"/>
            <a:chOff x="5076720" y="1483560"/>
            <a:chExt cx="1079640" cy="520560"/>
          </a:xfrm>
        </p:grpSpPr>
        <p:sp>
          <p:nvSpPr>
            <p:cNvPr id="81" name=""/>
            <p:cNvSpPr/>
            <p:nvPr/>
          </p:nvSpPr>
          <p:spPr>
            <a:xfrm>
              <a:off x="5076720" y="1489320"/>
              <a:ext cx="1079640" cy="50760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48080" y="148356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435640" y="2770200"/>
            <a:ext cx="3564000" cy="1313640"/>
            <a:chOff x="5435640" y="2770200"/>
            <a:chExt cx="3564000" cy="1313640"/>
          </a:xfrm>
        </p:grpSpPr>
        <p:sp>
          <p:nvSpPr>
            <p:cNvPr id="84" name=""/>
            <p:cNvSpPr/>
            <p:nvPr/>
          </p:nvSpPr>
          <p:spPr>
            <a:xfrm>
              <a:off x="5435640" y="2852640"/>
              <a:ext cx="3564000" cy="115236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29920" y="2770200"/>
              <a:ext cx="2513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Крылов Порфирий Никитич (1902- 199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788000" y="3030480"/>
            <a:ext cx="1224000" cy="947160"/>
            <a:chOff x="4788000" y="3030480"/>
            <a:chExt cx="1224000" cy="947160"/>
          </a:xfrm>
        </p:grpSpPr>
        <p:sp>
          <p:nvSpPr>
            <p:cNvPr id="87" name=""/>
            <p:cNvSpPr/>
            <p:nvPr/>
          </p:nvSpPr>
          <p:spPr>
            <a:xfrm>
              <a:off x="4788000" y="3213000"/>
              <a:ext cx="1224000" cy="5810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81680" y="3030480"/>
              <a:ext cx="93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К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788000" y="4902120"/>
            <a:ext cx="1224000" cy="947160"/>
            <a:chOff x="4788000" y="4902120"/>
            <a:chExt cx="1224000" cy="947160"/>
          </a:xfrm>
        </p:grpSpPr>
        <p:sp>
          <p:nvSpPr>
            <p:cNvPr id="90" name=""/>
            <p:cNvSpPr/>
            <p:nvPr/>
          </p:nvSpPr>
          <p:spPr>
            <a:xfrm>
              <a:off x="4788000" y="5084640"/>
              <a:ext cx="1224000" cy="5810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81680" y="4902120"/>
              <a:ext cx="93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Ни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5435640" y="1268280"/>
            <a:ext cx="3528360" cy="1008000"/>
            <a:chOff x="5435640" y="1268280"/>
            <a:chExt cx="3528360" cy="1008000"/>
          </a:xfrm>
        </p:grpSpPr>
        <p:sp>
          <p:nvSpPr>
            <p:cNvPr id="93" name=""/>
            <p:cNvSpPr/>
            <p:nvPr/>
          </p:nvSpPr>
          <p:spPr>
            <a:xfrm>
              <a:off x="5435640" y="1268280"/>
              <a:ext cx="3526920" cy="10080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29600" y="1353240"/>
              <a:ext cx="343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Агитационные политические плак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897440" cy="36972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2071440" cy="300204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97" name=""/>
          <p:cNvGrpSpPr/>
          <p:nvPr/>
        </p:nvGrpSpPr>
        <p:grpSpPr>
          <a:xfrm>
            <a:off x="5435640" y="2349360"/>
            <a:ext cx="3563640" cy="1087560"/>
            <a:chOff x="5435640" y="2349360"/>
            <a:chExt cx="3563640" cy="1087560"/>
          </a:xfrm>
        </p:grpSpPr>
        <p:sp>
          <p:nvSpPr>
            <p:cNvPr id="98" name=""/>
            <p:cNvSpPr/>
            <p:nvPr/>
          </p:nvSpPr>
          <p:spPr>
            <a:xfrm>
              <a:off x="5435640" y="2349360"/>
              <a:ext cx="3561840" cy="93636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30680" y="2428200"/>
              <a:ext cx="3468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Выпускались  телеграфным агентством Советского Союз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724360" y="3356640"/>
            <a:ext cx="3205440" cy="1008720"/>
            <a:chOff x="5724360" y="3356640"/>
            <a:chExt cx="3205440" cy="1008720"/>
          </a:xfrm>
        </p:grpSpPr>
        <p:sp>
          <p:nvSpPr>
            <p:cNvPr id="101" name=""/>
            <p:cNvSpPr/>
            <p:nvPr/>
          </p:nvSpPr>
          <p:spPr>
            <a:xfrm>
              <a:off x="5724360" y="3500280"/>
              <a:ext cx="3205440" cy="719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67880" y="3356640"/>
              <a:ext cx="2262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Выполнены с помощью трафар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84720" y="3796200"/>
            <a:ext cx="2916360" cy="2105640"/>
            <a:chOff x="6084720" y="3796200"/>
            <a:chExt cx="2916360" cy="2105640"/>
          </a:xfrm>
        </p:grpSpPr>
        <p:sp>
          <p:nvSpPr>
            <p:cNvPr id="104" name=""/>
            <p:cNvSpPr/>
            <p:nvPr/>
          </p:nvSpPr>
          <p:spPr>
            <a:xfrm>
              <a:off x="6084720" y="4469040"/>
              <a:ext cx="2916360" cy="755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89360" y="3796200"/>
              <a:ext cx="205524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Monotype Corsiva"/>
                </a:rPr>
                <a:t>Было создано свыше 1500  «Окон ТАСС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84720" y="5024520"/>
            <a:ext cx="2880000" cy="1984320"/>
            <a:chOff x="6084720" y="5024520"/>
            <a:chExt cx="2880000" cy="1984320"/>
          </a:xfrm>
        </p:grpSpPr>
        <p:sp>
          <p:nvSpPr>
            <p:cNvPr id="107" name=""/>
            <p:cNvSpPr/>
            <p:nvPr/>
          </p:nvSpPr>
          <p:spPr>
            <a:xfrm>
              <a:off x="6084720" y="5655960"/>
              <a:ext cx="2880000" cy="719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84320" y="5024520"/>
              <a:ext cx="203112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Тираж доходил до 1000 экземпляр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50920" y="4973040"/>
            <a:ext cx="2879640" cy="1557000"/>
            <a:chOff x="250920" y="4973040"/>
            <a:chExt cx="2879640" cy="1557000"/>
          </a:xfrm>
        </p:grpSpPr>
        <p:sp>
          <p:nvSpPr>
            <p:cNvPr id="110" name=""/>
            <p:cNvSpPr/>
            <p:nvPr/>
          </p:nvSpPr>
          <p:spPr>
            <a:xfrm>
              <a:off x="250920" y="5391000"/>
              <a:ext cx="2879640" cy="71856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0160" y="4973040"/>
              <a:ext cx="2030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Monotype Corsiva"/>
                </a:rPr>
                <a:t>Страшнее пу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63640" y="176760"/>
            <a:ext cx="511344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Окна   Т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8:03:30Z</dcterms:created>
  <dc:creator>user</dc:creator>
  <dc:description/>
  <dc:language>en-US</dc:language>
  <cp:lastModifiedBy>Admin</cp:lastModifiedBy>
  <dcterms:modified xsi:type="dcterms:W3CDTF">2013-04-06T05:19:29Z</dcterms:modified>
  <cp:revision>57</cp:revision>
  <dc:subject/>
  <dc:title>Слайд 1</dc:title>
</cp:coreProperties>
</file>