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22C-DC5B-4801-9ECB-FF9EE01C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2CB-A302-4237-8A10-9071C102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2E6-3E9B-4D12-879D-9473970A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CD3-E5CE-435D-9DEF-7D86E5E3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3F8-1F59-4AFC-BDFB-7ABB0EFD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058-B170-492C-A606-DE5FE3C4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1EB-DF92-4CC9-B5A6-A86E31DE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7D5-5379-490D-8D76-4D4500C3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750-9E1E-456F-B5F9-D5799EB4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073-E243-4869-92C3-F3FEE25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D5D-F7B1-4EBB-B75D-A93A11F0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7D8-0389-4C37-BE3B-08A7140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0E5A-7C4B-4476-BC0A-E31E3B49C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130480"/>
            <a:ext cx="82803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дежда Дурова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изн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н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усарская баллад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479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р: Барташева К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У «СОШ №6» 9 А класс г.Астрах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8036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3299040" cy="3960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356000" y="1484280"/>
            <a:ext cx="447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Все говорят об этом, но никто ничего не знает. Один описывает меня красавицей, другой уродом, третий старухой, четвертый давал мне гигантский рост и звериную наруж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4076280"/>
            <a:ext cx="8496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триотизм Надежды Андреевны Дуровой выразился ярко в ее самоотверженном служении родине, презрении к опасности, в величии ее духа. «Священный долг к Отечеству, — говорила она, — заставляет простого солдата бесстрашно встречать смерть, мужественно переносить страдания и покойно расставаться с жизнью». Философия ее была простой, высокой и мужественной: «Неустрашимость есть первое и необходимое качество воина; с неустрашимостью неразлучно величие души, и, при соединении этих двух великих достоинств, нет места порокам или низким страстя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367164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нения Бородинской Битвы постоянно волновали Надежду, мешали ей нести службу. Дурова берет полугодичный отпуск для лечения, и проводит его в родном доме. После окончания отпуска Надежда Андреевна со своим полком участвует в заграничных походах русской армии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В 1816 году Надежда Андреевна Дурова с почестями и наградами вышла в отставку. Она много читала, помогала бедным и собирала брошенных домашних животных. В последующие годы жизни Дурова пыталась заниматься литературным творчеством, причем, весьма успешно. Общалась с Пушк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4512960" cy="41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492000" y="907560"/>
            <a:ext cx="525636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ё главным литературным трудом стали «Записки Кавалерист-девицы». Произведения Дуровой печатались в журналах «Библиотека для чтения», «Отечественные записки» и др. Мемуарные сочинения «Год жизни в Петербурге…»(1838), «Записки Александрова (Дуровой). Добавление к Кавалерист-девице»(1839), рассказывающие о пережитом, а также роман в 4 частях «Гудишки»(1839), написаны просто и выразительно. Сочинения романтического характера «Повести и рассказы»(1839), «Клад»(1840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Угол»(1840), «Ярчук собака-духовидец», (1840), отличавшиеся запутанным сюжетом, обилием таинственных приключений, имели некоторый усп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090960" cy="49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3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1773360"/>
            <a:ext cx="7958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841 году Дурова переехала в Елабугу, где провела  последующие годы своей жизни. Жила Надежда Андреевна скромно: питалась обычной пищей, по утрам обливалась ледяной водой, любила играть в карты. Надежда Андреевна прекратила литературную деятельность. Она была горячо любима русским обществом, её многие знали и уважали. Жизнь этой великой женщины воспроизведена в романе Д.Л.Мордовцева «Двенадцатый год» (1885), повести Я.С.Рыкачева «Надежда Дурова» (1942), пьесе А.К. Гладкова «Давным-давно» (1940, издана 1942), по мотивам которой поставлен кинофильм «Гусарская баллада» (1962), в опере А.Богатырева «Надежда Дурова» (1957) и др. До конца жизни Дурова была одинокой. Умерла Надежда Андреевна 21 марта 1866 года. Дуровой было 83 года. Хоронили «кавелерист-девицу» со всеми воинскими почестями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е произведения вскоре были забыты… А вот редкостная любовь к животным воскресла в ее потомках — в знаменитой династии дрессировщиков Дуро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16000" y="738000"/>
            <a:ext cx="41036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могильной плите начертали такой текст: «Надежда Андреевна Дурова  по велению императора Александра-корнет Александров. Кавалер военного орден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ижимая любовью к родине, поступила в ряды Литовского уланского полка. Спасла офицера, награждена Георгиевским кресто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служила 10 лет в полку, произведена в корнеты и удостоена чина штабс-ротмистр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дилась в 1783 г. Скончалась в 1866 г. Мир ее праху! Вечная память в назидание потомству ее доблестной душе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4141800" cy="5521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8850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148360" y="1928880"/>
            <a:ext cx="3682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амять о великой женщине в 1962 г. был установлен бюст в городском парке Елаб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Бюст Дуровой"/>
          <p:cNvPicPr/>
          <p:nvPr/>
        </p:nvPicPr>
        <p:blipFill>
          <a:blip r:embed="rId2"/>
          <a:stretch/>
        </p:blipFill>
        <p:spPr>
          <a:xfrm>
            <a:off x="1258920" y="692280"/>
            <a:ext cx="370836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38988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993 г. на Троицкой площади в Елабуге возвышается памятник кавалерист-девицы Надежды Андреевн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Памятник Дуровой"/>
          <p:cNvPicPr/>
          <p:nvPr/>
        </p:nvPicPr>
        <p:blipFill>
          <a:blip r:embed="rId2"/>
          <a:stretch/>
        </p:blipFill>
        <p:spPr>
          <a:xfrm>
            <a:off x="4932360" y="826920"/>
            <a:ext cx="3881520" cy="577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860640"/>
            <a:ext cx="84247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динственный в мире Музей–усадьба легендарной женщины-офицера Надежды Дуровой был открыт в 1993 году. Именно в этом доме были написаны знаменитые «Записки кавалерист–девицы», получившие высокую оценку великого поэта России А.С. Пушкина и ставшие основой известной комедии Эльдара Рязанова «Гусарская баллада». Прототипом главной героини фильма Шурочки Азаровой стала сама Надежда Андреевна. Экспозиция уникального музея расположена в мемориальном доме. В Музее представлена история жизни русской Амазонки, начиная с её детских лет и до жизни в Елабу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460836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96000" y="333360"/>
            <a:ext cx="25718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ликолепный материал для прекрасной легенды! Ее жизнь вдохновила многих поэтов, среди которых особое место занял наш современник — Александр Гладков. Его замечательная романтическая пьеса «Давным-давно» много лет не сходила со сцены, и наконец по пьесе был снят фильм «Гусарская баллада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917880" cy="3129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4076640"/>
            <a:ext cx="36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гендарный образ девушки в гусарском ментике окончательно заслонил образ подлинной Надежды Дуровой, настоящая жизнь которой была куда сложне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900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ова гусарская баллада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 славной и храброй русской женщине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7280" y="1484280"/>
            <a:ext cx="4392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ебту коня свой стан вверяя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вой пол меж ратников скрывая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ы держишь с ними трудный путь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ипит отвагой девы грудь…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Глебов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920" y="3789360"/>
            <a:ext cx="78487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истории государства Российского есть немало героических примеров, когда женщины наравне с мужчинами с оружием в руках защищали свое Отечество. Жизнь одной из них, уроженки города Сарапула,  кавалерист-девицы Надежды Андреевны Дуровой, – истинный образец служения России. Все, кто смотрел старый добрый фильм “Гусарская баллада”, помнят юную Шурочку Азарову. Движимая любовью к своей Отчизн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а бежала из дома на войну с Наполеоном. Прототипом Шурочки и бы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ежда Андреевна Дурова. Какая странная и необычная судьба выпала наш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ечественнице!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6920" y="274680"/>
            <a:ext cx="48258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ь молодецкая и тяга к приключениям были отличительной чертой семьи Дуровых. Мама - Анастасия Александровна, дочь украинского помещика, в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 беспамятно влюбилась в офицера русской армии Дурова и без разрешения родителей обвенчалась с ним. Анастасия очень хотела ребенка. Долгими вечерами она мечтала о сын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аже придумала еще не родившемуся ребенку имя – Модест. 17 сентября 1783 в семье Дуровых  родилась дочь Надежда. Мать была сильно разочарована появлением девочки, к тому же ей очень тяжело дались роды. Надя родилась крепеньким ребенком, и как говорят, уже в детстве ревела басом. Отношения  с мамой у Нади как-то с детства не сложились, и воспитанием девочки занялся отец - Андрей Дуров. Нянькой Нади стал денщик Аста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3564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11280" y="765000"/>
            <a:ext cx="44276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27720" cy="482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3280" y="112536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детстве Надежда Андреевна любила стрелять из лука, лазить вместе с мальчишками по деревьям, ездить на лошади и, размахивая саблей, выкрикивать различные армейские ком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4076640"/>
            <a:ext cx="4103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Воспитатель мой Астахов по целыми днями носил меня на руках, ходил со мной в эскадронную конюшню, сажал на лошадей, давал играть пистолетом, махать сабле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55640" y="2349000"/>
            <a:ext cx="4186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1806 году, в день своих именин, переоделась в казачью форму, остригла черные кудри, села на коня и рванула испытывать судьбу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урова добралась до казачий части и попросилась в казаки, никто и не признал в ней девицу. Так в конно-польском уланском полку появился рядовой Александр Сок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907920"/>
            <a:ext cx="460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18 лет Надежда Андреевна вышла замуж за Василия Чернова, что бы съехать из родительского дома. Брак был неудачный, и вскоре она вернулась к родителям, получив еще больше упреков и по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695760" cy="47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564000" y="1496880"/>
            <a:ext cx="5338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но было девушке в полку: ежедневная муштра, постоянные учения, руки от пики болят, да еще и командиры накрикивают. Но Надежда была упорной и от своего не отступ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учений Соколов в составе полка отправился воевать с Наполеоном. Полк храбро сражался. В Пруссии был дважды ранен. В бою у гор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утштад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ядовой Соколов спас жизнь офицеру Панину, на полном скаку подхватив его в свое седло. Героизму юноши даже бывалые солдаты удивлялись. И все это время  Надежде удавалось скрывать, что она женщина. Общей бани Соколов избегал, а что усы не растут, объяснял тем, что еще мол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933640" cy="4000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8508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11308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дежде Дуровой до определенного момента удачно удавалось скрывать свой пол. Но письмо, которое она написала отцу, её выдало.  Дядя Надежды Андреевны рассказал про Дурову знакомому генералу, и вскоре про солдатку узнал сам император Александр I. Надежда Андреевна была доставлена в столицу Российской Империи. С мужественной женщиной Александр I пожелал встретиться лично. Встреча Дуровой с императором состоялась в декабре 1807 года. Император вручил Дуровой георгиевский крест, и все удивлялся храбрости и мужеству собеседницы.  Александр I намеревался было отправить Надежду в родительский дом, но она отрезала – «Хочу быть воином!». Император был поражен, и оставил Надежду Дурову в русской армии, перевел её в Мариупольский полк, и разрешил представляться фамилией – Александрова, в честь импе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907920"/>
            <a:ext cx="332244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961080" cy="323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1640" y="691920"/>
            <a:ext cx="431964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коре грянул гром Отечественной Войны 1812 года. Войну Надежда Дурова начала в чине подпоручика Уланского полка и поучаствовала во многих сражениях той войны. Была Надежда под Смоленском, Миром, Дашковкой, была и на Бородинском пол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 время Бородинского сражения Александров был на передовой. В бою пуля оцарапал плечо, а осколки снаряда задели ногу. Боль была невыносимой, но Дурова осталась в седле до конца битвы. Кутузов предложил поехать домой полечиться, но уже через полгода Надежда вернулась в армию и вместе со своим полком гнала французов из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1614240"/>
            <a:ext cx="483696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сторопного поручика заметил Кутузов, так Александров стал офицером. И у Надежды началась новая служба. По нескольку раз в день она под огнем противника спешила к красным командирам. Кутузов нарадоваться не мог таким ординарцем, а вояки-сослуживцы смеялись: «Сашка, когда же у тебя усы отрастут?». В армии уже ползли слухи, что где-то в наших рядах служит девица переодетая. Но на Александрова никто даже и подумать не мог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удно было Наденьке, даже поделиться ей было не с кем. И все происходившее она записывала в  свой дневник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278160" cy="51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8:11:44Z</dcterms:created>
  <dc:creator>Informatika</dc:creator>
  <dc:description/>
  <dc:language>en-US</dc:language>
  <cp:lastModifiedBy>Informatika</cp:lastModifiedBy>
  <dcterms:modified xsi:type="dcterms:W3CDTF">2011-11-17T08:48:21Z</dcterms:modified>
  <cp:revision>13</cp:revision>
  <dc:subject/>
  <dc:title>Кавалерист-девица  Дурова Надежда Андреевна </dc:title>
</cp:coreProperties>
</file>