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59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55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41.png" ContentType="image/png"/>
  <Override PartName="/ppt/media/image53.jpeg" ContentType="image/jpeg"/>
  <Override PartName="/ppt/media/image51.png" ContentType="image/png"/>
  <Override PartName="/ppt/media/image54.jpeg" ContentType="image/jpeg"/>
  <Override PartName="/ppt/media/image56.png" ContentType="image/png"/>
  <Override PartName="/ppt/media/image58.jpeg" ContentType="image/jpeg"/>
  <Override PartName="/ppt/media/image31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0600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19520"/>
            <a:ext cx="840600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9640" y="213840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1952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9640" y="461952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64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4440" y="2138400"/>
            <a:ext cx="27064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6640" y="2138400"/>
            <a:ext cx="27064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19520"/>
            <a:ext cx="27064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4440" y="4619520"/>
            <a:ext cx="27064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6640" y="4619520"/>
            <a:ext cx="270648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060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060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18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9640" y="2138400"/>
            <a:ext cx="41018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5950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9640" y="2138400"/>
            <a:ext cx="41018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1952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184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9640" y="213840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9640" y="461952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38400"/>
            <a:ext cx="4101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19520"/>
            <a:ext cx="840600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060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1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jpe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6%E0%F0-%EF%F2%E8%F6%E0" TargetMode="External"/><Relationship Id="rId2" Type="http://schemas.openxmlformats.org/officeDocument/2006/relationships/hyperlink" Target="http://ru.wikipedia.org/wiki/%C6%E0%F0-%EF%F2%E8%F6%E0" TargetMode="External"/><Relationship Id="rId3" Type="http://schemas.openxmlformats.org/officeDocument/2006/relationships/hyperlink" Target="http://ru.wikipedia.org/wiki/&#1055;&#1072;&#1074;&#1083;&#1080;&#1085;" TargetMode="External"/><Relationship Id="rId4" Type="http://schemas.openxmlformats.org/officeDocument/2006/relationships/hyperlink" Target="http://ru.wikipedia.org/wiki/&#1060;&#1077;&#1085;&#1080;&#1082;&#1089;(&#1092;&#1077;&#1085;&#1080;&#1082;&#1089;" TargetMode="External"/><Relationship Id="rId5" Type="http://schemas.openxmlformats.org/officeDocument/2006/relationships/hyperlink" Target="http://ctypa.ucoz.ru/publ/2-1-0-20" TargetMode="External"/><Relationship Id="rId6" Type="http://schemas.openxmlformats.org/officeDocument/2006/relationships/hyperlink" Target="http://xlt.narod.ru/season02/fireball2.html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63280" y="682560"/>
            <a:ext cx="820908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Учебный исследовательский проект </a:t>
            </a: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с элементами творчества</a:t>
            </a: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Жар – птица»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800360" y="2138040"/>
            <a:ext cx="5543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Руководитель проекта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ГБОУ СОШ № 42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Баранова Оксана Геннадиевн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Москва, 201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41240" y="700200"/>
            <a:ext cx="8605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Гар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968720" y="1800360"/>
            <a:ext cx="403236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В буддийской мифологии  Гаруда - птица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Она вы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одит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ся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 из яйца уже взрослой и гнездится в Древе Жизни, выполняющем все жел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Воюет с Наг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Ноги -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облака змей, которые живут глубоко под землей в подземных дворц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C:\Users\Оксана\Desktop\Trjd5cgyjtyjkue6.jpg"/>
          <p:cNvPicPr/>
          <p:nvPr/>
        </p:nvPicPr>
        <p:blipFill>
          <a:blip r:embed="rId1"/>
          <a:stretch/>
        </p:blipFill>
        <p:spPr>
          <a:xfrm>
            <a:off x="1152360" y="2050920"/>
            <a:ext cx="3310200" cy="417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741240" y="700200"/>
            <a:ext cx="8605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Птица - огнев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5133960" y="1619280"/>
            <a:ext cx="41068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Есть у Жар-птицы и "родственнички" - словацкая “птица-огневик”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П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равда он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 в отличие от нашей Жар-птицы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 является одним из воплощений зл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Она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уподобившись Дракону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 ворует детей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прекрасных деви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ц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 и уносит их в дали несусвет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079640" y="1887480"/>
            <a:ext cx="3779640" cy="477216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741240" y="700200"/>
            <a:ext cx="8605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Ра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133960" y="2138400"/>
            <a:ext cx="41068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Рарог - светозарный огненосный дух, связанный с древним поклонением огню, домашнему оча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Согласно чешским повериям, Рарог может появиться на свет из яйца, которое девять дней и ночей человек высиживает на пе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079640" y="2236680"/>
            <a:ext cx="3517920" cy="406404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63640" y="755280"/>
            <a:ext cx="813744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7000"/>
          </a:bodyPr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 каких литературных произведениях  встречается сказочный персонаж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Жар-птица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Мифологический персонаж жар-птица знаком нам с детства из русских народных сказок «Иван Царевич и Серый волк», «Жар-птица и Царь — девица», «Жар-птица и Василиса Прекрасная («Жар-птица и Василиса -  царевна»)», а также из литературных сказок П.П. Ершова «Конёк-горбунок», А.Н. Толстого «Жар-птица»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Поймать Жар-птицу может только сильный духом и добрым нравом человек. Поскольку то, что даёт Жар-птица способно принести герою настоящее счастье. Если же кто-либо хочет воспользоваться её ради корысти, только беду получит взамен…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В волшебных сказках Жар-птица всегда является недосягаемым существом. Многие цари и владыки хотели найти её и использовать. Однако Жар-птица, пришедшая в мир человека из тридесятого царства, дарит чудо только достойнейшим. Со временем такое перо превращается в золотое.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Жар-птица - одна из древнерусских берегинь, воплощение солнца, небесного огня-пламени. Служит добру. Излучает необычный, волшебный свет, который помогает людям в их земных делах. Одно лишь ее перо приносит его обладателю счастье. Прилетает из тридесятого царства, где она живет в саду Царь-девицы из русской народной сказки «Жар-птица и Царь — девица»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Добыча жар-птицы сопряжена с большими трудностями и составляет одну из главных задач, которые задает в сказке царь (отец) сыновьям в сказке П.П. Ершова «Конёк-горбунок». Добыть жар-птицу удается лишь младшему сыну и то, только после серии различных препятствий. Из-за ослепительного блеска её оперения, герои сначала закрывают все ставни окон и только после это снимают покрывало с клетки с Жар-птицей.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«… Вот полночною порой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Свет разлился над горой, –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Будто полдни наступают: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Жары-птицы налетают…»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(цитата из сказки «Конёк-горбунок» П.П. Ершова)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Встречаются сюжеты, где Жар-птица оказывается заколдованной красавицей, которая в конце сказки становится невестой Ивана Царевича. Жар-птица и серый волк - волшебные помощники, благодаря которым Иван-царевич выполняет трудные задания и получает богатства и жену в русской народной сказке «Иван Царевич и Серый волк»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«Жар-птица вырвалась и полетела, и осталось у Ивана-царевича в руке только одно перо»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(цитата «Иван Царевич и Серый волк»)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Мифологический персонаж Жар-птица есть и в сказке «Жар-птица и Василиса - царевна»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«Вдруг зашумел лес, поднялись волны на море – летит Жар-птица»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(цитата, «Жар-птица и Василиса-царевна»)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ое может быть объяснение появление мифологического образа Жар-птицы со стороны физических явлений природы?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5435640"/>
            <a:ext cx="841716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Если внимательно почитать об образе жар-птицы, то все эти характеристики – это описание ... Уж такую-то "птицу", летающую по воздуху, светящуюся и переливающуюся огнями, в народе знали хорошо. Знали и побаивались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376360" y="2050920"/>
            <a:ext cx="4972320" cy="322920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52360" y="971280"/>
            <a:ext cx="763272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4000"/>
          </a:bodyPr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Какое может быть объяснение появление мифологического образа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Жар-птицы со стороны физических явлений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Если внимательно почитать об образе жар-птицы, то все эти характеристики - описание ... шаровой молнии. Уж такую-то "птицу", летающую по воздуху, светящуюся и переливающуюся огнями, в народе знали хорошо. Знали и побаивались.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Знали и ее привычки. Они подробно описаны в русских сказках. Наиболее полное описание свойств "Жар-птицы" дано в сказке "Конек-горбунок", которую записал 19-летний студент Петр Ершов, выходец из деревни Безруково: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«Приключилося им горе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Кто-то в поле стал ходить,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и пшеницу ворошить»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Одна из скверных привычек Жар-птицы (шаровой молнии) - оставлять на поле круги полегших злаков. Судя по русским сказкам, с давних пор крестьяне караулили злодейку. Однако от перепуганных сторожей кроме невнятных описаний то ли ЖАР-птицы, то ли ШАР-птицы, ничего добиться не удавалось. "Огненно-красные и золотые перья, крылья — как языки пламени, а глаза сверкают, как алмазы...". Несмотря на ослепляющий свет, с давних пор было замечено, что "Жар-птица" не дает ни дыма, ни тепла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«Светит поле словно днём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Чудный свет кругом струится,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Но не греет, не дымится..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Эко чудо огонёк!»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(цитата из сказки П.П. Ершова «Конёк-горбунок»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И при полном отсутствии громоотводов в те времена, шаровые молнии продолжали "ворошить" злаки.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i="1" lang="ru-RU" sz="1200" spc="-1" strike="noStrike">
                <a:solidFill>
                  <a:srgbClr val="c00000"/>
                </a:solidFill>
                <a:latin typeface="Arial"/>
              </a:rPr>
              <a:t>Английские сторожа, в отличие от персонажей русских сказок, подошли к делу более основательно. Дежурили они не с "вилами и топором", как дозорные в сказке Ершова, и даже не с клеткой для птиц, а с фото- и видеотехникой. И, наконец, были получены сенсационные фотографии и видеоматериалы, показывающие, с какой огромной скоростью летают над полем шаровые молнии и какие причудливые круги полегшей травы оставляют при приближении к поверхности земли.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</a:rPr>
              <a:t>Востребован ли образ Жар-птицы </a:t>
            </a:r>
            <a:br>
              <a:rPr sz="3200"/>
            </a:br>
            <a:r>
              <a:rPr b="1" i="1" lang="en-US" sz="3200" spc="-1" strike="noStrike">
                <a:solidFill>
                  <a:srgbClr val="00b050"/>
                </a:solidFill>
                <a:latin typeface="Times New Roman"/>
              </a:rPr>
              <a:t>в бытовой сфере современного общества?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2240" y="2138040"/>
            <a:ext cx="8250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Изучаемый нами мифологический образ Жар-птицы рассказал о том, что он привлекал внимание людей с давних времён, поэтому и нашёл своё отражение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и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 в устном народном творчестве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 и сказках писателей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, и в изделиях мастеров народных промыслов.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В ходе исследования нам стало интересно: в каких сферах быта современного общества используется этот сказочный образ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74124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3366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Вышивка               Изделия из ще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079640" y="1835280"/>
            <a:ext cx="3450960" cy="500364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219640" y="2879640"/>
            <a:ext cx="3600360" cy="306072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31640" y="301680"/>
            <a:ext cx="91425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Оригами                          Аппл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900000" y="2340000"/>
            <a:ext cx="4064040" cy="378468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  <p:pic>
        <p:nvPicPr>
          <p:cNvPr id="80" name="Picture 7" descr="C:\Users\Оксана\Desktop\Жар птица\IMG_9056.JPG"/>
          <p:cNvPicPr/>
          <p:nvPr/>
        </p:nvPicPr>
        <p:blipFill>
          <a:blip r:embed="rId2"/>
          <a:stretch/>
        </p:blipFill>
        <p:spPr>
          <a:xfrm>
            <a:off x="5472000" y="1619280"/>
            <a:ext cx="3411720" cy="4869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503280" y="301680"/>
            <a:ext cx="9070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741240" y="700200"/>
            <a:ext cx="8602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dc23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Посуда                               Квилл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900000" y="2700360"/>
            <a:ext cx="4060800" cy="334332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  <p:pic>
        <p:nvPicPr>
          <p:cNvPr id="84" name="Picture 6" descr="C:\Users\Оксана\Desktop\Жар птица\IMG_9059.JPG"/>
          <p:cNvPicPr/>
          <p:nvPr/>
        </p:nvPicPr>
        <p:blipFill>
          <a:blip r:embed="rId2"/>
          <a:stretch/>
        </p:blipFill>
        <p:spPr>
          <a:xfrm>
            <a:off x="5472000" y="1908000"/>
            <a:ext cx="3524400" cy="4772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822240" y="1108080"/>
            <a:ext cx="817884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шая ещё в детстве  произведения устного народного творчества ― сказки, мы знакомимся с жар-птиц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аш компьютерный век, век нанотехнологий  сказочная птица остаётся для нас загадочна и привлекатель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Гипот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бражение мифологического образа жар-птицы востребовано в различных сферах современно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503280" y="720720"/>
            <a:ext cx="90709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Роспись по дереву </a:t>
            </a: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Пале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C:\Users\Оксана\Desktop\palex_sh_43-1.jpg"/>
          <p:cNvPicPr/>
          <p:nvPr/>
        </p:nvPicPr>
        <p:blipFill>
          <a:blip r:embed="rId1"/>
          <a:stretch/>
        </p:blipFill>
        <p:spPr>
          <a:xfrm>
            <a:off x="2879640" y="1979640"/>
            <a:ext cx="3544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Скульп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79640" y="1763640"/>
            <a:ext cx="3767400" cy="460368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dc23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Карвинг                        Украшение блю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024360" y="1692360"/>
            <a:ext cx="3779640" cy="468000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Кондитерские изде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40000" y="1800360"/>
            <a:ext cx="5834160" cy="446724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720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Карнавальные костюмы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95640" y="2124000"/>
            <a:ext cx="3995640" cy="399564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Компьютерная 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240000" y="1619280"/>
            <a:ext cx="34196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684000"/>
            <a:ext cx="583236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Работа группами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8" name="Picture 8" descr="C:\Users\Оксана\Desktop\Жар птица 12\IMG_9116.JPG"/>
          <p:cNvPicPr/>
          <p:nvPr/>
        </p:nvPicPr>
        <p:blipFill>
          <a:blip r:embed="rId1"/>
          <a:stretch/>
        </p:blipFill>
        <p:spPr>
          <a:xfrm>
            <a:off x="1152360" y="1619280"/>
            <a:ext cx="4345200" cy="3257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99" name="Picture 9" descr="C:\Users\Оксана\Desktop\Жар птица 12\IMG_9122.JPG"/>
          <p:cNvPicPr/>
          <p:nvPr/>
        </p:nvPicPr>
        <p:blipFill>
          <a:blip r:embed="rId2"/>
          <a:stretch/>
        </p:blipFill>
        <p:spPr>
          <a:xfrm>
            <a:off x="5184720" y="3780000"/>
            <a:ext cx="3816360" cy="28605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640" y="700200"/>
            <a:ext cx="7705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Результат совместного творчества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1" name="Picture 3" descr="C:\Users\Оксана\Desktop\Жар птица 12\IMG_9133.JPG"/>
          <p:cNvPicPr/>
          <p:nvPr/>
        </p:nvPicPr>
        <p:blipFill>
          <a:blip r:embed="rId1"/>
          <a:stretch/>
        </p:blipFill>
        <p:spPr>
          <a:xfrm>
            <a:off x="3168720" y="1692360"/>
            <a:ext cx="3760560" cy="5014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700200"/>
            <a:ext cx="7705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Наши творческие работы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3" name="Picture 2" descr="H:\Жар птица\IMG_8993.JPG"/>
          <p:cNvPicPr/>
          <p:nvPr/>
        </p:nvPicPr>
        <p:blipFill>
          <a:blip r:embed="rId1"/>
          <a:stretch/>
        </p:blipFill>
        <p:spPr>
          <a:xfrm>
            <a:off x="1655640" y="1835280"/>
            <a:ext cx="6435720" cy="48276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Оксана\Desktop\Жар птица\IMG_9052.JPG"/>
          <p:cNvPicPr/>
          <p:nvPr/>
        </p:nvPicPr>
        <p:blipFill>
          <a:blip r:embed="rId1"/>
          <a:stretch/>
        </p:blipFill>
        <p:spPr>
          <a:xfrm>
            <a:off x="2303640" y="4643280"/>
            <a:ext cx="2233440" cy="1731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5" name="Picture 3" descr="C:\Users\Оксана\Desktop\Жар птица\IMG_9053.JPG"/>
          <p:cNvPicPr/>
          <p:nvPr/>
        </p:nvPicPr>
        <p:blipFill>
          <a:blip r:embed="rId2"/>
          <a:stretch/>
        </p:blipFill>
        <p:spPr>
          <a:xfrm>
            <a:off x="6048360" y="3995640"/>
            <a:ext cx="2592360" cy="2359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6" name="Picture 4" descr="C:\Users\Оксана\Desktop\Жар птица\IMG_9054.JPG"/>
          <p:cNvPicPr/>
          <p:nvPr/>
        </p:nvPicPr>
        <p:blipFill>
          <a:blip r:embed="rId3"/>
          <a:stretch/>
        </p:blipFill>
        <p:spPr>
          <a:xfrm>
            <a:off x="4968720" y="971640"/>
            <a:ext cx="3311640" cy="24350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7" name="Picture 5" descr="C:\Users\Оксана\Desktop\Жар птица\IMG_9055.JPG"/>
          <p:cNvPicPr/>
          <p:nvPr/>
        </p:nvPicPr>
        <p:blipFill>
          <a:blip r:embed="rId4"/>
          <a:stretch/>
        </p:blipFill>
        <p:spPr>
          <a:xfrm>
            <a:off x="1368360" y="900000"/>
            <a:ext cx="2376720" cy="3232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8" name="Прямоугольник 5" descr=""/>
          <p:cNvPicPr/>
          <p:nvPr/>
        </p:nvPicPr>
        <p:blipFill>
          <a:blip r:embed="rId5"/>
          <a:stretch/>
        </p:blipFill>
        <p:spPr>
          <a:xfrm>
            <a:off x="1359000" y="4248000"/>
            <a:ext cx="25365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6" descr=""/>
          <p:cNvPicPr/>
          <p:nvPr/>
        </p:nvPicPr>
        <p:blipFill>
          <a:blip r:embed="rId6"/>
          <a:stretch/>
        </p:blipFill>
        <p:spPr>
          <a:xfrm>
            <a:off x="5248440" y="3444840"/>
            <a:ext cx="3109680" cy="37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7"/>
          <a:stretch/>
        </p:blipFill>
        <p:spPr>
          <a:xfrm>
            <a:off x="2511360" y="6467400"/>
            <a:ext cx="1889280" cy="3780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8" descr=""/>
          <p:cNvPicPr/>
          <p:nvPr/>
        </p:nvPicPr>
        <p:blipFill>
          <a:blip r:embed="rId8"/>
          <a:stretch/>
        </p:blipFill>
        <p:spPr>
          <a:xfrm>
            <a:off x="6284880" y="6467400"/>
            <a:ext cx="232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07640" y="190800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-331920" algn="just">
              <a:lnSpc>
                <a:spcPct val="93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ыглядит жар-птица и какими характеристиками наделена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е в мифологии есть сказочные птицы похожие на Жар-птицу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ких  литературных произведениях  встречается Жар-птица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может быть объяснение появление мифологического образа Жар-птицы со стороны физических явлений природы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31920" algn="just">
              <a:lnSpc>
                <a:spcPct val="93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требован ли образ Жар-птицы в бытовой  и социальных сферах современного общества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79280" y="699840"/>
            <a:ext cx="7848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Проблемные вопросы учебной темы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Оксана\Desktop\Жар птица\IMG_9056.JPG"/>
          <p:cNvPicPr/>
          <p:nvPr/>
        </p:nvPicPr>
        <p:blipFill>
          <a:blip r:embed="rId1"/>
          <a:stretch/>
        </p:blipFill>
        <p:spPr>
          <a:xfrm>
            <a:off x="3816360" y="755640"/>
            <a:ext cx="2303280" cy="32893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3" name="Picture 3" descr="C:\Users\Оксана\Desktop\Жар птица\IMG_9057.JPG"/>
          <p:cNvPicPr/>
          <p:nvPr/>
        </p:nvPicPr>
        <p:blipFill>
          <a:blip r:embed="rId2"/>
          <a:stretch/>
        </p:blipFill>
        <p:spPr>
          <a:xfrm>
            <a:off x="863640" y="755640"/>
            <a:ext cx="2305080" cy="3171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4" name="Picture 6" descr="C:\Users\Оксана\Desktop\Жар птица\IMG_9060.JPG"/>
          <p:cNvPicPr/>
          <p:nvPr/>
        </p:nvPicPr>
        <p:blipFill>
          <a:blip r:embed="rId3"/>
          <a:stretch/>
        </p:blipFill>
        <p:spPr>
          <a:xfrm>
            <a:off x="6624720" y="755640"/>
            <a:ext cx="2303280" cy="327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5" name="Picture 5" descr="C:\Users\Оксана\Desktop\Жар птица\IMG_9064.JPG"/>
          <p:cNvPicPr/>
          <p:nvPr/>
        </p:nvPicPr>
        <p:blipFill>
          <a:blip r:embed="rId4"/>
          <a:stretch/>
        </p:blipFill>
        <p:spPr>
          <a:xfrm>
            <a:off x="5688000" y="4627440"/>
            <a:ext cx="2521080" cy="193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6" name="Picture 4" descr="C:\Users\Оксана\Desktop\Жар птица\IMG_9068.JPG"/>
          <p:cNvPicPr/>
          <p:nvPr/>
        </p:nvPicPr>
        <p:blipFill>
          <a:blip r:embed="rId5"/>
          <a:stretch/>
        </p:blipFill>
        <p:spPr>
          <a:xfrm>
            <a:off x="1655640" y="4500720"/>
            <a:ext cx="2347920" cy="2058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7" name="Прямоугольник 6" descr=""/>
          <p:cNvPicPr/>
          <p:nvPr/>
        </p:nvPicPr>
        <p:blipFill>
          <a:blip r:embed="rId6"/>
          <a:stretch/>
        </p:blipFill>
        <p:spPr>
          <a:xfrm>
            <a:off x="1170000" y="4095720"/>
            <a:ext cx="1573200" cy="37296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" descr=""/>
          <p:cNvPicPr/>
          <p:nvPr/>
        </p:nvPicPr>
        <p:blipFill>
          <a:blip r:embed="rId7"/>
          <a:stretch/>
        </p:blipFill>
        <p:spPr>
          <a:xfrm>
            <a:off x="3981600" y="4164120"/>
            <a:ext cx="203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9" descr=""/>
          <p:cNvPicPr/>
          <p:nvPr/>
        </p:nvPicPr>
        <p:blipFill>
          <a:blip r:embed="rId8"/>
          <a:stretch/>
        </p:blipFill>
        <p:spPr>
          <a:xfrm>
            <a:off x="6870600" y="4095720"/>
            <a:ext cx="1901880" cy="3729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0" descr=""/>
          <p:cNvPicPr/>
          <p:nvPr/>
        </p:nvPicPr>
        <p:blipFill>
          <a:blip r:embed="rId9"/>
          <a:stretch/>
        </p:blipFill>
        <p:spPr>
          <a:xfrm>
            <a:off x="1889280" y="6613560"/>
            <a:ext cx="1987560" cy="3729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1" descr=""/>
          <p:cNvPicPr/>
          <p:nvPr/>
        </p:nvPicPr>
        <p:blipFill>
          <a:blip r:embed="rId10"/>
          <a:stretch/>
        </p:blipFill>
        <p:spPr>
          <a:xfrm>
            <a:off x="5992920" y="6613560"/>
            <a:ext cx="204156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Оксана\Desktop\Жар птица\IMG_9061.JPG"/>
          <p:cNvPicPr/>
          <p:nvPr/>
        </p:nvPicPr>
        <p:blipFill>
          <a:blip r:embed="rId1"/>
          <a:stretch/>
        </p:blipFill>
        <p:spPr>
          <a:xfrm>
            <a:off x="6840360" y="826920"/>
            <a:ext cx="1944720" cy="2829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3" name="Picture 3" descr="C:\Users\Оксана\Desktop\Жар птица\IMG_9062.JPG"/>
          <p:cNvPicPr/>
          <p:nvPr/>
        </p:nvPicPr>
        <p:blipFill>
          <a:blip r:embed="rId2"/>
          <a:stretch/>
        </p:blipFill>
        <p:spPr>
          <a:xfrm>
            <a:off x="6985080" y="4356000"/>
            <a:ext cx="1584360" cy="2124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4" name="Picture 4" descr="C:\Users\Оксана\Desktop\Жар птица\IMG_9063.JPG"/>
          <p:cNvPicPr/>
          <p:nvPr/>
        </p:nvPicPr>
        <p:blipFill>
          <a:blip r:embed="rId3"/>
          <a:stretch/>
        </p:blipFill>
        <p:spPr>
          <a:xfrm>
            <a:off x="863640" y="826920"/>
            <a:ext cx="2305080" cy="31752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5" name="Picture 5" descr="C:\Users\Оксана\Desktop\Жар птица\IMG_9059.JPG"/>
          <p:cNvPicPr/>
          <p:nvPr/>
        </p:nvPicPr>
        <p:blipFill>
          <a:blip r:embed="rId4"/>
          <a:stretch/>
        </p:blipFill>
        <p:spPr>
          <a:xfrm>
            <a:off x="3745080" y="1332000"/>
            <a:ext cx="2627280" cy="3558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6" name="Picture 3" descr="C:\Users\Оксана\Desktop\Жар птица\IMG_9067.JPG"/>
          <p:cNvPicPr/>
          <p:nvPr/>
        </p:nvPicPr>
        <p:blipFill>
          <a:blip r:embed="rId5"/>
          <a:stretch/>
        </p:blipFill>
        <p:spPr>
          <a:xfrm>
            <a:off x="1295280" y="4500720"/>
            <a:ext cx="1513080" cy="2063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7" name="Прямоугольник 6" descr=""/>
          <p:cNvPicPr/>
          <p:nvPr/>
        </p:nvPicPr>
        <p:blipFill>
          <a:blip r:embed="rId6"/>
          <a:stretch/>
        </p:blipFill>
        <p:spPr>
          <a:xfrm>
            <a:off x="1023840" y="4022640"/>
            <a:ext cx="1927440" cy="37332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7" descr=""/>
          <p:cNvPicPr/>
          <p:nvPr/>
        </p:nvPicPr>
        <p:blipFill>
          <a:blip r:embed="rId7"/>
          <a:stretch/>
        </p:blipFill>
        <p:spPr>
          <a:xfrm>
            <a:off x="4059360" y="5029200"/>
            <a:ext cx="2023920" cy="37152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8" descr=""/>
          <p:cNvPicPr/>
          <p:nvPr/>
        </p:nvPicPr>
        <p:blipFill>
          <a:blip r:embed="rId8"/>
          <a:stretch/>
        </p:blipFill>
        <p:spPr>
          <a:xfrm>
            <a:off x="1030320" y="6686640"/>
            <a:ext cx="1968480" cy="3729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" descr=""/>
          <p:cNvPicPr/>
          <p:nvPr/>
        </p:nvPicPr>
        <p:blipFill>
          <a:blip r:embed="rId9"/>
          <a:stretch/>
        </p:blipFill>
        <p:spPr>
          <a:xfrm>
            <a:off x="6718320" y="3736800"/>
            <a:ext cx="205416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0" descr=""/>
          <p:cNvPicPr/>
          <p:nvPr/>
        </p:nvPicPr>
        <p:blipFill>
          <a:blip r:embed="rId10"/>
          <a:stretch/>
        </p:blipFill>
        <p:spPr>
          <a:xfrm>
            <a:off x="6784920" y="6613560"/>
            <a:ext cx="218772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Оксана\Desktop\Жар птица\IMG_9066.JPG"/>
          <p:cNvPicPr/>
          <p:nvPr/>
        </p:nvPicPr>
        <p:blipFill>
          <a:blip r:embed="rId1"/>
          <a:stretch/>
        </p:blipFill>
        <p:spPr>
          <a:xfrm>
            <a:off x="1655640" y="900000"/>
            <a:ext cx="2232000" cy="3008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3" name="Picture 5" descr="C:\Users\Оксана\Desktop\Жар птица\IMG_9069.JPG"/>
          <p:cNvPicPr/>
          <p:nvPr/>
        </p:nvPicPr>
        <p:blipFill>
          <a:blip r:embed="rId2"/>
          <a:stretch/>
        </p:blipFill>
        <p:spPr>
          <a:xfrm>
            <a:off x="5904000" y="826920"/>
            <a:ext cx="2232000" cy="30402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4" name="Picture 6" descr="C:\Users\Оксана\Desktop\IMG_9058.JPG"/>
          <p:cNvPicPr/>
          <p:nvPr/>
        </p:nvPicPr>
        <p:blipFill>
          <a:blip r:embed="rId3"/>
          <a:stretch/>
        </p:blipFill>
        <p:spPr>
          <a:xfrm>
            <a:off x="1152360" y="4427640"/>
            <a:ext cx="2880000" cy="2170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5" name="Прямоугольник 4" descr=""/>
          <p:cNvPicPr/>
          <p:nvPr/>
        </p:nvPicPr>
        <p:blipFill>
          <a:blip r:embed="rId4"/>
          <a:stretch/>
        </p:blipFill>
        <p:spPr>
          <a:xfrm>
            <a:off x="1749600" y="3949560"/>
            <a:ext cx="1968480" cy="37332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6" descr=""/>
          <p:cNvPicPr/>
          <p:nvPr/>
        </p:nvPicPr>
        <p:blipFill>
          <a:blip r:embed="rId5"/>
          <a:stretch/>
        </p:blipFill>
        <p:spPr>
          <a:xfrm>
            <a:off x="5851440" y="3949560"/>
            <a:ext cx="2170080" cy="3733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7" descr=""/>
          <p:cNvPicPr/>
          <p:nvPr/>
        </p:nvPicPr>
        <p:blipFill>
          <a:blip r:embed="rId6"/>
          <a:stretch/>
        </p:blipFill>
        <p:spPr>
          <a:xfrm>
            <a:off x="1536840" y="6613560"/>
            <a:ext cx="1908000" cy="372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203kab\Desktop\Жар птица 12\IMG_9135.JPG"/>
          <p:cNvPicPr/>
          <p:nvPr/>
        </p:nvPicPr>
        <p:blipFill>
          <a:blip r:embed="rId7"/>
          <a:stretch/>
        </p:blipFill>
        <p:spPr>
          <a:xfrm>
            <a:off x="4824360" y="4386240"/>
            <a:ext cx="1800360" cy="2489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9" name="Прямоугольник 9" descr=""/>
          <p:cNvPicPr/>
          <p:nvPr/>
        </p:nvPicPr>
        <p:blipFill>
          <a:blip r:embed="rId8"/>
          <a:stretch/>
        </p:blipFill>
        <p:spPr>
          <a:xfrm>
            <a:off x="6791400" y="6400800"/>
            <a:ext cx="20541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Подтверждение гипотезы</a:t>
            </a:r>
            <a:br>
              <a:rPr sz="3200"/>
            </a:b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2240" y="2138400"/>
            <a:ext cx="84060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В ходе нашего исследования и творческих работ наша гипотеза «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бражение мифологического образа жар-птицы востребовано в различных сферах современной жизни»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нашла своё подтверждени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Действительно, в современном обществе люди проявляют интерес к мифологическому образу Жар-птицы и используют его в различных сферах литературной, художественной  и хозяйственной деятельно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700200"/>
            <a:ext cx="7705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 создании проекта принимали участие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08000" y="1908000"/>
            <a:ext cx="7920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ченики 4 «А» класс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Харитонов Артем   Черных Надежда   Маринина Анн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Базин Антон   Сенаторова Виктория   Кулайн Наталия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Шуваева Милани    Москвина Софья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Хлопицын Михаил   Жуковская Виктория   Абрамова Ксения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Плотников Данила   Богомолова Владимир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Горельцев Евгений Лавриненко Игорь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Трунов Алексей   Фролова Татьяна Белозерцева Мария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классный руководитель Баранова Оксана Геннадиевн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9640" y="700200"/>
            <a:ext cx="770544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Использованные ресурсы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07640" y="2138400"/>
            <a:ext cx="777708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есурсы Интернет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ru.wikipedia.org/wiki/%C6%E0%F0-%EF%F2%E8%F6%E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ru.wikipedia.org/wiki/%D0%9F%D0%B0%D0%B2%D0%BB%D0%B8%D0%BD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ru.wikipedia.org/wiki/%D0%A4%D0%B5%D0%BD%D0%B8%D0%BA%D1%81(феникс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ctypa.ucoz.ru/publ/2-1-0-2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xlt.narod.ru/season02/fireball2.html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36720" y="826560"/>
            <a:ext cx="7991280" cy="6061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3000"/>
          </a:bodyPr>
          <a:p>
            <a:pPr marL="318960" indent="-31896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Каков внешний образ и психологический портрет Жар-птицы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Жар-птица, бесспорно, является образом мифологического существа. Причём истоки свои она берёт из Северо-Восточной Европы и Урала. Жар-птица — сказочная птица, персонаж русских сказок, обычно является целью поиска героя сказки. Перья жар-птицы обладают способностью светить и своим блеском поражают зрение человека. Жар-птица огненная птица, её перья блистают серебром и золотом, крылья как языки пламени, а глаза светятся как кристалл. По размерам она достигает павлина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Живёт Жар-птица в райском саду Ирии, в золотой клетке. По ночам вылетает из неё и освещает сад собою так ярко, как тысячи зажжённых огней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Каждый год, осенью, Жар-птица умирает, а весной возрождается. Иногда можно найти выпавшее перо из хвоста Жар-птицы, внесенное в тёмную комнату, оно заменит самое богатое освещение. Со временем такое перо превращается в золотое. Для ловли Жар-птицы используют золотую клетку с яблоками внутри, как ловушку. Поймать голыми руками её нельзя, так как можно обжечься об её оперение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Жар-птица питается золотыми яблоками, дающими молодость, красоту и бессмертие; когда она поёт, из её клюва сыплются жемчуга. Пение жар-птицы исцеляет больных и возвращает зрение слепым.  Жар-птица воплощает мечту о счастье. Найти её или взять светящееся перо Жар-птицы – значит поймать удачу за хвост. Часто, Жар-птица именуется в народе как Огненный Дух. Мифологи (Афанасьев) объясняли жар-птицу в виде олицетворения огня, света, солнца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08000" y="826560"/>
            <a:ext cx="7920000" cy="6061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Какие сказочные птицы встречаются в мифологии других народо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b050"/>
                </a:solidFill>
                <a:latin typeface="Arial"/>
              </a:rPr>
              <a:t>   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Прототипом Жар-птицы является павлин. </a:t>
            </a: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Павли́ны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— род крупных птиц из фазановых. Удлинённый хвост       павлинов плоский. Молодильные яблоки, в свою очередь, можно сопоставить с плодами гранатового дерева, излюбленного лакомства Фениксо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Жар-птицу можно сопоставить со средневековыми, очень популярными и в русской, и в западноевропейской литературе рассказами о птице Феникса, возрождающейся из пепла. </a:t>
            </a: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Фе́никс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- мифологическая обладающая способностью сжигать себя и затем возрождаться. Считалось, что феникс имеет внешний вид, похожий на орла с ярко-красным или золотисто-красным оперением. Предвидя смерть, сжигает себя в собственном гнезде, а из пепла появляется птенец. По другим версиям мифа, из пепла возрождается сам Феникс. Обычно считалось, что Феникс - единственная, уникальная особь своего вида. В  метафорическом аспекте феникс - символом вечного обновления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Симург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- (дословно «вершинник», «птица с вершины дерева/горы») - фантастическое существо в иранской    мифологии, царь всех птиц. Также известно в мифологии тюркоязычных народов Средней Азии и Поволжья. Образ Симург имеет различную трактовку. Чаще она воспринимается как вещая птица справедливости и счастья, но в некоторых мифах она является сторожем, восседающем на горе, отделяющей потусторонний мир. Симург обладал функцией благого покровителя отдельных людей и особенно человеческих коллективов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В буддийской мифологии -</a:t>
            </a: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 Гаруда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изображается существом с человеческим туловищем и орлиной головой, крыльями, когтями и клювом. Впервые изображения Гаруды появляются на индийских монетах IV-V вв. В дальнейшем они становятся необходимой принадлежностью любого вишнуитского храма. Птица Жизни иногда идентифицируется с Фениксом. Она выходит из яйца уже взрослой и гнездится в Древе Жизни, выполняющем все желания. Воюет с Нагами. В индийской мифологии змеи, которые часто принимают человеческий облик. В "Руководстве по индийскому буддизму" его исследователь А. Керн определяет нагов как похожих на облака змей, которые живут глубоко под землей в подземных дворцах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Есть у Жар-птицы и "родственнички" - словацкая “</a:t>
            </a: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птица-огневик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”, правда она, в отличие от нашей Жар-птицы которая зла не несет, является одним из воплощений зла и уподобившись Дракону, ворует детей и прекрасных девиц и уносит их в дали несусветные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1" i="1" lang="ru-RU" sz="1100" spc="-1" strike="noStrike">
                <a:solidFill>
                  <a:srgbClr val="c00000"/>
                </a:solidFill>
                <a:latin typeface="Arial"/>
              </a:rPr>
              <a:t>Рарог </a:t>
            </a:r>
            <a:r>
              <a:rPr b="0" i="1" lang="ru-RU" sz="1100" spc="-1" strike="noStrike">
                <a:solidFill>
                  <a:srgbClr val="c00000"/>
                </a:solidFill>
                <a:latin typeface="Arial"/>
              </a:rPr>
              <a:t>- светозарный огненосный дух, связанный с древним поклонением огню, домашнему очагу. Согласно чешским повериям, Рарог может появиться на свет из яйца, которое девять дней и ночей человек высиживает на печи. Рарога представляли в виде хищной птицы с искрящимися, пламенеющими перьями, вызывающимся из клюва пламенем - или просто в виде огненного вихря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741240" y="700200"/>
            <a:ext cx="8605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Жар - пт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079640" y="161928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Жар-птица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-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огненная птица, её перья блистают серебром и золотом, крылья как языки пламени, а глаза светятся как кристал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Жар-птица воплощает мечту о счастье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Поймать Жар-птицу может только сильный духом и добры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й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 нравом человек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Если же кто-либо хоче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т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воспользоваться е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ю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 ради корысти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 только беду получит взамен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В волшебных сказках Жар-птица всегда является недосягаемым существ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79640" y="4067280"/>
            <a:ext cx="3960720" cy="273672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4000" y="699840"/>
            <a:ext cx="74167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Павлин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640" y="1547640"/>
            <a:ext cx="770544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6000"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авлины – род крупных птиц. Благодаря пышному, распускаемому веером глазчатому «хвосту» павлин известен как самая красивая птица среди курообразных. Павлины запечатлены во многих произведениях искусства Востока и Запада, в официальной и коммерческой символике. Павлином названо созвездие Южного полушария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2240" y="4622760"/>
            <a:ext cx="841212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168720" y="3492360"/>
            <a:ext cx="3959280" cy="299736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4920" y="699840"/>
            <a:ext cx="7021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Феникс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08000" y="161928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3372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Фе́никс – мифологическая птица. Предвидя смерть, сжигает себя в собственном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гнезде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, а из пепла появляется птенец. По другим версиям мифа, из пепла возрождается сам Феникс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3372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В  метафорическом аспекте феникс - символом вечного обновления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735280" y="3274920"/>
            <a:ext cx="4896000" cy="326556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741240" y="700200"/>
            <a:ext cx="8605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Симу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5133960" y="1619280"/>
            <a:ext cx="41068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Симург - (дословно «вершинник», «птица с вершины дерева/горы») - фантастическое существо в иранской мифологии, царь всех п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Чаще она воспринимается как вещая птица справедливости и счастья, но в некоторых мифах она является сторожем, восседающ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м на горе, отделяющей потусторонний м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79640" y="2700360"/>
            <a:ext cx="3779640" cy="2989080"/>
          </a:xfrm>
          <a:prstGeom prst="rect">
            <a:avLst/>
          </a:prstGeom>
          <a:ln w="76320">
            <a:solidFill>
              <a:srgbClr val="ff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3:34:50Z</dcterms:created>
  <dc:creator/>
  <dc:description/>
  <dc:language>en-US</dc:language>
  <cp:lastModifiedBy>Оксана</cp:lastModifiedBy>
  <dcterms:modified xsi:type="dcterms:W3CDTF">2012-10-08T16:50:07Z</dcterms:modified>
  <cp:revision>43</cp:revision>
  <dc:subject/>
  <dc:title>Учебный исследовательский проект с элементами творчества «Жар – птица»</dc:title>
</cp:coreProperties>
</file>