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31E-866C-49A1-8331-01F9C23C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E80-05C2-4DD2-A2F7-17C707B9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333-E71E-447A-9792-7B3C8500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C63B-8C0C-4D1E-8855-DABE0689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8DD8-F097-4E1C-92A4-6DCCC3D4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5B3E-A9BE-47A9-BCAF-24C7609F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EF3E-FBD4-4CB7-AF87-F0B6AB12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AE64-F3D7-4A2D-87B8-46998D95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FC91-8E53-4E76-AA63-AB08C3CF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11E3-1147-4E1F-B0BE-59B9A80F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F782-AD76-49DA-96B1-C1A779D2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656-4BCF-42A8-A151-ED86943A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D983-216A-442E-942A-CCA58AEF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47C2-4F8E-4C62-B9B7-8B444076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BE04-8179-4406-9A8D-0DF48E29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BB82-211E-48ED-80B4-D64B8A48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C2C0-C91B-4285-9E7D-371EEBDB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FBCD-8B87-4355-B19A-26F4B684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71A-9E10-4EAD-A9F9-275A04B7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F0CB-210E-40E9-B579-56FE0DE6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B2B1-A162-471B-95FB-2D6B1DBF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6A15-A84C-4BFF-83DD-D355CC3B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20F-FF23-4BC0-ABF7-A037197B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096-62FA-4DF1-91E9-2C332497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1964-4C58-4C16-B4AD-338E4DE2EBF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1C04-822F-4816-B7DD-8F78C89A43E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68000" y="278136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00000"/>
                </a:solidFill>
                <a:latin typeface="Comic Sans MS"/>
              </a:rPr>
              <a:t>Родительское собрание по теме: «Основные вопросы проведения государственной итоговой аттестации выпускников 9-х классов»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c000"/>
                </a:solidFill>
                <a:latin typeface="Comic Sans MS"/>
              </a:rPr>
              <a:t>2012-2013 учебный год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Подзаголовок 2"/>
          <p:cNvSpPr/>
          <p:nvPr/>
        </p:nvSpPr>
        <p:spPr>
          <a:xfrm>
            <a:off x="250920" y="11592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Муниципальное бюджетное  общеобразовательное учреждение – средняя общеобразовательная школа №6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900000" y="1341360"/>
            <a:ext cx="7201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Для участия в ГИА-2013 выпускникам 9 классов необходимо не позднее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марта  </a:t>
            </a:r>
            <a:r>
              <a:rPr b="1" lang="en-US" sz="40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написать соответствующее заявление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5867280" y="1052640"/>
          <a:ext cx="2448000" cy="697968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41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500" spc="-1" strike="noStrike" u="sng">
                          <a:solidFill>
                            <a:srgbClr val="6231b9"/>
                          </a:solidFill>
                          <a:uFillTx/>
                          <a:latin typeface="Times New Roman"/>
                          <a:ea typeface="Times New Roman"/>
                        </a:rPr>
                        <a:t>в новой форм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6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6231b9"/>
                          </a:solidFill>
                          <a:latin typeface="Times New Roman"/>
                          <a:ea typeface="Times New Roman"/>
                        </a:rPr>
                        <a:t>по текстам Рособрнадзора</a:t>
                      </a:r>
                      <a:r>
                        <a:rPr b="0" lang="ru-RU" sz="2000" spc="-1" strike="noStrike">
                          <a:solidFill>
                            <a:srgbClr val="6231b9"/>
                          </a:solidFill>
                          <a:latin typeface="Times New Roman"/>
                          <a:ea typeface="Times New Roman"/>
                        </a:rPr>
                        <a:t> – обществознание, история, география, химия, физика, биология, иностранные   языки, литература, информатика и ИКТ </a:t>
                      </a:r>
                      <a:r>
                        <a:rPr b="0" i="1" lang="ru-RU" sz="2000" spc="-1" strike="noStrike">
                          <a:solidFill>
                            <a:srgbClr val="6231b9"/>
                          </a:solidFill>
                          <a:latin typeface="Times New Roman"/>
                          <a:ea typeface="Times New Roman"/>
                        </a:rPr>
                        <a:t>по текстам ТЭК</a:t>
                      </a:r>
                      <a:r>
                        <a:rPr b="0" lang="ru-RU" sz="2000" spc="-1" strike="noStrike">
                          <a:solidFill>
                            <a:srgbClr val="6231b9"/>
                          </a:solidFill>
                          <a:latin typeface="Times New Roman"/>
                          <a:ea typeface="Times New Roman"/>
                        </a:rPr>
                        <a:t> – ОБЖ, физическая культура, МХ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2"/>
          <p:cNvSpPr/>
          <p:nvPr/>
        </p:nvSpPr>
        <p:spPr>
          <a:xfrm>
            <a:off x="468360" y="23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332000" y="224280"/>
            <a:ext cx="6912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Constantia"/>
                <a:ea typeface="Times New Roman"/>
              </a:rPr>
              <a:t>Э</a:t>
            </a:r>
            <a:r>
              <a:rPr b="1" lang="en-US" sz="2400" spc="-1" strike="noStrike">
                <a:solidFill>
                  <a:srgbClr val="21b2c9"/>
                </a:solidFill>
                <a:latin typeface="Candara"/>
                <a:ea typeface="Times New Roman"/>
              </a:rPr>
              <a:t>кзамены по выбору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172" name="Прямая со стрелкой 7"/>
          <p:cNvCxnSpPr>
            <a:stCxn id="171" idx="2"/>
          </p:cNvCxnSpPr>
          <p:nvPr/>
        </p:nvCxnSpPr>
        <p:spPr>
          <a:xfrm flipH="1">
            <a:off x="3348000" y="1017720"/>
            <a:ext cx="1440360" cy="180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73" name="Прямая со стрелкой 9"/>
          <p:cNvCxnSpPr>
            <a:stCxn id="171" idx="2"/>
          </p:cNvCxnSpPr>
          <p:nvPr/>
        </p:nvCxnSpPr>
        <p:spPr>
          <a:xfrm>
            <a:off x="4788000" y="1017720"/>
            <a:ext cx="1224720" cy="180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174" name="Picture 4" descr="русский"/>
          <p:cNvPicPr/>
          <p:nvPr/>
        </p:nvPicPr>
        <p:blipFill>
          <a:blip r:embed="rId1"/>
          <a:stretch/>
        </p:blipFill>
        <p:spPr>
          <a:xfrm>
            <a:off x="3492360" y="1628640"/>
            <a:ext cx="2230560" cy="295128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14"/>
          <p:cNvSpPr/>
          <p:nvPr/>
        </p:nvSpPr>
        <p:spPr>
          <a:xfrm>
            <a:off x="179280" y="112536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55640" y="692280"/>
          <a:ext cx="2448000" cy="784836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500" spc="-1" strike="noStrike" u="sng">
                          <a:solidFill>
                            <a:srgbClr val="703dff"/>
                          </a:solidFill>
                          <a:uFillTx/>
                          <a:latin typeface="Times New Roman"/>
                          <a:ea typeface="Times New Roman"/>
                        </a:rPr>
                        <a:t>в традиционной форм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0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литература, иностранный язык, информатика и ИКТ, история, обществознание, география, физика, химия, биология, искусство, физическая культура, ОБЖ, кубанове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роки проведения экзамен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срочный( не позднее 20 апреля),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новной ( в сроки утвержденные Минобрнауки Краснодарского края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полнительны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611280" y="-282600"/>
            <a:ext cx="7848360" cy="73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ДОСРОЧНАЯ СДАЧА ГИА-9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только в традиционной форме</a:t>
            </a: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Право на досрочную сдачу экзаменов, но не ранее 20 апреля имеют выпускники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539640" algn="just"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571680"/>
                <a:tab algn="l" pos="76212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выезжающие на учебно-тренировочные сборы кандидатов в сборные команды  Российской Федерации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539640" algn="just"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571680"/>
                <a:tab algn="l" pos="76212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выезжающие на международные олимпиады школьнико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539640" algn="just"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571680"/>
                <a:tab algn="l" pos="76212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выезжающие на российские или международные спортивные соревнования, конкурсы, смотры, олимпиады и  тренировочные сборы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539640" algn="just"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571680"/>
                <a:tab algn="l" pos="76212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выезжающие на постоянное место жительства за рубеж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539640" algn="just"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571680"/>
                <a:tab algn="l" pos="76212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направляемые по медицинским показаниям в лечебно-профилактические и иные учреждения для проведени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лечебно-оздоровительных и реабилитационных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       </a:t>
            </a: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мероприятий в период проведения государственно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(итоговой) аттестаци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2090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Расписание экзаменов в 2012-2013 учебном год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b2c9"/>
                </a:solidFill>
                <a:latin typeface="Comic Sans MS"/>
              </a:rPr>
              <a:t>Обязательны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b2c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b2c9"/>
                </a:solidFill>
                <a:latin typeface="Comic Sans MS"/>
              </a:rPr>
              <a:t>28 мая (вторник) — математика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b2c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b2c9"/>
                </a:solidFill>
                <a:latin typeface="Comic Sans MS"/>
              </a:rPr>
              <a:t>4 июня (вторник) — русский язык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08000" y="1828800"/>
            <a:ext cx="5111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b2c9"/>
                </a:solidFill>
                <a:latin typeface="Comic Sans MS"/>
              </a:rPr>
              <a:t>По выбор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21b2c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b2c9"/>
                </a:solidFill>
                <a:latin typeface="Comic Sans MS"/>
              </a:rPr>
              <a:t>31 мая (пятница) — история России, физика, обществознание, химия, география, биология, иностранные языки (английский, французский, немецкий, испанский), литература, информатика и ИКТ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21b2c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b2c9"/>
                </a:solidFill>
                <a:latin typeface="Comic Sans MS"/>
              </a:rPr>
              <a:t>7 июня (пятница) — история России, обществознание, физика, химия, география, биология, иностранные языки, литература, информатика и ИКТ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21b2c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b2c9"/>
                </a:solidFill>
                <a:latin typeface="Comic Sans MS"/>
              </a:rPr>
              <a:t>11 июня (вторник) — резервный день: математика, история России, география, биология, физика, иностранные язык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21b2c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b2c9"/>
                </a:solidFill>
                <a:latin typeface="Comic Sans MS"/>
              </a:rPr>
              <a:t>14 июня (пятница) — резервный день: русский язык, обществознание, химия, информатика и ИКТ, литератур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1143000" y="3778920"/>
            <a:ext cx="72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08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8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15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ПОВТОРНАЯ ГОСУДАРСТВЕННАЯ (ИТОГОВАЯ) АТТЕСТАЦИ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b2c9"/>
                </a:solidFill>
                <a:latin typeface="Comic Sans MS"/>
              </a:rPr>
              <a:t>1. Выпускники IX классов, получившие на государственной (итоговой) аттестации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не более двух неудовлетворительных отметок</a:t>
            </a:r>
            <a:r>
              <a:rPr b="1" lang="en-US" sz="2000" spc="-1" strike="noStrike">
                <a:solidFill>
                  <a:srgbClr val="21b2c9"/>
                </a:solidFill>
                <a:latin typeface="Comic Sans MS"/>
              </a:rPr>
              <a:t>, допускаются к повторной государственной (итоговой) аттестации по этим предмета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b2c9"/>
                </a:solidFill>
                <a:latin typeface="Comic Sans MS"/>
              </a:rPr>
              <a:t>2. Выпускник вправе выбрать форму повторной государственной (итоговой) аттестации как новую, так и традиционную и указать форму повторной сдачи экзамена в заявлен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b2c9"/>
                </a:solidFill>
                <a:latin typeface="Comic Sans MS"/>
              </a:rPr>
              <a:t>3. Повторная государственная (итоговая) аттестация проводится до начала нового учебного года в сроки, устанавливаемые министерством образования и науки Краснодарского кра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7696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Выпускникам 9 классов, прошедшим государственную (итоговую) аттестацию (ГИА), выдается документ государственного образца –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ттестат об основном общем образова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В аттестат выставляются итоговые отметки по предметам, которые изучались выпускником в классах второй ступени общего образования. Итоговая отметка определяется на основании годовой и экзаменационной отметки с учетом четвертных или полугодовых отметок, а также фактической подготовки выпускни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Выпускникам 9 класса, имеющим итоговые отметки "5", выдается аттестат об основно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             </a:t>
            </a: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общем образован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                     </a:t>
            </a:r>
            <a:r>
              <a:rPr b="1" lang="en-US" sz="2400" spc="-1" strike="noStrike">
                <a:solidFill>
                  <a:srgbClr val="7030a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особого образца</a:t>
            </a:r>
            <a:r>
              <a:rPr b="1" lang="en-US" sz="2400" spc="-1" strike="noStrike">
                <a:solidFill>
                  <a:srgbClr val="7030a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0564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Учащиеся 9 классов, не допущенные или не прошедшие ГИА, по усмотрению родителей или законных представителей оставляются на повторное обучение или получают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справку об обучении установленного образц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Лицам, получившим справку, через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год </a:t>
            </a: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предоставляется право пройти государственную (итоговую) аттестацию в форме экстерната. При этом ранее проходившие ГИА сдают экзамены по тем предметам, по которым в справке выставлены неудовлетворительные отмет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Если выпускник 9 класса не прошел ГИА, он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        </a:t>
            </a: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оставляется на повторное обучение, 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сможет пройти ГИА на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следующий го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440" y="404640"/>
            <a:ext cx="80629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Залогом успешной сдачи экзамена является качественное освоение школьной программы, повторение и систематизация изученных в 5-9 классах тем по предметам, развитие различных умений (читать и анализировать содержание текста, решать задачи и т.п.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706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706d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3706d"/>
                </a:solidFill>
                <a:latin typeface="Comic Sans MS"/>
              </a:rPr>
              <a:t>Перед экзаменом ознакомиться с демонстрационными вариантами КИМ,</a:t>
            </a:r>
            <a:r>
              <a:rPr b="1" i="1" lang="en-US" sz="2800" spc="-1" strike="noStrike">
                <a:solidFill>
                  <a:srgbClr val="03706d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3706d"/>
                </a:solidFill>
                <a:latin typeface="Comic Sans MS"/>
              </a:rPr>
              <a:t>изучить все содержащиеся в них инструкции, чтобы хорошо понимать, сколько времени отведено на работу, в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706d"/>
                </a:solidFill>
                <a:latin typeface="Comic Sans MS"/>
              </a:rPr>
              <a:t>             </a:t>
            </a:r>
            <a:r>
              <a:rPr b="1" lang="en-US" sz="2800" spc="-1" strike="noStrike">
                <a:solidFill>
                  <a:srgbClr val="03706d"/>
                </a:solidFill>
                <a:latin typeface="Comic Sans MS"/>
              </a:rPr>
              <a:t>каком порядке выполня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706d"/>
                </a:solidFill>
                <a:latin typeface="Comic Sans MS"/>
              </a:rPr>
              <a:t>           </a:t>
            </a:r>
            <a:r>
              <a:rPr b="1" lang="en-US" sz="2800" spc="-1" strike="noStrike">
                <a:solidFill>
                  <a:srgbClr val="03706d"/>
                </a:solidFill>
                <a:latin typeface="Comic Sans MS"/>
              </a:rPr>
              <a:t>задания, как записывать ответ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250920" y="189000"/>
            <a:ext cx="8785080" cy="8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Aft>
                <a:spcPts val="1001"/>
              </a:spcAft>
              <a:buClr>
                <a:srgbClr val="333333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140000"/>
              </a:lnSpc>
              <a:spcAft>
                <a:spcPts val="1001"/>
              </a:spcAft>
              <a:buClr>
                <a:srgbClr val="333333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684360" y="1509480"/>
            <a:ext cx="845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57e9b"/>
                </a:solidFill>
                <a:latin typeface="Arial"/>
                <a:ea typeface="Times New Roman"/>
              </a:rPr>
              <a:t>Вы экзамена не бойтесь,</a:t>
            </a:r>
            <a:br>
              <a:rPr sz="2800"/>
            </a:br>
            <a:r>
              <a:rPr b="1" i="1" lang="en-US" sz="2800" spc="-1" strike="noStrike">
                <a:solidFill>
                  <a:srgbClr val="457e9b"/>
                </a:solidFill>
                <a:latin typeface="Arial"/>
                <a:ea typeface="Times New Roman"/>
              </a:rPr>
              <a:t>Сосредоточьтесь, успокойтесь!</a:t>
            </a:r>
            <a:br>
              <a:rPr sz="2800"/>
            </a:br>
            <a:r>
              <a:rPr b="1" i="1" lang="en-US" sz="2800" spc="-1" strike="noStrike">
                <a:solidFill>
                  <a:srgbClr val="457e9b"/>
                </a:solidFill>
                <a:latin typeface="Arial"/>
                <a:ea typeface="Times New Roman"/>
              </a:rPr>
              <a:t>И шпаргалку не пишите,</a:t>
            </a:r>
            <a:br>
              <a:rPr sz="2800"/>
            </a:br>
            <a:r>
              <a:rPr b="1" i="1" lang="en-US" sz="2800" spc="-1" strike="noStrike">
                <a:solidFill>
                  <a:srgbClr val="457e9b"/>
                </a:solidFill>
                <a:latin typeface="Arial"/>
                <a:ea typeface="Times New Roman"/>
              </a:rPr>
              <a:t>Лучше  больше поучите!</a:t>
            </a:r>
            <a:br>
              <a:rPr sz="2800"/>
            </a:br>
            <a:r>
              <a:rPr b="1" i="1" lang="en-US" sz="2800" spc="-1" strike="noStrike">
                <a:solidFill>
                  <a:srgbClr val="457e9b"/>
                </a:solidFill>
                <a:latin typeface="Arial"/>
                <a:ea typeface="Times New Roman"/>
              </a:rPr>
              <a:t>Все пройдет тогда  на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«5»,</a:t>
            </a:r>
            <a:br>
              <a:rPr sz="2800"/>
            </a:br>
            <a:r>
              <a:rPr b="1" i="1" lang="en-US" sz="2800" spc="-1" strike="noStrike" u="sng">
                <a:solidFill>
                  <a:srgbClr val="457e9b"/>
                </a:solidFill>
                <a:uFillTx/>
                <a:latin typeface="Arial"/>
                <a:ea typeface="Times New Roman"/>
              </a:rPr>
              <a:t>Старайтесь это выполнять!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1042920" y="412560"/>
            <a:ext cx="676908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И в  конце,  маленький совет, который можно дать своим детям.</a:t>
            </a:r>
            <a:br>
              <a:rPr sz="12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539640" y="692280"/>
            <a:ext cx="806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Цель  собрания: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знакомить родителей с основными вопросами  проведения государственной итоговой аттестации выпускников 9-х классов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ъяснить основные понятия  ГИА – 9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влечь внимания родителей к подготовке учащихся к ГИА, повышение уровня участия родительского актива в жизни класс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250920" y="1341360"/>
            <a:ext cx="8208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Рассматриваемые вопросы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Формы проведения экзаменов (традиционная, новая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Число экзаменов (обязательные экзамены и экзамены по выбору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Порядок и сроки подачи заявления о выборе предмет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Сроки проведения ГИА-9 (досрочный, основной и дополнительный периоды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4"/>
          <p:cNvSpPr/>
          <p:nvPr/>
        </p:nvSpPr>
        <p:spPr>
          <a:xfrm>
            <a:off x="395280" y="404640"/>
            <a:ext cx="7848720" cy="75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b2c9"/>
                </a:solidFill>
                <a:latin typeface="Garamond"/>
                <a:ea typeface="Times New Roman"/>
              </a:rPr>
              <a:t>С 2004 года в Российской Федерации проводится государственная (итоговая) аттестация (ГИА) выпускников 9-х классов в новой форме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b2c9"/>
                </a:solidFill>
                <a:latin typeface="Garamond"/>
                <a:ea typeface="Times New Roman"/>
              </a:rPr>
              <a:t>Основным </a:t>
            </a:r>
            <a:r>
              <a:rPr b="1" i="1" lang="en-US" sz="2800" spc="-1" strike="noStrike">
                <a:solidFill>
                  <a:srgbClr val="703dff"/>
                </a:solidFill>
                <a:latin typeface="Constantia"/>
                <a:ea typeface="Times New Roman"/>
              </a:rPr>
              <a:t>отличием</a:t>
            </a:r>
            <a:r>
              <a:rPr b="1" lang="en-US" sz="2800" spc="-1" strike="noStrike">
                <a:solidFill>
                  <a:srgbClr val="21b2c9"/>
                </a:solidFill>
                <a:latin typeface="Garamond"/>
                <a:ea typeface="Times New Roman"/>
              </a:rPr>
              <a:t> новой формы аттестации от традиционных экзаменов является то, что она предполагает в качестве итога получение </a:t>
            </a:r>
            <a:r>
              <a:rPr b="1" i="1" lang="en-US" sz="2800" spc="-1" strike="noStrike">
                <a:solidFill>
                  <a:srgbClr val="703dff"/>
                </a:solidFill>
                <a:latin typeface="Garamond"/>
                <a:ea typeface="Times New Roman"/>
              </a:rPr>
              <a:t>независимой «внешней» оценки качест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dff"/>
                </a:solidFill>
                <a:latin typeface="Garamond"/>
                <a:ea typeface="Times New Roman"/>
              </a:rPr>
              <a:t>               </a:t>
            </a:r>
            <a:r>
              <a:rPr b="1" i="1" lang="en-US" sz="2800" spc="-1" strike="noStrike">
                <a:solidFill>
                  <a:srgbClr val="703dff"/>
                </a:solidFill>
                <a:latin typeface="Garamond"/>
                <a:ea typeface="Times New Roman"/>
              </a:rPr>
              <a:t>подготовки выпускников 9-х классов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3"/>
          <p:cNvSpPr/>
          <p:nvPr/>
        </p:nvSpPr>
        <p:spPr>
          <a:xfrm>
            <a:off x="395280" y="404640"/>
            <a:ext cx="8497800" cy="70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Ы ГОСУДАРСТВЕННО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ИТОГОВОЙ) АТТЕСТАЦИ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УСКНИКОВ 9-Х КЛАСС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b2c9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1b2c9"/>
                </a:solidFill>
                <a:uFillTx/>
                <a:latin typeface="Constantia"/>
              </a:rPr>
              <a:t>традиционная</a:t>
            </a:r>
            <a:r>
              <a:rPr b="1" lang="en-US" sz="2800" spc="-1" strike="noStrike">
                <a:solidFill>
                  <a:srgbClr val="21b2c9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21b2c9"/>
                </a:solidFill>
                <a:latin typeface="Constantia"/>
              </a:rPr>
              <a:t>– организуется и проводится экзаменационными комиссиями общеобразовательных учреждений Краснодарского края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b2c9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1b2c9"/>
                </a:solidFill>
                <a:uFillTx/>
                <a:latin typeface="Constantia"/>
              </a:rPr>
              <a:t> </a:t>
            </a:r>
            <a:r>
              <a:rPr b="1" i="1" lang="en-US" sz="2800" spc="-1" strike="noStrike" u="sng">
                <a:solidFill>
                  <a:srgbClr val="21b2c9"/>
                </a:solidFill>
                <a:uFillTx/>
                <a:latin typeface="Constantia"/>
              </a:rPr>
              <a:t>новая форма</a:t>
            </a:r>
            <a:r>
              <a:rPr b="1" lang="en-US" sz="2800" spc="-1" strike="noStrike">
                <a:solidFill>
                  <a:srgbClr val="21b2c9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21b2c9"/>
                </a:solidFill>
                <a:latin typeface="Constantia"/>
              </a:rPr>
              <a:t>- организуется и проводится министерством образования и науки Краснодарского края с участием территориальны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b2c9"/>
                </a:solidFill>
                <a:latin typeface="Constantia"/>
              </a:rPr>
              <a:t>                       </a:t>
            </a:r>
            <a:r>
              <a:rPr b="0" lang="en-US" sz="2800" spc="-1" strike="noStrike">
                <a:solidFill>
                  <a:srgbClr val="21b2c9"/>
                </a:solidFill>
                <a:latin typeface="Constantia"/>
              </a:rPr>
              <a:t>экзаменационных комисси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324000" y="765000"/>
            <a:ext cx="856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ОРГАНИЗАЦИЯ ГИА-9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Для организации и проведения ГИА-9 ежегодно</a:t>
            </a:r>
            <a:r>
              <a:rPr b="0" lang="en-US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создаются</a:t>
            </a:r>
            <a:r>
              <a:rPr b="0" lang="en-US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экзаменационные комиссии (региональные, территориальные, школьные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предметные комиссии (региональные, территориальные, школьные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конфликтные комиссии (региональные, территориальные, школьные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Государственная (итоговая) аттестация выпускников 9-х классов по всем общеобразовательным предметам, за исключением иностранных языко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4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проводится на русском язык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287280" y="1197000"/>
            <a:ext cx="817236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Результаты ГИА в новой форме могут быть использованы как для аттестации выпускников за курс основной школы, так и для выявления учащихся, наиболее подготовленных к обучению в профильных классах старшей школы.</a:t>
            </a:r>
            <a:r>
              <a:rPr b="0" lang="ru-RU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Порядке приема граждан в учреждения СПО предусмотрено право ССуза учитывать результаты    ГИА-2013   выпускников    9 класс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2"/>
          <p:cNvSpPr/>
          <p:nvPr/>
        </p:nvSpPr>
        <p:spPr>
          <a:xfrm>
            <a:off x="395280" y="927000"/>
            <a:ext cx="842472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 ГИА-2013 выпускников 9-х классов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4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ускаютс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- выпускники 9-х классов ОУ РФ, имеющие годовые отметки по всем общеобразовательным предметам учебного плана за 9 класс не ниже удовлетворительных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- обучающиеся, имеющие неудовлетворительную годовую отметку по одному предмету учебного плана за 9 класс с обязательной сдачей экзамена по этому предмет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AutoShape 1"/>
          <p:cNvGrpSpPr/>
          <p:nvPr/>
        </p:nvGrpSpPr>
        <p:grpSpPr>
          <a:xfrm>
            <a:off x="900000" y="2133720"/>
            <a:ext cx="7451640" cy="1334520"/>
            <a:chOff x="900000" y="2133720"/>
            <a:chExt cx="7451640" cy="1334520"/>
          </a:xfrm>
        </p:grpSpPr>
        <p:pic>
          <p:nvPicPr>
            <p:cNvPr id="160" name="AutoShape 1" descr=""/>
            <p:cNvPicPr/>
            <p:nvPr/>
          </p:nvPicPr>
          <p:blipFill>
            <a:blip r:embed="rId1"/>
            <a:stretch/>
          </p:blipFill>
          <p:spPr>
            <a:xfrm>
              <a:off x="900000" y="2133720"/>
              <a:ext cx="7451640" cy="133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041840" y="2226960"/>
              <a:ext cx="7169040" cy="10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1b2c9"/>
                  </a:solidFill>
                  <a:latin typeface="Arial"/>
                  <a:ea typeface="Times New Roman"/>
                </a:rPr>
                <a:t>два письменных экзамена</a:t>
              </a: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1b2c9"/>
                  </a:solidFill>
                  <a:latin typeface="Arial"/>
                  <a:ea typeface="Times New Roman"/>
                </a:rPr>
                <a:t>по русскому языку и математике </a:t>
              </a:r>
              <a:r>
                <a:rPr b="1" lang="en-US" sz="2400" spc="-1" strike="noStrike">
                  <a:solidFill>
                    <a:srgbClr val="21b2c9"/>
                  </a:solidFill>
                  <a:latin typeface="Arial"/>
                  <a:ea typeface="Times New Roman"/>
                </a:rPr>
                <a:t>в новой форме</a:t>
              </a: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6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84360" y="479520"/>
            <a:ext cx="792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ускники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X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класса обще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дают не менее 4-х экзаменов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Умножение 9"/>
          <p:cNvSpPr/>
          <p:nvPr/>
        </p:nvSpPr>
        <p:spPr>
          <a:xfrm rot="18817800">
            <a:off x="4595400" y="3557520"/>
            <a:ext cx="573120" cy="509760"/>
          </a:xfrm>
          <a:custGeom>
            <a:avLst/>
            <a:gdLst>
              <a:gd name="textAreaLeft" fmla="*/ 97560 w 573120"/>
              <a:gd name="textAreaRight" fmla="*/ 475560 w 573120"/>
              <a:gd name="textAreaTop" fmla="*/ 77400 h 509760"/>
              <a:gd name="textAreaBottom" fmla="*/ 432360 h 509760"/>
            </a:gdLst>
            <a:ahLst/>
            <a:rect l="textAreaLeft" t="textAreaTop" r="textAreaRight" b="textAreaBottom"/>
            <a:pathLst>
              <a:path w="573553" h="509984">
                <a:moveTo>
                  <a:pt x="97902" y="167304"/>
                </a:moveTo>
                <a:lnTo>
                  <a:pt x="177605" y="77666"/>
                </a:lnTo>
                <a:lnTo>
                  <a:pt x="286777" y="174738"/>
                </a:lnTo>
                <a:lnTo>
                  <a:pt x="395948" y="77666"/>
                </a:lnTo>
                <a:lnTo>
                  <a:pt x="475651" y="167304"/>
                </a:lnTo>
                <a:lnTo>
                  <a:pt x="377034" y="254992"/>
                </a:lnTo>
                <a:lnTo>
                  <a:pt x="475651" y="342680"/>
                </a:lnTo>
                <a:lnTo>
                  <a:pt x="395948" y="432318"/>
                </a:lnTo>
                <a:lnTo>
                  <a:pt x="286777" y="335246"/>
                </a:lnTo>
                <a:lnTo>
                  <a:pt x="177605" y="432318"/>
                </a:lnTo>
                <a:lnTo>
                  <a:pt x="97902" y="342680"/>
                </a:lnTo>
                <a:lnTo>
                  <a:pt x="196519" y="254992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65" name="AutoShape 1"/>
          <p:cNvGrpSpPr/>
          <p:nvPr/>
        </p:nvGrpSpPr>
        <p:grpSpPr>
          <a:xfrm>
            <a:off x="900000" y="4149720"/>
            <a:ext cx="7380000" cy="1402920"/>
            <a:chOff x="900000" y="4149720"/>
            <a:chExt cx="7380000" cy="1402920"/>
          </a:xfrm>
        </p:grpSpPr>
        <p:pic>
          <p:nvPicPr>
            <p:cNvPr id="166" name="AutoShape 1" descr=""/>
            <p:cNvPicPr/>
            <p:nvPr/>
          </p:nvPicPr>
          <p:blipFill>
            <a:blip r:embed="rId2"/>
            <a:stretch/>
          </p:blipFill>
          <p:spPr>
            <a:xfrm>
              <a:off x="900000" y="4149720"/>
              <a:ext cx="7380000" cy="14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049400" y="4251960"/>
              <a:ext cx="708264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21b2c9"/>
                  </a:solidFill>
                  <a:latin typeface="Arial"/>
                  <a:ea typeface="Times New Roman"/>
                </a:rPr>
                <a:t>два экзамена по выбору выпускника из числа предметов, изучавшихся в </a:t>
              </a:r>
              <a:r>
                <a:rPr b="0" lang="en-US" sz="2400" spc="-1" strike="noStrike">
                  <a:solidFill>
                    <a:srgbClr val="21b2c9"/>
                  </a:solidFill>
                  <a:latin typeface="Arial"/>
                  <a:ea typeface="Times New Roman"/>
                </a:rPr>
                <a:t>IX</a:t>
              </a:r>
              <a:r>
                <a:rPr b="0" lang="ru-RU" sz="2400" spc="-1" strike="noStrike">
                  <a:solidFill>
                    <a:srgbClr val="21b2c9"/>
                  </a:solidFill>
                  <a:latin typeface="Arial"/>
                  <a:ea typeface="Times New Roman"/>
                </a:rPr>
                <a:t> классе </a:t>
              </a: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2:03:44Z</dcterms:created>
  <dc:creator>Новый</dc:creator>
  <dc:description/>
  <dc:language>en-US</dc:language>
  <cp:lastModifiedBy>Admin</cp:lastModifiedBy>
  <dcterms:modified xsi:type="dcterms:W3CDTF">2013-03-04T10:42:59Z</dcterms:modified>
  <cp:revision>17</cp:revision>
  <dc:subject/>
  <dc:title>Муниципальное бюджетное общеобразовательное учреждение МБОУ СОШ №10 МО Крыловский район</dc:title>
</cp:coreProperties>
</file>