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9B4-1D11-4680-872D-06AAF5DC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EA4-2D47-4968-8DD4-A5923CE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124-5230-41ED-848B-8D0A588F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4BF-A914-4BEC-9ACD-CCE6BD85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0CB3-4D70-46A9-B1A2-E1C5A642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E9E6-E19C-4259-AAE0-E4299EB6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9323-C5A7-4BFD-8989-8A98EBF1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5E7-EE61-448D-90E0-CB2E26CF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AC46-A905-424C-B374-9007C2C8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31AC-9968-47AB-841B-F00CA9A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058-D376-4768-AEF8-52C167C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54F-0A4F-4E1E-A78C-4175156A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0B2E-8587-4779-853A-6A69B93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57E-4582-4897-A4B6-7BD7DAB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0FD5-879D-4DD3-8403-5189A617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D133-E3BA-4BA2-B892-E8B05E6A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709-A2CE-495A-A3BC-E10CD9AD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936-E475-45E7-8A25-DE5CF74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561-C999-4A73-8212-2214D79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1A7-0BE0-425F-BA93-FB89901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D0F-33A3-4A6F-A862-D5A2C1D0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459-6480-423D-9CAC-F874539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346-95C4-4A66-BE8A-BAF3ED8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507-24F7-43ED-97DC-3FBEBB3D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C49-12E3-4B31-A846-C7B6F6B812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026-9104-4C8A-A68A-CD72C5DE2DC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ОРЯДОК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РИЕМА В ИМЕЮЩИЕ ГОСУДАРСТВЕННУЮ АККРЕДИТАЦИЮ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БРАЗОВАТЕЛЬНЫЕ УЧРЕЖДЕНИЯ СРЕДНЕГО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РОФЕССИОНАЛЬНОГО ОБРАЗОВАНИЯ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20 ию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ультаты единого государственного экзамена, вступительных испытаний, проводимых образовательным учреждением самостоятельно, подтверждающие успешное прохождение вступительных испытаний по общеобразовательным предметам, входящим в перечень вступительных испытаний по каждой основной профессиональной образовательной программе среднего профессионального образования (как для лиц, поступающих на бюджетные места, так и для лиц, поступающих на места по договорам с оплатой стоимости обучени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рием документов от поступающих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 документов для обучения по основным профессиональным образовательным программам среднего профессионального образования начинается не позднее 20 июня и заканчивается 15 авгус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15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 в образовательные учреждения для обучения по основным профессиональным образовательным программам среднего профессионального образования проводится по личному заявлению поступ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152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вправе подать заявление одновременно в несколько образовательных учреждений, на несколько специальностей, на различные формы получения образования, по которым реализуются основные профессиональные образовательные программы среднего профессионального образования в образовательном учреждении, а также одновременно на бюджетные места и на места по договорам с оплатой стоимости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одаче заявления о приеме в образовательное учреждение поступающий предъявля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оступлении на базе основного общего образования - документы, удостоверяющие его личность (оригинал или ксерокопию), по своему усмотрению оригинал или ксерокопию документа государственного образца об образов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зимание платы с поступающих при подаче документов, а также требование от поступающих предоставления оригиналов документа государственного образца об образовании, свидетельства о результатах единого государственного экзамена или предоставления иных документов, не предусмотренных настоящим Порядком, запрещае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явление о приеме, а также необходимые документы могут быть направлены поступающим через операторов почтовой связи общего пользования, а также в электронно-цифровой форме (если такая возможность предусмотрена в образовательном учреждении) Прием документов, направленных через операторов почтовой связи общего пользования, завершается 15 авгус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Общие правила подачи и рассмотрения апелляций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езультатам вступительного испытания, дополнительного вступительного испытания поступающий имеет право подать в апелляционную комиссию письменное апелляционное заявление о нарушении, по его мнению, установленного порядка проведения испытания и (или) несогласии с его (их) результатами (далее - апелляц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ние апелляции не является пересдачей экзамена. В ходе рассмотрения апелляции проверяется только правильность оценки результатов сдачи вступительного испы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Апелляция подается поступающим лично на следующий день после объявления оценки по экзамену. При этом поступающий имеет право ознакомиться со своей экзаменационной работой в порядке, установленном образовательным учреждением. Приемная комиссия обеспечивает прием апелляций в течение всего рабочего д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бщие по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зовательное учреждение самостоятельно разрабатывает и утверждает ежегодные правила приема, определяющие их особенности на соответствующий год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не противоречащие законодательству Российской Федерации, настоящему Порядку и правилам приема, определяемым учредителем и закрепленным в уставе образовательного учреж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имеет право присутствовать при рассмотрении апелля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должен иметь при себе документ, удостоверяющий его личность, и экзаменационный ли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несовершеннолетним поступающим (до 18 лет) имеет право присутствовать один из его родителей или законных представ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Зачисление в образовательное учрежд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числение должно проводиться после завершения вступительных испытаний, в том числе дополнительных вступительных испытаний, и заканчиваться не позднее чем за 5 дней до начала учебных заня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854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ой окончания вступительных испытаний считается момент объявления на официальном сайте образовательного учреждения и стенде приемной комиссии пофамильного перечня лиц с указанием количества набранных баллов, зачисл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Прием граждан в образовательные учреждения для получения среднего профессионального образования осуществляется по заявлениям лиц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еющих основное общее образование - в соответствии с результатами вступительных испытаний, проводимых образовательным учреждением самостоятельн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зовательное учреждение может в качестве вступительных испытаний учитывать результаты государственной (итоговой) аттестации обучающихся, освоивших образовательные программы основного общего образовани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Без вступительных испытаний в государственное образовательное учреждение принимаются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431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бедители и призеры заключительного этапа всероссийской олимпиады школьников, члены сборных команд Российской Федерации, участвовавших в международных олимпиад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пионы и призеры Олимпийских игр, Паралимпийских иг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Вне конкурса при условии успешного прохождения вступительных испытаний в государственные образовательные учреждения принимаются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3141360"/>
            <a:ext cx="839628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и-сироты и дети, оставшиеся без попечения роди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и-инвалиды, инвалиды I и II груп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ждане в возрасте до 20 лет, имеющие только одного родителя - инвалида I группы, если среднедушевой доход семьи ниже величины прожиточного миниму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рганизация приема граждан в образовательное учреждени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приема на основании результатов единого государственного экзамена, в том числе организация проведения вступительных испытаний, дополнительных вступительных испытаний (в случае их проведения) для обучения по освоению основных профессиональных образовательных программ среднего профессионального образования, осуществляется приемной комиссией образовательного учреж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седатель приемной комиссии назначается директором образовательного учреж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организации и проведения вступительных испытаний и дополнительных вступительных испытаний председателем приемной комиссии создаются предметные экзаменационные и апелляционные коми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рганизация информирования поступающих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286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1 феврал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ежегодные правила приема в образовательное учрежд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еречень специальностей, на которые образовательное учреждение объявляет пр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еречень вступительных испытаний по общеобразовательным предмет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формы проведения вступительных испыт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1 ию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бщее количество мест для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количество бюджетных мест для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оличество бюджетных мест, выделенных для целевого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количество мест по каждой специальности по договорам с оплатой стоимости обучения (при их налич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36:31Z</dcterms:created>
  <dc:creator>Admin</dc:creator>
  <dc:description/>
  <dc:language>en-US</dc:language>
  <cp:lastModifiedBy>Admin</cp:lastModifiedBy>
  <dcterms:modified xsi:type="dcterms:W3CDTF">2013-02-11T09:54:24Z</dcterms:modified>
  <cp:revision>3</cp:revision>
  <dc:subject/>
  <dc:title>Слайд 1</dc:title>
</cp:coreProperties>
</file>