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F1F-5802-49CA-89D2-33DB0178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4B3-71E1-4D48-BB95-349FC6A3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888-A9BF-4311-8902-8CEF02C7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420-92F4-427D-99F6-A35B0319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5AC9-D186-47E9-A014-EDC090C3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539F-2962-4520-A5B5-30D5C682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CF09-29C4-412F-845B-E17F0C57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9AA0-8A47-4891-A91D-89177CFB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C7F5-A5FE-4E27-8300-FE68A83B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670C-FD2C-4166-A0E7-FD441350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94D5-FB90-4302-910D-E92FB432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4A4-277F-4B43-AED6-04D9BA95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C93A-D6A1-4785-B41D-D48FF78C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F3E6-CE09-4ADC-B92E-1E9E4C9E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4B14-84FC-4FE5-B603-B7E7BC55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2D19-83D6-4867-8809-F74B14A1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D3B6-6ED3-4C09-8033-E35895CF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DED-BB9B-4D66-A888-04921E6B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518-B466-4AAC-B13F-DE3DEA03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405-D014-4A48-891F-DCB312D8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5E3-7C2B-449F-BEBC-F7268C76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520-5F1F-40BD-9326-A639D897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BDC-A62F-48F0-BF6A-354BE413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2F8-5570-429E-A0A4-861723A5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C344-2525-4DBF-B24E-082F83A9CE4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F5AD-41F8-46B7-BFF4-8D63C97766C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ПОРЯДОК 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ПРИЕМА В ИМЕЮЩИЕ ГОСУДАРСТВЕННУЮ АККРЕДИТАЦИЮ 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ОБРАЗОВАТЕЛЬНЫЕ УЧРЕЖДЕНИЯ СРЕДНЕГО </a:t>
            </a:r>
            <a:br>
              <a:rPr sz="4000"/>
            </a:b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ПРОФЕССИОНАЛЬНОГО ОБРАЗОВАНИЯ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Не позднее 20 июн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зультаты единого государственного экзамена, вступительных испытаний, проводимых образовательным учреждением самостоятельно, подтверждающие успешное прохождение вступительных испытаний по общеобразовательным предметам, входящим в перечень вступительных испытаний по каждой основной профессиональной образовательной программе среднего профессионального образования (как для лиц, поступающих на бюджетные места, так и для лиц, поступающих на места по договорам с оплатой стоимости обучени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Прием документов от поступающих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ем документов для обучения по основным профессиональным образовательным программам среднего профессионального образования начинается не позднее 20 июня и заканчивается 15 авгус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152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ем в образовательные учреждения для обучения по основным профессиональным образовательным программам среднего профессионального образования проводится по личному заявлению поступающ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152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упающий вправе подать заявление одновременно в несколько образовательных учреждений, на несколько специальностей, на различные формы получения образования, по которым реализуются основные профессиональные образовательные программы среднего профессионального образования в образовательном учреждении, а также одновременно на бюджетные места и на места по договорам с оплатой стоимости обуч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подаче заявления о приеме в образовательное учреждение поступающий предъявля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поступлении на базе основного общего образования - документы, удостоверяющие его личность (оригинал или ксерокопию), по своему усмотрению оригинал или ксерокопию документа государственного образца об образов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зимание платы с поступающих при подаче документов, а также требование от поступающих предоставления оригиналов документа государственного образца об образовании, свидетельства о результатах единого государственного экзамена или предоставления иных документов, не предусмотренных настоящим Порядком, запрещает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явление о приеме, а также необходимые документы могут быть направлены поступающим через операторов почтовой связи общего пользования, а также в электронно-цифровой форме (если такая возможность предусмотрена в образовательном учреждении) Прием документов, направленных через операторов почтовой связи общего пользования, завершается 15 авгус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Общие правила подачи и рассмотрения апелляций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результатам вступительного испытания, дополнительного вступительного испытания поступающий имеет право подать в апелляционную комиссию письменное апелляционное заявление о нарушении, по его мнению, установленного порядка проведения испытания и (или) несогласии с его (их) результатами (далее - апелляц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смотрение апелляции не является пересдачей экзамена. В ходе рассмотрения апелляции проверяется только правильность оценки результатов сдачи вступительного испыт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Апелляция подается поступающим лично на следующий день после объявления оценки по экзамену. При этом поступающий имеет право ознакомиться со своей экзаменационной работой в порядке, установленном образовательным учреждением. Приемная комиссия обеспечивает прием апелляций в течение всего рабочего дн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Общие полож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зовательное учреждение самостоятельно разрабатывает и утверждает ежегодные правила приема, определяющие их особенности на соответствующий год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не противоречащие законодательству Российской Федерации, настоящему Порядку и правилам приема, определяемым учредителем и закрепленным в уставе образовательного учреж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упающий имеет право присутствовать при рассмотрении апелля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ступающий должен иметь при себе документ, удостоверяющий его личность, и экзаменационный ли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несовершеннолетним поступающим (до 18 лет) имеет право присутствовать один из его родителей или законных представителе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Зачисление в образовательное учреждени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числение должно проводиться после завершения вступительных испытаний, в том числе дополнительных вступительных испытаний, и заканчиваться не позднее чем за 5 дней до начала учебных занят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1268280"/>
            <a:ext cx="78548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ой окончания вступительных испытаний считается момент объявления на официальном сайте образовательного учреждения и стенде приемной комиссии пофамильного перечня лиц с указанием количества набранных баллов, зачисл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39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пасибо за внимание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540640" cy="58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 Прием граждан в образовательные учреждения для получения среднего профессионального образования осуществляется по заявлениям лиц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меющих основное общее образование - в соответствии с результатами вступительных испытаний, проводимых образовательным учреждением самостоятельно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зовательное учреждение может в качестве вступительных испытаний учитывать результаты государственной (итоговой) аттестации обучающихся, освоивших образовательные программы основного общего образовани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Без вступительных испытаний в государственное образовательное учреждение принимаются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3141360"/>
            <a:ext cx="84312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бедители и призеры заключительного этапа всероссийской олимпиады школьников, члены сборных команд Российской Федерации, участвовавших в международных олимпиада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мпионы и призеры Олимпийских игр, Паралимпийских иг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4247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ahoma"/>
              </a:rPr>
              <a:t>Вне конкурса при условии успешного прохождения вступительных испытаний в государственные образовательные учреждения принимаются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3141360"/>
            <a:ext cx="8396280" cy="34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ти-сироты и дети, оставшиеся без попечения родител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ти-инвалиды, инвалиды I и II групп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аждане в возрасте до 20 лет, имеющие только одного родителя - инвалида I группы, если среднедушевой доход семьи ниже величины прожиточного миниму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Организация приема граждан в образовательное учреждение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5690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рганизация приема на основании результатов единого государственного экзамена, в том числе организация проведения вступительных испытаний, дополнительных вступительных испытаний (в случае их проведения) для обучения по освоению основных профессиональных образовательных программ среднего профессионального образования, осуществляется приемной комиссией образовательного учрежд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седатель приемной комиссии назначается директором образовательного учрежд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организации и проведения вступительных испытаний и дополнительных вступительных испытаний председателем приемной комиссии создаются предметные экзаменационные и апелляционные комисс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Организация информирования поступающих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2864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Не позднее 1 февраля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ежегодные правила приема в образовательное учрежде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перечень специальностей, на которые образовательное учреждение объявляет прие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перечень вступительных испытаний по общеобразовательным предмета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формы проведения вступительных испыт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Не позднее 1 июн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общее количество мест для приема по каждой специаль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количество бюджетных мест для приема по каждой специаль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количество бюджетных мест, выделенных для целевого приема по каждой специаль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количество мест по каждой специальности по договорам с оплатой стоимости обучения (при их наличии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6:36:31Z</dcterms:created>
  <dc:creator>Admin</dc:creator>
  <dc:description/>
  <dc:language>en-US</dc:language>
  <cp:lastModifiedBy>Admin</cp:lastModifiedBy>
  <dcterms:modified xsi:type="dcterms:W3CDTF">2013-02-11T09:54:24Z</dcterms:modified>
  <cp:revision>3</cp:revision>
  <dc:subject/>
  <dc:title>Слайд 1</dc:title>
</cp:coreProperties>
</file>