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A7E-1351-44D0-90EF-2B5C3507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80A-B5A2-4254-BCD3-FD79F2CB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C08-6BB6-4D71-A5AB-A9052375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740-52FB-4522-B5AC-D83EE827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1810-B69C-48BF-81E1-8397DC77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2165-3C3B-4C26-955D-8FB45593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B5FF-0DA7-41BE-80C5-78A1DCDD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6233-7F1B-4285-BEC9-866E0A0E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630F-7C08-401A-8AF6-E802ABEB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F176-315D-45E7-BF1E-EC744AAE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49B9-B1B7-4400-A25C-17DDCA5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F0B-684F-47FD-A5B1-FF33016E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6158-949D-4965-8731-7982111D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4475-0B3F-4602-B957-34D01524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B010-39D5-4ED4-AE71-1C92014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0A22-85EF-496E-AA61-FEB32D69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96BA-9A25-4E57-A9F0-358CF809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F88-63C3-4BD8-AD7F-3B4C451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1AE-153D-4EDE-A307-E23815EF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B36-BD70-49CE-B07A-61D43200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9A7-DBD4-479E-8BF5-0F7C4047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F35-EE5A-4A36-97E2-02CF343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E0B-3ED0-4830-8066-617F16A4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406-5865-494A-97BF-46C9F74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09C7-B608-4C09-B18D-E14345B2AA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F915-95D7-443F-B537-17502C5F0C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coko.khb.ru/activity/gia/demo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Участники ГИА - 9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одительское собрание №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ветуем перед экзаменом ознакомиться с 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демонстрационными вариантами КИ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, изучить все содержащиеся в них инструкции, чтобы хорошо понимать, сколько времени отведено на работу, в каком порядке выполнять задания, как записывать отве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ще одной основой подготовки к ГИА может стать </a:t>
            </a: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кодификатор проверяемых элементов содержан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он содержит перечень тем, по которым могут быть сформулированы зад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юбые сборники тренировочных заданий или вариантов могут играть в подготовке только вспомогательную роль. Успешной сдаче ГИА помогает  и правильный психологический настрой, уверенность в своих силах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Цели и 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накомить родителей с нормативно-правовой базой ГИА -9, методическими  рекомендациями для родителей и учащих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вестка дн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Основания и процедура допуска к государственной итоговой аттестации учащихся 9-х клас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Участники ГИА-9 для сдачи экзаменов  в досрочный,  основной и дополнительный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Участники ГИА-9 с ограниченными возможностями здоровья (создание специальных условий для данной категории участников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Государственная (итоговая) аттестация обучающихся, освоивших образовательные программы основного общего образования (ГИА-9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представляет собой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овую форм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организации экзаменов с использованием заданий стандартизированной формы, выполнение которых позволяет установить уровень освоения федерального  государственног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андарта основного общег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раз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то может быть участником ГИА-9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ГИА-9 принимают участие обучающиеся 9-х классов, допущенные в установленном порядке к государственной итоговой аттестац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своившие образовательные программы основного общего образования и имеющие положительные годовые отметки по всем предметам учебного плана общеобразовательного учрежд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имеющие неудовлетворительную годовую отметку по одному предмету учебного плана 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язательной сдачей экзамена по этому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дмету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становлены три основных периода проведения ГИА-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досрочный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основной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дополнительный</a:t>
            </a:r>
            <a:r>
              <a:rPr b="0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НОВНОЙ СРОК СДАЧИ  ГИА-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42472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8 мая (вторник) — математи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1 мая (пятница) — история России, обществознание, физика, химия, география, биология, иностранные языки (английский, французский, немецкий, испанский), литература, информатика и информационно-коммуникационные технолог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 июня (вторник) — русский язы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июня (пятница) — история России, обществознание, физика, химия, география, биология, иностранные языки (английский, французский, немецкий, испанский), литература, информатика и информационно-коммуникационные технолог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 июня (вторник) — резервный день: математика, история России, география, биология, физика, иностранные языки (английский, французский, немецкий, испанский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 июня (пятница) — резервный день: русский язык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ществознание, химия, информатика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нформационно-коммуникационные технологи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итератур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участников ГИА-9 с ограниченными возможностями здоровья создаются специальные условия во время сдачи экзаме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920" y="1828800"/>
            <a:ext cx="73389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 традиционной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обстановке, исключающей  влияние  негативных  факторов  на  состояние  здоровья, и в  условиях, отвечающих физиологическим  особенностям  и состоянию  здоровья, ГИА-9 проводится  для  выпускник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обучавшихся по состоянию здоровья на дому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обучавшихся в оздоровительных образовательных учреждениях санаторного тип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нуждающихся в длительном лечени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аходившихся в лечебно-профилактических учреждения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олее 4 месяцев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инвалид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Подготовка к ГИА-2012 выпускников 9 класс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логом успешной сдачи экзамена является качественное освоение школьной программы, повторение и систематизация изученных в 5-9 классах тем по предметам, развитие различных умений (читать и анализировать содержание текста, решение задачи и т.п.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03:04Z</dcterms:created>
  <dc:creator>Admin</dc:creator>
  <dc:description/>
  <dc:language>en-US</dc:language>
  <cp:lastModifiedBy>Admin</cp:lastModifiedBy>
  <dcterms:modified xsi:type="dcterms:W3CDTF">2013-03-11T16:19:36Z</dcterms:modified>
  <cp:revision>2</cp:revision>
  <dc:subject/>
  <dc:title>Участники ГИА - 9</dc:title>
</cp:coreProperties>
</file>