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20A2-5BC1-4AFD-9EA9-7CDBBAFF9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47D8-3997-43E9-86D4-7D5742FD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FB8A-870D-4C42-9CAB-842B2337D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A72B-8874-4340-A707-C4F605ADA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3ED5-0F9D-4CCE-9485-7BEF43E60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2936-016A-4AC0-AA23-B4CD94A1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6683-D9F4-493F-84C6-F3179C15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93C3-0321-4371-99FD-874A3DD9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B603-CB01-4C60-958B-65DA16FC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692F-78E7-43CA-B098-A486E124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AEA7-3051-4152-8504-EC46A98A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25E3-2A25-4294-A1AA-E7AAC615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14A4-607A-455A-B64D-D80A4BE5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8D43-9C30-4DDA-8E0F-8BABF06A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D842-F4A8-4F82-BA17-FF82E6BC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7BEF-24DD-4892-B942-B9559AA57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9512-4D3B-4F7A-81BA-A1303294A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948F-A3DA-43F7-A725-793710E7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1DA3-1CC1-4AC0-B44C-85E9691E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967F-3BEF-48CA-8BFC-CF77483C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0D8B-2DD3-41EE-BD52-26AC6FB7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071E-E5E0-4C6F-A2F6-EDB8FA37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EC3D-80C0-40AF-835E-8C11900B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98A6-7559-4799-AA9B-E78E673B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A4B7-D429-4471-90C5-80470A894A7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855F-EC40-487C-A6EC-6D489859768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coko.khb.ru/activity/gia/demo/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Участники ГИА - 9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одительское собрание №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764640"/>
            <a:ext cx="76960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оветуем перед экзаменом ознакомиться с 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демонстрационными вариантами КИМ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, изучить все содержащиеся в них инструкции, чтобы хорошо понимать, сколько времени отведено на работу, в каком порядке выполнять задания, как записывать ответ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549360"/>
            <a:ext cx="769608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Еще одной основой подготовки к ГИА может стать </a:t>
            </a:r>
            <a:r>
              <a:rPr b="0" lang="en-US" sz="2800" spc="-1" strike="noStrike" u="sng">
                <a:solidFill>
                  <a:srgbClr val="703dff"/>
                </a:solidFill>
                <a:uFillTx/>
                <a:latin typeface="Comic Sans MS"/>
              </a:rPr>
              <a:t>кодификатор проверяемых элементов содержания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он содержит перечень тем, по которым могут быть сформулированы зада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Любые сборники тренировочных заданий или вариантов могут играть в подготовке только вспомогательную роль. Успешной сдаче ГИА помогает  и правильный психологический настрой, уверенность в своих силах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Цели и задачи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знакомить родителей с нормативно-правовой базой ГИА -9, методическими  рекомендациями для родителей и учащихс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Повестка дня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Основания и процедура допуска к государственной итоговой аттестации учащихся 9-х класс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Участники ГИА-9 для сдачи экзаменов  в досрочный,  основной и дополнительный перио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Участники ГИА-9 с ограниченными возможностями здоровья (создание специальных условий для данной категории участников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475920"/>
            <a:ext cx="76960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Государственная (итоговая) аттестация обучающихся, освоивших образовательные программы основного общего образования (ГИА-9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представляет собой 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новую форму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 организации экзаменов с использованием заданий стандартизированной формы, выполнение которых позволяет установить уровень освоения федерального  государственного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тандарта основного общего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бразова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Кто может быть участником ГИА-9?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 ГИА-9 принимают участие обучающиеся 9-х классов, допущенные в установленном порядке к государственной итоговой аттестаци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освоившие образовательные программы основного общего образования и имеющие положительные годовые отметки по всем предметам учебного плана общеобразовательного учреждени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имеющие неудовлетворительную годовую отметку по одному предмету учебного плана 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бязательной сдачей экзамена по этому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едмету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989840" cy="23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Установлены три основных периода проведения ГИА-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491920"/>
            <a:ext cx="7696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досрочный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основной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дополнительный</a:t>
            </a:r>
            <a:r>
              <a:rPr b="0" lang="en-US" sz="3600" spc="-1" strike="noStrike" u="sng">
                <a:solidFill>
                  <a:srgbClr val="703dff"/>
                </a:solidFill>
                <a:uFillTx/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ОСНОВНОЙ СРОК СДАЧИ  ГИА-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920" y="1828800"/>
            <a:ext cx="842472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8 мая (вторник) — математика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1 мая (пятница) — история России, обществознание, физика, химия, география, биология, иностранные языки (английский, французский, немецкий, испанский), литература, информатика и информационно-коммуникационные технологи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 июня (вторник) — русский язык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7 июня (пятница) — история России, обществознание, физика, химия, география, биология, иностранные языки (английский, французский, немецкий, испанский), литература, информатика и информационно-коммуникационные технологи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 июня (вторник) — резервный день: математика, история России, география, биология, физика, иностранные языки (английский, французский, немецкий, испанский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4 июня (пятница) — резервный день: русский язык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бществознание, химия, информатика 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нформационно-коммуникационные технологии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литератур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98984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ля участников ГИА-9 с ограниченными возможностями здоровья создаются специальные условия во время сдачи экзамен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42920" y="1828800"/>
            <a:ext cx="733896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В традиционной форме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обстановке, исключающей  влияние  негативных  факторов  на  состояние  здоровья, и в  условиях, отвечающих физиологическим  особенностям  и состоянию  здоровья, ГИА-9 проводится  для  выпускников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обучавшихся по состоянию здоровья на дому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обучавшихся в оздоровительных образовательных учреждениях санаторного типа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нуждающихся в длительном лечении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находившихся в лечебно-профилактических учреждения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более 4 месяцев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инвалидо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Подготовка к ГИА-2012 выпускников 9 класс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алогом успешной сдачи экзамена является качественное освоение школьной программы, повторение и систематизация изученных в 5-9 классах тем по предметам, развитие различных умений (читать и анализировать содержание текста, решение задачи и т.п.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1T16:03:04Z</dcterms:created>
  <dc:creator>Admin</dc:creator>
  <dc:description/>
  <dc:language>en-US</dc:language>
  <cp:lastModifiedBy>Admin</cp:lastModifiedBy>
  <dcterms:modified xsi:type="dcterms:W3CDTF">2013-03-11T16:19:36Z</dcterms:modified>
  <cp:revision>2</cp:revision>
  <dc:subject/>
  <dc:title>Участники ГИА - 9</dc:title>
</cp:coreProperties>
</file>