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8038-C946-44D2-AB12-F8133F737C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6EA8-C63D-43ED-99D6-9D6F8789B9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2BA-1B19-4B45-9F02-70E865CC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6CF-21B1-4C7C-9451-09B1F487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458F-CAA2-40B6-8D26-3CDA7208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6F3-4200-49A1-80E8-88AA2D5C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F585-3465-4A49-9919-8DBCF664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B438-D246-4472-9606-2C541442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E7EC-ADA9-441C-976E-E19E0222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90E6-5FD5-41BA-BBBD-61614440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70C6-065A-4CCC-910A-DAD8A5C4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5249-FF9C-4BE0-AD22-3DD49000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F34C-965D-450B-AD1E-AD01C6E6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7E8-884E-4F4B-B54D-D630EF3A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C42E-C234-42C6-9AA6-C89F4F11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0977-32CC-4E16-BF70-27C608B7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EB50-955F-4CD5-B76C-7DFEF39E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3507-5B62-486E-82C2-A207563F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6C1D-2DF5-420D-A44A-031061E7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5EFA-0998-4722-98A6-FF1B2508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C501-4D52-4E1D-8699-35728B70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FB12-C6ED-4C52-89BF-943075C6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20EEA-2FA1-4E7E-A661-5B29B838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E07FF-2E5F-4261-96AD-461BC47C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1313-8CFE-4276-BA88-1BD11F0D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CD1F-05B1-4E3C-9C2E-4C0A266E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BF51-BDE6-4A94-9E15-6A27C3BB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FB4B-D3A2-4829-9AEE-487DE2C6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BE06-4B25-405B-9AFE-97FB36D4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ED9E-F38D-4B40-AB81-FAC9B713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08D8B-D0E7-43BE-B49B-AC20F2DA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53EF2-A052-4A1B-AB2B-98E05EF9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473EB-AECC-4451-8472-0F29E076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211B-1E77-4530-A06A-C28DE4F4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68344-07D6-4CB0-BF12-8FB7692F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FDE-E5A5-4B3C-8861-E85C835C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4DAB4-F97F-4D1C-BEAE-CF6B02AA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B689-2F4A-4EB1-B711-9954B739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DEF51-2CAE-43B2-A1E7-5DC1C60D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F5AB-DD92-4F56-8523-0F75DC9C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2720-C14D-4712-A04A-5DA03442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BB60B-14AD-4D4E-8E2E-7B4EB87F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4959-E9A3-42F3-AABE-BFB7D7B7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F9CC3-3CE6-457E-9B23-6B7F3BEF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A4BC3-61EB-41BC-866C-478759DE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F4EC3-0415-4E8F-94B7-81A71375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EF6-F245-49D6-9C02-FACA14C3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5E0AB-D974-4FF9-B8F4-23C5DB1C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69DA1-3E46-4E08-8EAF-396E502B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72804-0372-4EFB-A8B6-C4E26012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963E5-1B7D-4F78-9C45-F914F872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9CA32-435D-4256-A970-0A800D46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5DF7-7BD3-4703-80A3-CA8EF89F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9FE34-5A4F-4AC6-ADA5-369A864C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F7DFA-8051-450F-8AD7-3CEE4C67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6A1CB-114C-48B3-9D14-595FD1E0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F8CCB-1D90-48D4-B2A0-E3CC99B6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31960" y="274320"/>
            <a:ext cx="568008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0F9-A114-4A02-9C63-D135933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75804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458680" y="205704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05740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75804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458680" y="4087080"/>
            <a:ext cx="1619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94359-999D-41D9-913D-37B7D8EE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EBE-766B-4F39-84CA-D207BB1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4640" y="408708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5A2-3B05-47BA-AEB0-0F62958F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4640" y="2057040"/>
            <a:ext cx="2454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57400" y="4087080"/>
            <a:ext cx="5029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7B6-4516-4A8F-A899-A6FE371E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irelight content.png"/>
          <p:cNvPicPr/>
          <p:nvPr/>
        </p:nvPicPr>
        <p:blipFill>
          <a:blip r:embed="rId2"/>
          <a:srcRect l="10261" t="11519" r="6261" b="87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9593-53F8-4852-BFEF-6FBFDEA00AA7}" type="slidenum">
              <a:rPr b="0" lang="ru-RU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irelight title.png"/>
          <p:cNvPicPr/>
          <p:nvPr/>
        </p:nvPicPr>
        <p:blipFill>
          <a:blip r:embed="rId2"/>
          <a:srcRect l="43434" t="21353" r="0" b="20415"/>
          <a:stretch/>
        </p:blipFill>
        <p:spPr>
          <a:xfrm>
            <a:off x="0" y="0"/>
            <a:ext cx="3672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28240" y="59432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28600" y="571464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6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6253-59BB-4034-A678-D5412FE697D6}" type="slidenum">
              <a:rPr b="0" lang="ru-RU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Firelight section.png"/>
          <p:cNvPicPr/>
          <p:nvPr/>
        </p:nvPicPr>
        <p:blipFill>
          <a:blip r:embed="rId2"/>
          <a:srcRect l="7677" t="0" r="8564" b="31687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ECDD-C535-49CA-9984-12817B9C1316}" type="slidenum">
              <a:rPr b="0" lang="ru-RU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927F-384E-40FE-9EC6-9F965AD5886E}" type="slidenum">
              <a:rPr b="0" lang="ru-RU" sz="11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5c00"/>
            </a:gs>
            <a:gs pos="100000">
              <a:srgbClr val="8808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Content caption.png"/>
          <p:cNvPicPr/>
          <p:nvPr/>
        </p:nvPicPr>
        <p:blipFill>
          <a:blip r:embed="rId2"/>
          <a:srcRect l="11342" t="23079" r="13048" b="0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31960" y="274320"/>
            <a:ext cx="5680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057400" y="20570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15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15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15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15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76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2824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458200" y="624816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77C7-E1C7-4000-A854-59567E2BED8F}" type="slidenum">
              <a:rPr b="0" lang="ru-RU" sz="11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358120" cy="33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ортфолио и развитие речи: использование современной педагогической технологии в коррекционно-развивающем обучении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-360" y="5357880"/>
            <a:ext cx="900108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Narrow"/>
              </a:rPr>
              <a:t>Лементуев Александр Александрович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читель-логопед МКС(к)ОУ «Начальная школа-детский сад № 235»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вид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D:\Мои документы\Мероприятия\Фотографии с ИТ занятий\IMG_0138.jpg"/>
          <p:cNvPicPr/>
          <p:nvPr/>
        </p:nvPicPr>
        <p:blipFill>
          <a:blip r:embed="rId1"/>
          <a:stretch/>
        </p:blipFill>
        <p:spPr>
          <a:xfrm>
            <a:off x="214200" y="214200"/>
            <a:ext cx="4667400" cy="3500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D:\Мои документы\Мероприятия\Фотографии с ИТ занятий\IMG_0137.jpg"/>
          <p:cNvPicPr/>
          <p:nvPr/>
        </p:nvPicPr>
        <p:blipFill>
          <a:blip r:embed="rId2"/>
          <a:stretch/>
        </p:blipFill>
        <p:spPr>
          <a:xfrm>
            <a:off x="4143240" y="3143160"/>
            <a:ext cx="452916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86439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технологии электронного портфолио в работе с младшими школьниками позволяет решать следующие задачи: 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2920" y="1785600"/>
            <a:ext cx="8858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умения анализировать собственные интересы, склонности, своё окружение;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адекватной самооценки, стимулирование стремления к саморазвитию;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чение систематизации, фиксации и наглядному представлению личной информации;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устной и письменной связной речи;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ение умений работы в компьютерных программах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Word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owerPoin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программа для сканирования);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требований Федерального государственного образовательного стандарта начального общего образования в части системы оценки достижений планируемых результатов освоения программы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9640" y="1699920"/>
            <a:ext cx="8001000" cy="24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600" spc="-1" strike="noStrike">
                <a:solidFill>
                  <a:srgbClr val="ffffff"/>
                </a:solidFill>
                <a:latin typeface="Arial"/>
                <a:ea typeface="Arial"/>
              </a:rPr>
              <a:t>Благодарю за внимание!</a:t>
            </a:r>
            <a:endParaRPr b="0" lang="en-US" sz="8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400" y="1714320"/>
            <a:ext cx="835812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тфоли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ссматривается как продукт деятельности обучающихся, направленный на сбор, фиксацию, систематизацию и хранение личностно значимой информации.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840" y="64296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бл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утствие адаптированного варианта портфолио для обучающихся с тяжёлыми нарушениями речи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Заголовок 1"/>
          <p:cNvSpPr/>
          <p:nvPr/>
        </p:nvSpPr>
        <p:spPr>
          <a:xfrm>
            <a:off x="285840" y="4143240"/>
            <a:ext cx="8643960" cy="22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ешение проблемы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птация традиционного портфолио с учётом особенностей младших школьников с речевыми нарушениями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Стрелка вниз 5"/>
          <p:cNvSpPr/>
          <p:nvPr/>
        </p:nvSpPr>
        <p:spPr>
          <a:xfrm>
            <a:off x="4214880" y="2714760"/>
            <a:ext cx="571320" cy="14284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38160">
            <a:solidFill>
              <a:srgbClr val="b76013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7868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аптированный вариант портфолио для детей с тяжёлыми нарушениями речи предполагает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4" name="Текст 2" descr=""/>
          <p:cNvPicPr/>
          <p:nvPr/>
        </p:nvPicPr>
        <p:blipFill>
          <a:blip r:embed="rId1"/>
          <a:stretch/>
        </p:blipFill>
        <p:spPr>
          <a:xfrm>
            <a:off x="73080" y="2212920"/>
            <a:ext cx="90104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21384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елы портфолио для обучающихся с тяжёлыми нарушениями речи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8760" y="1642680"/>
            <a:ext cx="8215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Знакомьтесь, это Я!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я семья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и увлечения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и друзья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я школа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й класс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и достижения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Моё творчество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  <a:ea typeface="Tahoma"/>
              </a:rPr>
              <a:t>Наши праздники и мероприятия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13840" y="213840"/>
            <a:ext cx="8572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  <a:ea typeface="Tahoma"/>
              </a:rPr>
              <a:t>Коррекционно-развивающий потенциал портфоли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в работе с младшими школьниками, имеющими тяжёлые нарушения речи, состоит использовании его содержания как речевого материала для решения коррекционных логопедических задач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  <a:ea typeface="Tahoma"/>
              </a:rPr>
              <a:t>В содержание портфолио входят: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1) тексты сочинений,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2) подписи к фотографиям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4" descr="Image3.jpg"/>
          <p:cNvPicPr/>
          <p:nvPr/>
        </p:nvPicPr>
        <p:blipFill>
          <a:blip r:embed="rId1"/>
          <a:srcRect l="11884" t="7143" r="11884" b="16073"/>
          <a:stretch/>
        </p:blipFill>
        <p:spPr>
          <a:xfrm>
            <a:off x="3000240" y="428760"/>
            <a:ext cx="5621400" cy="371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9" name="Picture 11" descr="IMG_9705"/>
          <p:cNvPicPr/>
          <p:nvPr/>
        </p:nvPicPr>
        <p:blipFill>
          <a:blip r:embed="rId2"/>
          <a:stretch/>
        </p:blipFill>
        <p:spPr>
          <a:xfrm>
            <a:off x="500040" y="442908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6"/>
          <p:cNvSpPr/>
          <p:nvPr/>
        </p:nvSpPr>
        <p:spPr>
          <a:xfrm>
            <a:off x="4357800" y="45007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бучающиеся 3 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C:\Users\Администратор\AppData\Local\Microsoft\Windows\Temporary Internet Files\Content.IE5\L94PBRB3\MC900439822[1].png"/>
          <p:cNvPicPr/>
          <p:nvPr/>
        </p:nvPicPr>
        <p:blipFill>
          <a:blip r:embed="rId1"/>
          <a:stretch/>
        </p:blipFill>
        <p:spPr>
          <a:xfrm>
            <a:off x="3214800" y="128592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8" descr=""/>
          <p:cNvPicPr/>
          <p:nvPr/>
        </p:nvPicPr>
        <p:blipFill>
          <a:blip r:embed="rId2"/>
          <a:stretch/>
        </p:blipFill>
        <p:spPr>
          <a:xfrm>
            <a:off x="2352600" y="781200"/>
            <a:ext cx="4078440" cy="7984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9"/>
          <p:cNvSpPr/>
          <p:nvPr/>
        </p:nvSpPr>
        <p:spPr>
          <a:xfrm>
            <a:off x="285840" y="4857840"/>
            <a:ext cx="357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жковые занятия «Путешествие в мир информати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5286240" y="485784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ые логопедические заня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авая фигурная скобка 11"/>
          <p:cNvSpPr/>
          <p:nvPr/>
        </p:nvSpPr>
        <p:spPr>
          <a:xfrm rot="16200000">
            <a:off x="3857760" y="1285920"/>
            <a:ext cx="1071360" cy="5929200"/>
          </a:xfrm>
          <a:custGeom>
            <a:avLst/>
            <a:gdLst>
              <a:gd name="textAreaLeft" fmla="*/ 0 w 1071360"/>
              <a:gd name="textAreaRight" fmla="*/ 387000 w 1071360"/>
              <a:gd name="textAreaTop" fmla="*/ 27720 h 5929200"/>
              <a:gd name="textAreaBottom" fmla="*/ 5901480 h 59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16200" y="10800"/>
                  <a:pt x="21600" y="10800"/>
                </a:cubicBezTo>
                <a:cubicBezTo>
                  <a:pt x="162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901800" y="706320"/>
            <a:ext cx="7821360" cy="57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7:30:08Z</dcterms:created>
  <dc:creator>Л.А.А.</dc:creator>
  <dc:description/>
  <dc:language>en-US</dc:language>
  <cp:lastModifiedBy>А.А.Л.</cp:lastModifiedBy>
  <dcterms:modified xsi:type="dcterms:W3CDTF">2013-04-18T17:15:16Z</dcterms:modified>
  <cp:revision>27</cp:revision>
  <dc:subject/>
  <dc:title>Слайд 1</dc:title>
</cp:coreProperties>
</file>