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2475-8C98-47BF-998F-A4B024FC99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D61B-80D7-44A5-AA21-1488CE6AAC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605-0D68-4133-8220-6FF768D6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7C1-6375-4C4F-833A-6BD2972F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123-830B-40CF-827F-972253A5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C50-2A80-498E-9499-E5CC5D34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9720-2540-4A3F-82B9-BDC45EAF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DD55-9318-4365-94D9-56DC07AB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65D2-27C6-4DA8-AB9D-68531832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8CA0-B286-4FC5-B924-D7F2708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BB11-79C3-419B-9739-43F42414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9F72-974C-47ED-935E-13233E40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E933-A618-4AF2-89AF-83106376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477-A198-4A9A-942C-06AFE421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B1CF-70FF-457B-A35A-1C74145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304F-1E39-466E-92C0-140DAC05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1338-47B7-458B-B21D-954604E7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56AB-2615-4089-A2E0-26D4D640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2A6C-7F11-45E7-98AD-7C55686D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2C00-8A76-4BC1-B84F-4F953BC5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044C-1BC2-40B7-9F34-092F3FEA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673A-6EFB-4013-AA97-5881C9B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8E88-CE43-4005-92CB-811141DE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D08A-6EAE-4DD3-AF5C-F9C27890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EFD-5352-4CCF-83E6-E1F45A1D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0C08-CF7F-4CD7-861B-69BB064F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9F68-0FD2-4E72-BBA7-63B890B4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175C-1377-4A82-9ADD-8410A62C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3717-06EB-491F-A2BC-CF3401B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421C-C683-49E4-AE10-50D79507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BD6A-C9D7-4D86-81B9-1243DDBC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BCBB-FF7C-466E-9844-93C41AC8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B8CD9-B9AA-4C21-9DC2-2B0227D3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F996-2EAC-41BA-AFFE-3959923F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298F-44BB-4849-8FBD-8788DA48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30B-A029-4929-BFAC-9929E34C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A969-4906-4DBB-BC64-0100D2F4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43C9-B329-409A-AFA0-A4C4A345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E515E-7CF2-4662-B17E-3770A1C4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4E3F-A29A-4088-8E2D-F83038DB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E3F5-A50D-41B4-B243-EB95C2CD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5784-E671-4055-ADBC-545E1A32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A2B9-9596-462A-AE70-DDFD8B0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E118B-9898-4D78-93D2-A5CAD73A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B7EFF-D65F-4440-B523-24295BF6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6D8EC-F9D5-47C2-B878-32BEF484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5FA-8B50-490B-89CF-2609576A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1BAA-373B-404C-8A21-7D591A68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E3550-A9C4-4FAF-9A02-B82D1B71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D99BC-B510-451E-846A-CD99D362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D31B-C42F-4245-AA48-2FA58E6E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69F51-1774-4172-B7B1-D9B739C7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D7018-BF51-4CE6-B3B3-14B9E879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495D4-BDA3-4FD7-B77A-EAFBD3B2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594C2-85A5-459D-AED7-B46767EE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2B102-0AC0-4397-A303-961C8333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24473-4774-445C-AF7B-74627879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2BD-5283-4C99-B908-3C70225D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20954-0616-4332-9837-C112BDAE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3E3-6176-4273-815A-210D5573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11F-789A-402F-9A33-ADE39B4D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33E-F861-4629-90A9-C4E81EBD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irelight content.png"/>
          <p:cNvPicPr/>
          <p:nvPr/>
        </p:nvPicPr>
        <p:blipFill>
          <a:blip r:embed="rId2"/>
          <a:srcRect l="10261" t="11519" r="6261" b="87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0E42-066B-46BE-9D44-C4FA9011EF85}" type="slidenum">
              <a:rPr b="0" lang="ru-RU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irelight title.png"/>
          <p:cNvPicPr/>
          <p:nvPr/>
        </p:nvPicPr>
        <p:blipFill>
          <a:blip r:embed="rId2"/>
          <a:srcRect l="43434" t="21353" r="0" b="20415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59432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28600" y="57146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6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6779-0858-4F12-A73F-A7DFF3A77527}" type="slidenum">
              <a:rPr b="0" lang="ru-RU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Firelight section.png"/>
          <p:cNvPicPr/>
          <p:nvPr/>
        </p:nvPicPr>
        <p:blipFill>
          <a:blip r:embed="rId2"/>
          <a:srcRect l="7677" t="0" r="8564" b="31687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F564-1073-4B03-8CB1-FED275AD9DA7}" type="slidenum">
              <a:rPr b="0" lang="ru-RU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D18-0864-436B-BED8-E60A7B1CEEA0}" type="slidenum">
              <a:rPr b="0" lang="ru-RU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5117-CF62-4EF9-81B6-58EAAB07F592}" type="slidenum">
              <a:rPr b="0" lang="ru-RU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358120" cy="33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ртфолио и развитие речи: использование современной педагогической технологии в коррекционно-развивающем обучении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53578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Лементуев Александр Александрович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читель-логопед МКС(к)ОУ «Начальная школа-детский сад № 235»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вид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D:\Мои документы\Мероприятия\Фотографии с ИТ занятий\IMG_0138.jpg"/>
          <p:cNvPicPr/>
          <p:nvPr/>
        </p:nvPicPr>
        <p:blipFill>
          <a:blip r:embed="rId1"/>
          <a:stretch/>
        </p:blipFill>
        <p:spPr>
          <a:xfrm>
            <a:off x="214200" y="214200"/>
            <a:ext cx="4667400" cy="3500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D:\Мои документы\Мероприятия\Фотографии с ИТ занятий\IMG_0137.jpg"/>
          <p:cNvPicPr/>
          <p:nvPr/>
        </p:nvPicPr>
        <p:blipFill>
          <a:blip r:embed="rId2"/>
          <a:stretch/>
        </p:blipFill>
        <p:spPr>
          <a:xfrm>
            <a:off x="4143240" y="3143160"/>
            <a:ext cx="452916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технологии электронного портфолио в работе с младшими школьниками позволяет решать следующие задачи: 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2920" y="1785600"/>
            <a:ext cx="8858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умения анализировать собственные интересы, склонности, своё окружение;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адекватной самооценки, стимулирование стремления к саморазвитию;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систематизации, фиксации и наглядному представлению личной информации;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устной и письменной связной речи;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ение умений работы в компьютерных программах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or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рограмма для сканирования);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требований Федерального государственного образовательного стандарта начального общего образования в части системы оценки достижений планируемых результатов освоения программы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699920"/>
            <a:ext cx="8001000" cy="24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fffff"/>
                </a:solidFill>
                <a:latin typeface="Arial"/>
                <a:ea typeface="Arial"/>
              </a:rPr>
              <a:t>Благодарю за внимание!</a:t>
            </a:r>
            <a:endParaRPr b="0" lang="en-US" sz="8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400" y="1714320"/>
            <a:ext cx="835812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тфоли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ссматривается как продукт деятельности обучающихся, направленный на сбор, фиксацию, систематизацию и хранение личностно значимой информации.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840" y="64296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бл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адаптированного варианта портфолио для обучающихся с тяжёлыми нарушениями речи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285840" y="4143240"/>
            <a:ext cx="8643960" cy="22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шение проблемы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птация традиционного портфолио с учётом особенностей младших школьников с речевыми нарушениями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Стрелка вниз 5"/>
          <p:cNvSpPr/>
          <p:nvPr/>
        </p:nvSpPr>
        <p:spPr>
          <a:xfrm>
            <a:off x="4214880" y="2714760"/>
            <a:ext cx="571320" cy="14284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38160">
            <a:solidFill>
              <a:srgbClr val="b76013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7868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птированный вариант портфолио для детей с тяжёлыми нарушениями речи предполагает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4" name="Текст 2" descr=""/>
          <p:cNvPicPr/>
          <p:nvPr/>
        </p:nvPicPr>
        <p:blipFill>
          <a:blip r:embed="rId1"/>
          <a:stretch/>
        </p:blipFill>
        <p:spPr>
          <a:xfrm>
            <a:off x="73080" y="2212920"/>
            <a:ext cx="90104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ы портфолио для обучающихся с тяжёлыми нарушениями речи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8215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Знакомьтесь, это Я!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я семья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и увлечения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и друзья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я школа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й класс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и достижения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ё творчество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Наши праздники и мероприятия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13840" y="213840"/>
            <a:ext cx="8572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  <a:ea typeface="Tahoma"/>
              </a:rPr>
              <a:t>Коррекционно-развивающий потенциал портфоли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в работе с младшими школьниками, имеющими тяжёлые нарушения речи, состоит использовании его содержания как речевого материала для решения коррекционных логопедических задач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  <a:ea typeface="Tahoma"/>
              </a:rPr>
              <a:t>В содержание портфолио входят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1) тексты сочинений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2) подписи к фотография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4" descr="Image3.jpg"/>
          <p:cNvPicPr/>
          <p:nvPr/>
        </p:nvPicPr>
        <p:blipFill>
          <a:blip r:embed="rId1"/>
          <a:srcRect l="11884" t="7143" r="11884" b="16073"/>
          <a:stretch/>
        </p:blipFill>
        <p:spPr>
          <a:xfrm>
            <a:off x="3000240" y="428760"/>
            <a:ext cx="5621400" cy="371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9" name="Picture 11" descr="IMG_9705"/>
          <p:cNvPicPr/>
          <p:nvPr/>
        </p:nvPicPr>
        <p:blipFill>
          <a:blip r:embed="rId2"/>
          <a:stretch/>
        </p:blipFill>
        <p:spPr>
          <a:xfrm>
            <a:off x="500040" y="442908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4357800" y="45007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учающиеся 3 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C:\Users\Администратор\AppData\Local\Microsoft\Windows\Temporary Internet Files\Content.IE5\L94PBRB3\MC900439822[1].png"/>
          <p:cNvPicPr/>
          <p:nvPr/>
        </p:nvPicPr>
        <p:blipFill>
          <a:blip r:embed="rId1"/>
          <a:stretch/>
        </p:blipFill>
        <p:spPr>
          <a:xfrm>
            <a:off x="3214800" y="128592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8" descr=""/>
          <p:cNvPicPr/>
          <p:nvPr/>
        </p:nvPicPr>
        <p:blipFill>
          <a:blip r:embed="rId2"/>
          <a:stretch/>
        </p:blipFill>
        <p:spPr>
          <a:xfrm>
            <a:off x="2352600" y="781200"/>
            <a:ext cx="4078440" cy="7984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9"/>
          <p:cNvSpPr/>
          <p:nvPr/>
        </p:nvSpPr>
        <p:spPr>
          <a:xfrm>
            <a:off x="285840" y="4857840"/>
            <a:ext cx="357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жковые занятия «Путешествие в мир информат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5286240" y="485784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ые логопедические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авая фигурная скобка 11"/>
          <p:cNvSpPr/>
          <p:nvPr/>
        </p:nvSpPr>
        <p:spPr>
          <a:xfrm rot="16200000">
            <a:off x="3857760" y="1285920"/>
            <a:ext cx="1071360" cy="5929200"/>
          </a:xfrm>
          <a:custGeom>
            <a:avLst/>
            <a:gdLst>
              <a:gd name="textAreaLeft" fmla="*/ 0 w 1071360"/>
              <a:gd name="textAreaRight" fmla="*/ 387000 w 1071360"/>
              <a:gd name="textAreaTop" fmla="*/ 27720 h 5929200"/>
              <a:gd name="textAreaBottom" fmla="*/ 5901480 h 59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16200" y="10800"/>
                  <a:pt x="21600" y="10800"/>
                </a:cubicBezTo>
                <a:cubicBezTo>
                  <a:pt x="162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901800" y="706320"/>
            <a:ext cx="782136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7:30:08Z</dcterms:created>
  <dc:creator>Л.А.А.</dc:creator>
  <dc:description/>
  <dc:language>en-US</dc:language>
  <cp:lastModifiedBy>А.А.Л.</cp:lastModifiedBy>
  <dcterms:modified xsi:type="dcterms:W3CDTF">2013-04-18T17:15:16Z</dcterms:modified>
  <cp:revision>27</cp:revision>
  <dc:subject/>
  <dc:title>Слайд 1</dc:title>
</cp:coreProperties>
</file>