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502-FDE3-4D8B-B039-10669071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450-874D-441E-AE4F-14A684E1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5E8-8A5A-42A3-BE45-D7018B82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A73-FE91-4150-9673-2B2FEE34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9BD-D1FC-4126-BC16-82B8FFC0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52F3-599F-4977-8018-E8FF84A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D83C-13F6-471D-B6B1-4192E515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803-68A2-4DF1-80D0-ACA6BDFB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2CD5-88D4-44D0-9B17-589730B6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63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0BCF-E9C2-47DD-8A25-750327BD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0935-258A-4955-B3B5-DC34D76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A50-1CF1-4721-A8A2-A41B5D9F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3C69-BA95-4E04-98EF-11A4FC9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FF56-3A80-4527-BF22-C50B34A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93CC-D700-41C7-8087-6E1544E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D62-4811-4C42-B3FE-9477CD07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F709-1019-458F-AFFF-88889ED6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52FA-FD22-42CD-8BDB-5AA1FF6E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9DB3-A5B5-4BFC-A61E-381E66D2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297A-E6AB-40D2-A0F1-34A83249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ABAA-4133-43E9-A1B6-F04F5CE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8C8A-243A-45A1-A48A-4AD4875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D58-F834-4958-856D-16CFD3CD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63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4751-AA7C-4363-ABAC-500B2BC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A670-C6F7-4BB1-BEDC-6991AD1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1F9B-C812-4DCE-AD45-7D27766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A8DB-4BE0-476E-80EC-410FE7A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5FDB-839E-483E-9D56-571B4DA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B80F-4298-4F96-BD40-99B406A6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2AA4-94D5-4B0C-AD4B-58BAE63B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7E0-AE9A-4F50-9EC8-1E4C950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F31-AF54-4A3E-A0F4-C0E4BCA6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63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A44-1D3A-4ACC-B92A-4DDF481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CB8-62CA-4042-AFF9-9772E2EA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D9C-92B6-4B30-8047-6817F30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490-C313-43B1-8EB2-A8EDF9D4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392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 fontScale="37000"/>
          </a:bodyPr>
          <a:p>
            <a:pPr marL="12672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6720" indent="-12672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30.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7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4D8D1-598C-4293-A1F3-DAC81258591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fld id="{EA5C3A35-0D58-41B9-85B5-36DC6652E5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1200" bIns="4500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30.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87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5B0925-990F-41BE-B5C4-5E80FF36B1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fld id="{A323A980-9613-4E0F-BFFF-D331B73A34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30.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879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F9419A-B815-4EF5-8F5A-13DEFE4AAB7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fld id="{80446C34-01FE-42D6-93C7-B9F09BF6D01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16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49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0720" y="720720"/>
            <a:ext cx="7740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5320" bIns="45000" anchor="t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О  БРАТЬЯХ  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НАШИХ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  МЕНЬШИ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120" y="23320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79640" y="1979640"/>
            <a:ext cx="701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усская народная сказка «Белые пёрыш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600360" y="179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03280" y="179280"/>
            <a:ext cx="8640720" cy="648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60360" y="179280"/>
            <a:ext cx="8783640" cy="6480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179280"/>
            <a:ext cx="7921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 какому произведению подходит эта иллюстр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4880" y="4500720"/>
            <a:ext cx="1455840" cy="183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2160720"/>
            <a:ext cx="7740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усская народная сказка в обработке Л.Толстого «Зимовье звер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743280" y="360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3360" y="360360"/>
            <a:ext cx="7921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 какому произведению подходит эта иллюстр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183440" y="4500720"/>
            <a:ext cx="1455840" cy="183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20720" y="2160720"/>
            <a:ext cx="7920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отрывок из «Сказки про Воробья Воробеича и Ерша Ершовича» Д.Н. Мамина-Сибиря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924360" y="179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4600" y="236520"/>
            <a:ext cx="8783640" cy="6300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3360" y="360360"/>
            <a:ext cx="79214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 какому произведению подходит эта иллюстр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04880" y="4464000"/>
            <a:ext cx="1455840" cy="183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3652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2519280"/>
            <a:ext cx="828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ассказ М.М.Пришв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тарый гриб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743280" y="503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79280" y="179280"/>
            <a:ext cx="8640720" cy="648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езентацию выпол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ченик 2«А»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ГАОУ «БИЮ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оваленко Макс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414036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60360" y="4319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39640" y="324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443640" y="324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179280"/>
            <a:ext cx="82440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619280"/>
            <a:ext cx="78789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120" bIns="45000" anchor="t">
            <a:noAutofit/>
          </a:bodyPr>
          <a:p>
            <a:pPr algn="ctr">
              <a:lnSpc>
                <a:spcPct val="96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егодня мы  вспомним все произведения, которые изучили.</a:t>
            </a:r>
            <a:r>
              <a:rPr b="1" lang="ru-RU" sz="4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0360" y="17928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гра «Отгадай назва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0840" y="3780000"/>
            <a:ext cx="70264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аша   ёж     зм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79640" y="2340000"/>
            <a:ext cx="6480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just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порным словам, отгадайте названи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19640" y="1116000"/>
            <a:ext cx="112392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0360" y="179280"/>
            <a:ext cx="8640720" cy="648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ассказ В.Биа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Ёж-спасит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80000" y="50328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300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857160"/>
            <a:ext cx="90010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7320" bIns="45000" anchor="t">
            <a:noAutofit/>
          </a:bodyPr>
          <a:p>
            <a:pPr indent="0" algn="ctr">
              <a:lnSpc>
                <a:spcPct val="9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опорным словам, отгадайте название расска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3274920"/>
            <a:ext cx="6840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т   козёл     ба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9280" y="2160720"/>
            <a:ext cx="112392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0360" y="179280"/>
            <a:ext cx="8640720" cy="648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сказка К.Ушин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лутишка ко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743280" y="360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00" y="856800"/>
            <a:ext cx="77040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79640" y="1079640"/>
            <a:ext cx="785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ctr">
              <a:lnSpc>
                <a:spcPct val="96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порным словам, отгадайте названи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17640" y="3274920"/>
            <a:ext cx="549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журавль    цап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75000" y="2160720"/>
            <a:ext cx="112392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79640" y="1979640"/>
            <a:ext cx="684036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русская народная сказка «Журавль и цап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419640" y="17928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8223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365040"/>
            <a:ext cx="86407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30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какому произведению подход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 иллюстра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604960" y="2359080"/>
            <a:ext cx="4319640" cy="395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39640" y="4645080"/>
            <a:ext cx="1619280" cy="183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1-30T13:12:41Z</dcterms:modified>
  <cp:revision>4</cp:revision>
  <dc:subject/>
  <dc:title/>
</cp:coreProperties>
</file>