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5.jpeg" ContentType="image/jpeg"/>
  <Override PartName="/ppt/media/image6.gif" ContentType="image/gif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A65-2671-4C60-89F1-2460A542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DF15-A432-4D64-8600-AD35E094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2166-8E74-4BB8-9CC2-BFE4BE6B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4A98-0F23-4DB8-AA39-F740BCDA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AA5D-69EA-45A0-A16B-2811F68E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66EB-54E5-485A-8244-C5DE29C3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8A29-E656-4BF6-B6FB-DC78D794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5446-FCE6-411D-BC75-BD8B7318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C570-03B2-49E8-8739-A562CCE9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63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D400-B00B-4399-883B-DB4008EE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2A97-B17E-41CD-A267-8C82E380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CBD0-39AB-4703-ABB1-05B254AD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BD05-EC8B-443F-9E34-0AA3CCF2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B73A-957F-4BC2-B60F-D2201452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990B-A5A5-411D-A0BC-8065D74E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F62A-6652-4347-8333-F61B1B48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75E4-6618-477C-91A6-264BD3EB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6EC6B-988E-451E-824E-0F398DE9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DFB49-D556-40FB-B175-BB2C4D8B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487A0-FB23-4006-8A3D-31D3F82B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7F660-CE5C-407F-B6C1-2E37067D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7EFFF-BDE9-44D8-AA16-6E551D0F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16C0-AB7C-476E-9743-367ACC52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63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70EEE-3FD7-41D7-A38E-4D7D8F1D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B93C7-EDA5-4513-B407-840E260F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328AF-86FF-4930-AFBB-533A7DDD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D1492-7D3C-4429-9938-1F79A05B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2A13E-C99F-4938-B513-27E69C59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0A45D-8911-48BD-B3C1-15245CBC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26432-40BF-4D40-ADB3-F2C55CBC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5789-67DB-4A0A-AF88-17D9532D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67FF-8440-4C81-A2D7-D9CCAF87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63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93F4-88E7-43B7-B98D-01C29FE7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14AC-86E7-4EA9-9A38-164EAA2B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914E-8A53-47A0-ACD6-31126071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F80D-22D0-44F9-9A49-D988503C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886200"/>
            <a:ext cx="6392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 fontScale="37000"/>
          </a:bodyPr>
          <a:p>
            <a:pPr marL="12672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26720" indent="-12672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6720" indent="-12672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6720" indent="-12672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6720" indent="-12672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6720" indent="-12672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6720" indent="-12672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30.1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879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CDA5F-8EB3-4888-BF46-EDCEC325350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fld id="{774E4C6D-F2C5-4D59-9DBD-596CB66CF0C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30.1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879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D2882DB-E259-4475-844F-8ED356CCB7E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fld id="{FB924CBD-BB45-4D26-A351-A36B47B3394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30.1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879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3B77633-CFAC-484C-81D5-6F68BE58419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fld id="{6BD1A3FE-2674-4A6F-9004-257ABEFFA9B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01600"/>
            <a:ext cx="82216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8820360" cy="6497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0720" y="720720"/>
            <a:ext cx="774072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3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О  БРАТЬЯХ  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НАШИХ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  МЕНЬШИ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11120" y="23320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60360" y="179280"/>
            <a:ext cx="8640720" cy="6480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079640" y="1979640"/>
            <a:ext cx="7019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ави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русская народная сказка «Белые пёрыш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600360" y="179280"/>
            <a:ext cx="2016360" cy="2016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03280" y="179280"/>
            <a:ext cx="8640720" cy="6480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60360" y="179280"/>
            <a:ext cx="8783640" cy="6480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39640" y="179280"/>
            <a:ext cx="7921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 какому произведению подходит эта иллюстрац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704880" y="4500720"/>
            <a:ext cx="1455840" cy="1834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8640720" cy="6480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0000" y="2160720"/>
            <a:ext cx="774072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ави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русская народная сказка в обработке Л.Толстого «Зимовье звере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743280" y="36036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8820360" cy="6480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03360" y="360360"/>
            <a:ext cx="7921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 какому произведению подходит эта иллюстрац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183440" y="4500720"/>
            <a:ext cx="1455840" cy="1834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60360" y="179280"/>
            <a:ext cx="8640720" cy="6480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20720" y="2160720"/>
            <a:ext cx="79200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ави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отрывок из «Сказки про Воробья Воробеича и Ерша Ершовича» Д.Н. Мамина-Сибиря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3924360" y="17928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74600" y="236520"/>
            <a:ext cx="8783640" cy="6300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03360" y="360360"/>
            <a:ext cx="792144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 какому произведению подходит эта иллюстрац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704880" y="4464000"/>
            <a:ext cx="1455840" cy="1835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36520" y="179280"/>
            <a:ext cx="8640720" cy="6480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39640" y="2519280"/>
            <a:ext cx="828036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ави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рассказ М.М.Пришв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Старый гриб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3743280" y="50328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79280" y="179280"/>
            <a:ext cx="8640720" cy="648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езентацию выполн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ченик 2«А» кл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ГАОУ «БИЮЛ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оваленко Макс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804000" y="414036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360360" y="431964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539640" y="324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6443640" y="32400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8640720" cy="64803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0000" y="179280"/>
            <a:ext cx="824400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1619280"/>
            <a:ext cx="78789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120" bIns="45000" anchor="t">
            <a:noAutofit/>
          </a:bodyPr>
          <a:p>
            <a:pPr algn="ctr">
              <a:lnSpc>
                <a:spcPct val="96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егодня мы  вспомним все произведения, которые изучили.</a:t>
            </a:r>
            <a:r>
              <a:rPr b="1" lang="ru-RU" sz="4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8640720" cy="6480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60360" y="179280"/>
            <a:ext cx="792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12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Игра «Отгадай наз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50840" y="3780000"/>
            <a:ext cx="70264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Маша   ёж     зм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79640" y="2340000"/>
            <a:ext cx="64800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t">
            <a:noAutofit/>
          </a:bodyPr>
          <a:p>
            <a:pPr algn="just">
              <a:lnSpc>
                <a:spcPct val="96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опорным словам, отгадайте название расск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319640" y="1116000"/>
            <a:ext cx="112392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0360" y="179280"/>
            <a:ext cx="8640720" cy="648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ави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рассказ В.Биан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Ёж-спасител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780000" y="50328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8820360" cy="63007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560" y="857160"/>
            <a:ext cx="90010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7320" bIns="45000" anchor="t">
            <a:noAutofit/>
          </a:bodyPr>
          <a:p>
            <a:pPr indent="0" algn="ctr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 опорным словам, отгадайте название рассказ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79640" y="3274920"/>
            <a:ext cx="6840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от   козёл     бар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59280" y="2160720"/>
            <a:ext cx="112392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60360" y="179280"/>
            <a:ext cx="8640720" cy="648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ави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сказка К.Ушинск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лутишка ко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743280" y="36036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8640720" cy="64803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0000" y="856800"/>
            <a:ext cx="770400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79640" y="1079640"/>
            <a:ext cx="78580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t">
            <a:noAutofit/>
          </a:bodyPr>
          <a:p>
            <a:pPr algn="ctr">
              <a:lnSpc>
                <a:spcPct val="96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опорным словам, отгадайте название расск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17640" y="3274920"/>
            <a:ext cx="5491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журавль    цап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275000" y="2160720"/>
            <a:ext cx="112392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60360" y="179280"/>
            <a:ext cx="8640720" cy="6480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079640" y="1979640"/>
            <a:ext cx="6840360" cy="29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ави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русская народная сказка «Журавль и цапл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419640" y="17928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8640720" cy="6480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822320"/>
            <a:ext cx="822960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365040"/>
            <a:ext cx="864072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 какому произведению подход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а иллюстрац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604960" y="2359080"/>
            <a:ext cx="4319640" cy="3959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39640" y="4645080"/>
            <a:ext cx="1619280" cy="1834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3-01-30T13:12:41Z</dcterms:modified>
  <cp:revision>4</cp:revision>
  <dc:subject/>
  <dc:title/>
</cp:coreProperties>
</file>