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FD3-847D-4E0D-A59C-9E3E005B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5A5-B966-4AC1-AAC5-FF001DA2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8A9-5498-4357-BEE7-CC2054A5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7BF-210C-4A51-A995-F61DC77B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481D-C2B9-4553-B8EA-24308393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193A-9F11-4311-8E18-B3ED0950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2B45-E937-4EF0-B65F-B3D7F666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94A0-EC38-4AB4-A3A1-886340DE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3CB7-9853-43B3-A0C5-9CAA4A82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F23E-4DA9-4A82-809C-99C97429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C0E0-CE5E-426F-97E9-F9EE6B39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AEE-C70B-4ABC-88B7-4CCAA629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6E44-D139-4F6B-A206-B46EECE3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B9DC-B6F2-4BCC-85D8-FB1EC990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D145-FA3D-4E92-9E5F-BCDE3912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2A08-C876-475D-B10D-2AEE26C2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DF6B-5CA2-4C39-86CE-25E0F703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172-89F3-4858-9DD2-40FA2B99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0F66-1153-4274-AF99-3D05B8DC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78B-A6FE-42DA-B0EA-D3E11BD6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9E6-FDEE-4A2E-AC5D-6BADE8C4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D8E-FBEC-4604-B095-A575593F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FC07-072A-45DB-B33D-FE52AAC2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A2C-16DA-4FD6-B912-22EDD33F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E8AA-0050-4445-8D11-8DB8B8A1224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D00C-F42A-4FEA-BF2C-7AD4E6EC3B8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Here are nine planets that we know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Round and round the Sun they go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ercury, Venus, Earth, and Mars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se are the planets near our sta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Jupiter, Saturn, Uranus, too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eptune, Pluto, we can't see you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Here are nine planets that we know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Round and round the Sun they go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657600" y="53352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lane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228600" y="2895480"/>
            <a:ext cx="27432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агар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Юр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ексе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6700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533520" y="2514600"/>
            <a:ext cx="259056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рмстрон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Ne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rmstrong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0" y="2362320"/>
            <a:ext cx="35053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елен Патри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ерм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Helen Patric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harman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286000" y="0"/>
            <a:ext cx="4572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osmos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3848040" cy="2971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79840" y="3355920"/>
            <a:ext cx="185760" cy="147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479840" y="3355920"/>
            <a:ext cx="185760" cy="147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479840" y="3355920"/>
            <a:ext cx="185760" cy="147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479840" y="3355920"/>
            <a:ext cx="185760" cy="14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5567400" y="2133720"/>
            <a:ext cx="3576600" cy="3657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4479840" y="3355920"/>
            <a:ext cx="185760" cy="147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0" y="3886200"/>
            <a:ext cx="4267080" cy="2971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80880" y="0"/>
            <a:ext cx="2171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cosmo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705720" y="1447920"/>
            <a:ext cx="1209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sun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4114800"/>
            <a:ext cx="1266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star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4033800"/>
            <a:ext cx="4191120" cy="2824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295280" y="0"/>
            <a:ext cx="286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.cosmonaut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705720" y="2590920"/>
            <a:ext cx="1800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.comet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3886200"/>
            <a:ext cx="1762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.planet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3600" y="25146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438280" y="685800"/>
            <a:ext cx="3495960" cy="2766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3929040"/>
            <a:ext cx="3429000" cy="2928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858000" y="1905120"/>
            <a:ext cx="1990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.sputnik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76520" y="304920"/>
            <a:ext cx="2104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.satellite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3276720"/>
            <a:ext cx="1666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.moon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46727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304920" y="-609480"/>
            <a:ext cx="9753840" cy="80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296280" cy="69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6248520" cy="701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0" y="3886200"/>
            <a:ext cx="2743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рге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влови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рол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13T17:41:4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