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B44-4C14-4D68-84E4-8EFB6B0B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010-42F0-403B-B771-A2930E2D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EE6-3F4D-4EB1-B457-18B779BE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5A9-90A8-4384-85D2-3F5895A8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9F8-1537-48FC-AFA2-EB7E1AA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64B-5FA9-497F-BB2A-E0B037E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08D-72E6-41EA-B29F-67A1159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1ED-0952-4052-8E03-42C4D78B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3C2-D05F-4C9F-8820-211E538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3B6-C4A0-440F-A595-3C5D5D8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BBC-67F3-49DE-AF30-76B45AC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41B-3A1A-4C26-8A0F-E815FBB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5CC-2F09-421B-81B3-20AB550E3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159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иги Геракл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3160" y="692280"/>
            <a:ext cx="3906720" cy="60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214200" y="578628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05264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яс Ипполи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60920" y="476280"/>
            <a:ext cx="4228920" cy="559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2904" t="0" r="5325" b="0"/>
          <a:stretch/>
        </p:blipFill>
        <p:spPr>
          <a:xfrm>
            <a:off x="395280" y="2421000"/>
            <a:ext cx="3838680" cy="426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4360" y="836640"/>
            <a:ext cx="35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до Герио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540072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3278160" cy="525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83664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блоки Геспери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381560" cy="5618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50920" y="1052640"/>
            <a:ext cx="403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крощени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ербе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54640" y="620640"/>
            <a:ext cx="4376520" cy="5659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706920" cy="267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816360" cy="312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49360"/>
            <a:ext cx="344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мейский ле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62064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рнейская гид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14560" cy="476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602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33336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еринейская ла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3708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4179960"/>
            <a:ext cx="302436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955" t="1410" r="5185" b="0"/>
          <a:stretch/>
        </p:blipFill>
        <p:spPr>
          <a:xfrm>
            <a:off x="4587840" y="404640"/>
            <a:ext cx="4556160" cy="5054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8900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риманфский вепр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560760" cy="474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4736" t="1857" r="3130" b="0"/>
          <a:stretch/>
        </p:blipFill>
        <p:spPr>
          <a:xfrm>
            <a:off x="4711680" y="333360"/>
            <a:ext cx="4432320" cy="59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89000"/>
            <a:ext cx="537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мфальские птиц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633920" cy="375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97520" y="3716280"/>
            <a:ext cx="4146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7"/>
          <p:cNvSpPr/>
          <p:nvPr/>
        </p:nvSpPr>
        <p:spPr>
          <a:xfrm>
            <a:off x="2556000" y="50846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072040" y="51436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8900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вгиевы конюшн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395520" cy="396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94360" y="189000"/>
            <a:ext cx="3914640" cy="6264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920" y="333360"/>
            <a:ext cx="35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итский бы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176720" cy="365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30880" y="1197000"/>
            <a:ext cx="4713120" cy="441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7"/>
          <p:cNvSpPr/>
          <p:nvPr/>
        </p:nvSpPr>
        <p:spPr>
          <a:xfrm>
            <a:off x="7286760" y="1429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341360"/>
            <a:ext cx="326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и Диоме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35280" y="907920"/>
            <a:ext cx="5508720" cy="445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54" t="1103" r="4077" b="0"/>
          <a:stretch/>
        </p:blipFill>
        <p:spPr>
          <a:xfrm>
            <a:off x="0" y="2975040"/>
            <a:ext cx="3603600" cy="3882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0:37:39Z</dcterms:created>
  <dc:creator>Елена</dc:creator>
  <dc:description/>
  <dc:language>en-US</dc:language>
  <cp:lastModifiedBy>-</cp:lastModifiedBy>
  <dcterms:modified xsi:type="dcterms:W3CDTF">2011-04-21T16:49:42Z</dcterms:modified>
  <cp:revision>26</cp:revision>
  <dc:subject/>
  <dc:title>Слайд 1</dc:title>
</cp:coreProperties>
</file>