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8E3-7F4F-48B2-9EB9-C553CC26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A98-93DB-4B9B-9F5A-7E7E0D8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BCC-B680-4546-AE70-803920CC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FBA-D961-4C53-BF88-CC456E09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2C3D-E8AC-4E26-85B6-345FD0E6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81D-0CC9-4129-8EF1-3A35C21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2E93-5548-4A94-98C7-4CCEB22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3FA-779A-4A99-A5BA-CC5C793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59FC-A6E1-46C3-AB79-EEC1C517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281-D17C-45F0-A4A3-89B63E5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0D1-71E8-4614-944F-FB6ADB2A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391-2A7B-4C76-A958-F0671939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C03B-F87C-4F52-8A53-A69A583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2CE3-0856-4208-AB19-8B21AA7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D481-CAE5-4B93-85AA-E69742BD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F88-78DA-4D89-964A-364E78E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AE8-4857-4FB4-8AB0-125D4B0C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6B5-233B-486A-AB87-EC530254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712-1279-42D1-9F84-CE59873B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440-DE83-493D-B28A-A08D3B2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DF6-48D8-47F0-BED7-51258F8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5BB-615B-4706-9696-75E4D33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B0-3112-489A-BB80-582AC9D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CCC-8D68-4236-B61B-CC9D6D2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BF01-A09A-4C27-AF6A-4527B69F6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BBA-C63E-4E18-9A43-7A490B389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амятники архитекту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ГБОУ СОШ № 280 им. М.Ю.Лермон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Учитель: Ягофарова Людмила Мара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http://doroga-mlm.tiande-rus.ru/wp-content/uploads/2010/06/P10700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0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http://img0.liveinternet.ru/images/attach/c/4/82/295/82295732_large_a3c8fd6c62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http://egyptiantreasurestours.umi.ru/images/cms/data/cd94f2e44661.jpg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http://www.flyex.ru/upload/v/vokrug_panteona-pantheo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http://www.city-find.net/news_img/2012_08_33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ttp://club.foto.ru/gallery/images/photo/2008/06/10/11206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http://www.kleverc.ru/country_foto/china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http://desktopwallpapers.org.ua/large/201110/69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angelgothic.ru/_ph/5/4911839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upload.wikimedia.org/wikipedia/commons/thumb/1/1c/Festung_Hohenwerfen.jpg/800px-Festung_Hohenwerf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09:36Z</dcterms:created>
  <dc:creator>Татьяна</dc:creator>
  <dc:description/>
  <dc:language>en-US</dc:language>
  <cp:lastModifiedBy>Татьяна</cp:lastModifiedBy>
  <dcterms:modified xsi:type="dcterms:W3CDTF">2013-09-22T12:03:02Z</dcterms:modified>
  <cp:revision>8</cp:revision>
  <dc:subject/>
  <dc:title>Слайд 1</dc:title>
</cp:coreProperties>
</file>