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7.png" ContentType="image/png"/>
  <Override PartName="/ppt/media/image37.png" ContentType="image/png"/>
  <Override PartName="/ppt/media/image9.png" ContentType="image/png"/>
  <Override PartName="/ppt/media/image13.jpeg" ContentType="image/jpeg"/>
  <Override PartName="/ppt/media/image23.png" ContentType="image/png"/>
  <Override PartName="/ppt/media/image30.png" ContentType="image/png"/>
  <Override PartName="/ppt/media/image10.jpeg" ContentType="image/jpeg"/>
  <Override PartName="/ppt/media/image28.png" ContentType="image/png"/>
  <Override PartName="/ppt/media/image31.png" ContentType="image/png"/>
  <Override PartName="/ppt/media/image11.png" ContentType="image/pn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36.jpeg" ContentType="image/jpeg"/>
  <Override PartName="/ppt/media/image38.png" ContentType="image/png"/>
  <Override PartName="/ppt/media/image39.jpeg" ContentType="image/jpeg"/>
  <Override PartName="/ppt/media/image8.png" ContentType="image/png"/>
  <Override PartName="/ppt/media/image14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D7FC-1E8F-4A65-9069-285CC0B63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E802-CA80-457B-BB92-A9782575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E682-723F-4187-A47B-73AFBBA3D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002F-822F-48D0-932C-DB24986C4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928F-D888-47CA-8C98-E86B1C61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6F32-7A1D-4ACE-8068-66734C8E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3CC6-E129-4B16-BA82-1E09C115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40B6-3D71-45BC-AD92-A7531E83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E262-AB8F-4E83-880D-DAC1F114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3F6F-D710-4DAE-BE17-E07FF7A9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E6BC-DF53-4638-BDF6-FF13DDDD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CA13-57C9-4051-B3BE-8FE2C428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B221-DB1C-40B2-9D68-E69EC488F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3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7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ru.wikipedia.org/wiki/&#1048;&#1079;&#1086;&#1073;&#1088;&#1072;&#1078;&#1077;&#1085;&#1080;&#1077;:&#1055;&#1072;&#1084;&#1103;&#1090;&#1085;&#1080;&#1082;_&#1085;&#1072;_&#1050;&#1091;&#1083;&#1080;&#1082;&#1086;&#1074;&#1086;&#1084;_&#1087;&#1086;&#1083;&#1077;_&#1087;&#1086;_&#1087;&#1088;&#1086;&#1077;&#1082;&#1090;&#1091;_&#1041;&#1088;&#1102;&#1083;&#1083;&#1086;&#1074;&#1072;.jpg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52480" y="1143000"/>
            <a:ext cx="6400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 ноября –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День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народного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един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0" t="0" r="0" b="2256"/>
          <a:stretch/>
        </p:blipFill>
        <p:spPr>
          <a:xfrm>
            <a:off x="2590920" y="380880"/>
            <a:ext cx="4074840" cy="5334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523880" y="58672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Червлёный (красный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стяг русской друж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5067360" cy="5705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Битва на Куликовом поле – 1380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ыл закон: покуда зна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звивалось над полком,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усть победа не за нами,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се равно дерись с враг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о когда оно уп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исчезло без следа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то знак, что все пропал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ссыпайся кто куд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Ныне этого не будет,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ворит великий княз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намя черное целуе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идет,  перекрестя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ам понятна мысль проста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 обратного пу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ше знамя – Русь свят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то у каждого в гру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отце Петра 1, царе Алексее Михайловиче, в России впервые появились знамена с сочетанием трех цветов – белого, синего и крас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327672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295960" y="2895480"/>
            <a:ext cx="3314520" cy="221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380880" y="601992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Штандарт президента России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601992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Флаг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Вперед!» и под знамена! Борись, солдат, душой!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строилась колонна и двинулась на бой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таки марш наш грянул, мы весело пошли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 нашим новым знаменем огонь горит в гру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74720" y="1828800"/>
            <a:ext cx="3789360" cy="4114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84600" y="1828800"/>
            <a:ext cx="3721320" cy="4191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590920" y="6095880"/>
            <a:ext cx="41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Битва на Куликовом п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чень долгое время наш стяг был ярко-красного цвета. В 1991 году Государственным флагом России вновь стал бело-сине-красный. Эти цвета издревле имели символическое значение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елы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великодушие, откровенность, чистота.</a:t>
            </a:r>
            <a:br>
              <a:rPr sz="2000"/>
            </a:b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Синий</a:t>
            </a: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верность, честность.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расный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мужество, смелость, любов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480" y="2879640"/>
            <a:ext cx="3768840" cy="1884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4920" y="493704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Флаг России Советского Пери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257800" y="2879640"/>
            <a:ext cx="3314880" cy="18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4724280" y="493704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Флаг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1523880" y="0"/>
            <a:ext cx="12344400" cy="681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86800" cy="52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усть руки друг друга найдут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 в клятвенном рукопожатье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веки сплотило весь русский народ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усское, гордое знам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Герб Росс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так называется следующая страничка нашего путешествия. </a:t>
            </a:r>
            <a:br>
              <a:rPr sz="2000"/>
            </a:b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Герб  и государ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эти два понятия связаны друг с друг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666880" y="1876320"/>
            <a:ext cx="3354480" cy="4067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90240" y="5943600"/>
            <a:ext cx="858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ерб – это официальная эмблема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оссийский герб – это двуглавый орел, на груди которого расположился герб Москвы с изображением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Георгия Победонос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 белом коне. Над головами орла – три короны, в лапах – символы государственной власти – 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скипетр и держа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2473560" cy="2971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943600" y="1828800"/>
            <a:ext cx="2771640" cy="3352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276720" y="2209680"/>
            <a:ext cx="2442960" cy="2895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7200" y="54100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вуглавый орё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541008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ерб Мос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43600" y="54100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кипетр и держ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сийский герб в виде двуглавого орла имеет почти полутысячелетнюю историю. Впервые официальное изображение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вуглавого ор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явилось на печати великого князя московског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вана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II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мволика двуглавого орла – одна голова обращена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на Запа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другая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 Вост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удачно подошла России, соединившей две части света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вропу и Ази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ечение веков неоднократно менялись рисунок и цвет ор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381800" y="4876920"/>
            <a:ext cx="1152720" cy="1226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1128960" cy="1249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362320" y="3048120"/>
            <a:ext cx="1114200" cy="1447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056120" y="3129120"/>
            <a:ext cx="1201680" cy="14428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5656320" y="3200400"/>
            <a:ext cx="1201680" cy="1440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7380360" y="3284640"/>
            <a:ext cx="1154160" cy="1439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609480" y="4572000"/>
            <a:ext cx="1211400" cy="1440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2290680" y="4572000"/>
            <a:ext cx="1214640" cy="1434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9"/>
          <a:stretch/>
        </p:blipFill>
        <p:spPr>
          <a:xfrm>
            <a:off x="4056120" y="4648320"/>
            <a:ext cx="1201680" cy="1439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0"/>
          <a:stretch/>
        </p:blipFill>
        <p:spPr>
          <a:xfrm>
            <a:off x="5678640" y="4648320"/>
            <a:ext cx="1179360" cy="1447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905120" y="37339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3733920"/>
            <a:ext cx="304920" cy="304560"/>
          </a:xfrm>
          <a:prstGeom prst="rightArrow">
            <a:avLst>
              <a:gd name="adj1" fmla="val 50000"/>
              <a:gd name="adj2" fmla="val 2503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4120" y="380988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388620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518148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52578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53341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34320" y="53341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10480" y="3962520"/>
            <a:ext cx="304920" cy="304560"/>
          </a:xfrm>
          <a:prstGeom prst="rightArrow">
            <a:avLst>
              <a:gd name="adj1" fmla="val 50000"/>
              <a:gd name="adj2" fmla="val 2503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Герб нашей Родины!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т на Земле человека, который бы не знал его, при взгляде на него оставался бы равнодушным! На него </a:t>
            </a: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с любовью и надеждо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мотрят друзья, с ненавистью и бессильной злобой – враги. Он участник всех наших исторических и государственных д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257800" y="2209680"/>
            <a:ext cx="3141720" cy="3810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09480" y="2971800"/>
            <a:ext cx="1581120" cy="17524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57200" y="4876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б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V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743200" y="274320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590920" y="48769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ерб советского пери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временный герб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0" y="35812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24280" y="3657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осударственных символов </a:t>
            </a: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830592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ы любим свою Родину, свою землю. Мы ходим по этой земле. Но если бы мы были птицами, то с удовольствием и огромным интересом взглянули бы на нашу землю с высоты птичьего пол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меркнущая Родины звезд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мы ее с тобой не выбира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р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рит она над отчим крае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на у нас одна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навсегд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429000" y="457200"/>
            <a:ext cx="228600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история</a:t>
            </a:r>
            <a:endParaRPr b="0" lang="en-US" sz="4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rcRect l="0" t="20976" r="0" b="8617"/>
          <a:stretch/>
        </p:blipFill>
        <p:spPr>
          <a:xfrm>
            <a:off x="1295280" y="2133720"/>
            <a:ext cx="6782040" cy="35812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реди эмблем и символов Российского государства особое место занимает 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Государственный гим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сударственный гимн России – это поэтико-музыкальная эмблема 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величия и слав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воей широкой, свободной мелодией, ритмом, благородством гимн выражает самые заветные чувства россия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5715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Автор слов Сергей Михалков, Габриэль Эль-Регистан, 2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Композитор Александр Александров, 193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Утверждён 2000 (слова в 200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-228600" y="573120"/>
            <a:ext cx="9448920" cy="57513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ово «гим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греческое, означает в переводе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«торжественная  песнь»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 1943 году С.Михалков и Г.Эль-Регистан и композитор Александров написали Государственный Гимн советского государства. Гимн был утвержден в трудное для страны время – шла Великая Отечественная война. В нем зазвучала твердая уверенность в нашей победе над злейшим врагом человечества – фашизмом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шло время, Советский Союз распался на отдельные государства. Началась работа над новым текстом и мелодией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декабря 2000 года Государственной Думой Российской Федерации в качестве Гимна России принята мелодия бывшего Гимна СССР на музыку А.Александрова. В 2002 году Гимн обрел и слова. Теперь наше государство имеет полноценный Гимн, который отражает все новое и демократическое в нашей стр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7200" y="228600"/>
            <a:ext cx="5257800" cy="19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оссия — священная наша держа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оссия — любимая наша стра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гучая воля, великая слава 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воё достоянье на все времена!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1447920"/>
            <a:ext cx="5133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авься, Отечество наше свободно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ратских народов союз веков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дками данная мудрость народная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авься, страна! Мы гордимся тобой!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ы должны помнить о том, что нужно с уважением относиться к государственной символике, хранить для будущих поколений, уважать Законы своей 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Родин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готовить себя к защите ее чести, свободы и достоинств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1297" r="0" b="10390"/>
          <a:stretch/>
        </p:blipFill>
        <p:spPr>
          <a:xfrm>
            <a:off x="3005280" y="2590920"/>
            <a:ext cx="3166920" cy="35049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62485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пецэкземпляр Конституции для Президента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Российская Федер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52280" y="914400"/>
            <a:ext cx="9601200" cy="4871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1143000"/>
            <a:ext cx="640080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нована 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862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фициальный язык 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рус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олица 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Мос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орма правления 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Президентская республ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зидент 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Дмитрий Медведе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рритория 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1-я в мире (17 075 400 км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селение 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9-е в мире (141 888 900 челове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алюта 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Российский рубль (RU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5638680"/>
            <a:ext cx="8077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упнейшие города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Санкт-Петербург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Москва, Новосибирск, Екатеринбур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830592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утешествие начинается. Мы погрузимся в историческое прошлое нашей Родины – России, Руси и в ее настоящ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дленно история листает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тописный тяжелеет сло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е старе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одина не старит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пускает старость на поро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сударственных символов </a:t>
            </a:r>
            <a:r>
              <a:rPr b="1" lang="en-US" sz="4400" spc="-1" strike="noStrike">
                <a:solidFill>
                  <a:srgbClr val="3366ff"/>
                </a:solidFill>
                <a:latin typeface="Arial"/>
              </a:rPr>
              <a:t>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429000" y="457200"/>
            <a:ext cx="228600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история</a:t>
            </a:r>
            <a:endParaRPr b="0" lang="en-US" sz="4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781680" y="3048120"/>
            <a:ext cx="2028960" cy="3124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62120" y="3048120"/>
            <a:ext cx="2087280" cy="3047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5911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Памятник на Куликовом п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6186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Памятник «Тысячелетие России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344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267080" y="22860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немало будет пройде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ль зовут в грядущее пу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 святей и чище чувства Роди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юдям никогда не обре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этим чувством человек рождае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ним живет и умирает с н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се пройдет, а Родина – Останетс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сли мы то чувство сохран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59436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овая Лад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годня мы поговорим о том, что всегда составляет гордость любого государства – это 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Государственные симв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 rot="21035400">
            <a:off x="3429000" y="1599840"/>
            <a:ext cx="1819440" cy="28954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2009880" cy="2438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019920" y="2286000"/>
            <a:ext cx="2438280" cy="162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609480" y="48769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1. Гер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4876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2. Гим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48769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3. Фл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019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имволы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2920200">
            <a:off x="2209320" y="56386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8031600">
            <a:off x="6400800" y="56383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4191120" y="54864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летописях сохранились упоминания о стягах –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вых русских знаменах.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тяг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это длинный шест с укрепленными на верхушке ветками деревьев, пучками травы. Позднее к шестам стали прикреплять куски ярких тканей различной фор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172200" y="2895480"/>
            <a:ext cx="1812960" cy="2362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rcRect l="0" t="0" r="0" b="6833"/>
          <a:stretch/>
        </p:blipFill>
        <p:spPr>
          <a:xfrm>
            <a:off x="609480" y="2057400"/>
            <a:ext cx="4648320" cy="2057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2438280" y="4724280"/>
            <a:ext cx="2190960" cy="1428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3520" y="41911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«Великий стяг» Ивана Гроз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6172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Первый стяг Древней Ру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53341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Стяг Дмитрия Дон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 принятием христианства на Руси на стягах появилось изображение крест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86000" y="1486080"/>
            <a:ext cx="4476600" cy="3924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76040" y="5713920"/>
            <a:ext cx="515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Стяги новгородской дружины XIII века </a:t>
            </a:r>
            <a:br>
              <a:rPr sz="2000"/>
            </a:b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с  «животворящим» крест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каждого князя был свой стяг до шести метров в длину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хранились предания о стяге Дмитрия Донского, с которым он выступил на поле Куликовом. Это был стяг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червлёного (красного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цвета с изображением Иисуса Христа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енно этот стяг впервые был назван Знамен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1647720" cy="4124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2665440" cy="3581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86000" y="205740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Червлёный (красный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стяг русской друж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19920" y="57913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митрий Дон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2-04-07T20:53:4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