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252-C962-4BB2-AFA7-6DDFF638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E8E-CBE9-4FAA-92EB-34855FB1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958-22A1-4A59-8825-79232519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A35-A73A-4C33-A278-11CD5D89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8B8-8BED-40B9-95D4-C3380813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06E-284B-471D-89FC-BB2F3AD1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6331-C22C-4481-B3A2-7BF4FD12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644-E61C-43B4-A3EF-745E3466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C37-E0AC-4966-93BE-86A49FBD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C29-C351-4335-8BDA-EE4680ED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96B-16FB-4FCF-BC80-C0ACEA3F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D65-0864-431F-AE3E-24D9C972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FA41-FCE9-426F-BBFA-968CF8AA0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ДОРОГА И Д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правила дорожного движения для детей ..jpg"/>
          <p:cNvPicPr/>
          <p:nvPr/>
        </p:nvPicPr>
        <p:blipFill>
          <a:blip r:embed="rId2"/>
          <a:stretch/>
        </p:blipFill>
        <p:spPr>
          <a:xfrm>
            <a:off x="468360" y="1197000"/>
            <a:ext cx="8207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ждому ребенку с самого раннего возраста нужно объяснить главные правила дорожного движе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правила дорожного движения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мни!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ашины представляют  самую большую угрозу и их нужно остерегаться как на тротуаре, так и на доро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Это всем должно быть ясно!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же тем, кто ходит в ясли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сем, кто в городе живет: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реходы не рискованны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олько там, где нарисованы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Шашек белые квадраты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 на стрелке "Переход"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. Михал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шеходам для нач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ужно знать лишь два сигна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расный стой! - спокойно жд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 зеленый – проходи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вет зеленый –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ходи!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Желтый –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лость погоди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у, а если красный –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ой, дружок!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пасно!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. Пономар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4032360" cy="475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419640" y="1341360"/>
            <a:ext cx="1241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ссказывать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етям о правилах дорожного движ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можно с помощью игр, мультиков загадок и стих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Железные звери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  Рычат и гудят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  Глаза, как у кошек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  Ночами - горят.   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  (МАШИН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 дорожном знаке том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Человек идет пешком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лосатые дорожки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телили нам под ножки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Чтобы мы забот не знали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 по ним вперед шагали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Пешеходный переход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Железная сова      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 ветке, у дороги, 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  Три глаза разноцветных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 Смотрят очень строго.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  (СВЕТОФ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80000" y="1197000"/>
            <a:ext cx="497988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32360" y="3645000"/>
            <a:ext cx="3887640" cy="273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1280" y="4797360"/>
            <a:ext cx="2160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движные игр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ез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и становятся друг за другом в колонну по одному, не держась за руки. Первый - паровозик, остальные - вагончики. Взрослый поднимает флажок зелёного цвета - путь открыт! И поезд начинает движение, вначале дети идут, (при медленном движении дети могут произносить "чу-чу-чу") затем ускоряются темп ходьбы и переходят на бег. "Скоро станция, - говорит взрослый и поднимает желтый флажок. Дети замедляют движения, поезд останавливается. Игровые упражнения повторяю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ТИЦЫ И АВТОМОБИ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и –птички летают по комнате взмахивают руками (крыльями)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питатель говори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летели птич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тички невелич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 летели, все лете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ыльями махали Дети бегают, ловко взмахивают ру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к они лет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ыльями маха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дорожку прилетели. Присаживаются, постукивают пальцами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ернышки клевали. колен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питатель берет в руки игрушечный автомобиль и говори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мобиль по улице бежи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ыхтит, спешит, в рожок труби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а-та-та, берегись, берегис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а-та-та, берегись, посторони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нти-птички бегут от автомоби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облюдайте Правила дорожного движения и учите этому своих детей! 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940360" y="2133720"/>
            <a:ext cx="3024360" cy="3671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4516560" y="3241800"/>
            <a:ext cx="184320" cy="376200"/>
          </a:xfrm>
          <a:prstGeom prst="rect">
            <a:avLst/>
          </a:prstGeom>
          <a:solidFill>
            <a:srgbClr val="ea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5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5T18:58:33Z</dcterms:created>
  <dc:creator>юлия</dc:creator>
  <dc:description/>
  <dc:language>en-US</dc:language>
  <cp:lastModifiedBy>юлия</cp:lastModifiedBy>
  <dcterms:modified xsi:type="dcterms:W3CDTF">2013-09-25T19:47:08Z</dcterms:modified>
  <cp:revision>2</cp:revision>
  <dc:subject/>
  <dc:title>ДОРОГА И ДЕТИ</dc:title>
</cp:coreProperties>
</file>