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6B5-5470-4EF5-8AFE-0E854857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2A68-FD17-49D8-BCC3-C0EA7C9C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889B-134E-4D96-A90F-5B1A1093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57C-875A-469F-B2B6-573B6EE0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33D9-9753-4AEE-86E4-E38A521B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131E-CFA5-488D-9A0B-1835D907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747F-B43E-4623-9AA1-9C8BE837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0D22-D623-4922-9170-92FCFB94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DDEE-A206-43F0-A291-E647A032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2963-290F-40E1-8A56-A0C01D12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C924-B2A9-40BB-B931-A1A944F0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89A8-1A73-4E15-82D6-28A8BB3C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8848-FCF8-420E-A735-0E093F96D3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готовка учащихся к устной части ЕГЭ и ГИ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1692360" y="1196280"/>
            <a:ext cx="593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«Диалог с целью обмена оценочной информаци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кругленный прямоугольник 2"/>
          <p:cNvSpPr/>
          <p:nvPr/>
        </p:nvSpPr>
        <p:spPr>
          <a:xfrm>
            <a:off x="1187280" y="836640"/>
            <a:ext cx="7056720" cy="1152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547640" y="921240"/>
            <a:ext cx="65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Диалог с целью обмена оценочной информацие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611280" y="2421000"/>
            <a:ext cx="8208720" cy="374472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4360" y="2935440"/>
            <a:ext cx="7991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3-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инуты, не менее 10 реплик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ник должен уме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чать, поддержать и закончить разговор, предлагать идеи, выражать свою аргументированную точку зрения, выяснять отношение собеседника к обсуждаемому вопросу, принимать совместное реш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Скругленный прямоугольник 1"/>
          <p:cNvSpPr/>
          <p:nvPr/>
        </p:nvSpPr>
        <p:spPr>
          <a:xfrm>
            <a:off x="250920" y="836640"/>
            <a:ext cx="8713800" cy="9367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ля успешного выполнения заданий   необходимо продемонстрировать следующие навыки и умения  диалогической реч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2"/>
          <p:cNvSpPr/>
          <p:nvPr/>
        </p:nvSpPr>
        <p:spPr>
          <a:xfrm>
            <a:off x="395280" y="2060640"/>
            <a:ext cx="8280360" cy="453708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-адекватно ситуации общения употреблять формулы речевого этикета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поддерживать беседу, адекватно реагировать на реплики собеседника;</a:t>
            </a:r>
            <a:br>
              <a:rPr sz="2000"/>
            </a:b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-быть инициативным партнером по общению (при необходимости начинать, заканчивать беседу, задавать вопросы, менять тему беседы, запрашивать мнение собеседника)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проводить свою стратегическую линию в общении, учитывая при этом мнение собеседника;</a:t>
            </a:r>
            <a:br>
              <a:rPr sz="2000"/>
            </a:b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-соблюдать очередность при обмене репликами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пользоваться компенсационными стратегиями при сбое в коммуникации (переспрашивать при непонимании и т.д.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24000" y="333360"/>
          <a:ext cx="8569080" cy="6173640"/>
        </p:xfrm>
        <a:graphic>
          <a:graphicData uri="http://schemas.openxmlformats.org/drawingml/2006/table">
            <a:tbl>
              <a:tblPr/>
              <a:tblGrid>
                <a:gridCol w="287280"/>
                <a:gridCol w="3097080"/>
                <a:gridCol w="3041640"/>
                <a:gridCol w="2143080"/>
              </a:tblGrid>
              <a:tr h="288000"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сическое оформление ре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ое оформление ре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нош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000"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8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9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0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0200"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стрирует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рный запас, адекватный поставленной задач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ет разнообразные грамматические структур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в соответствии с поставленной задачей; практически не делает ошиб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5160"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стрирует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точный словарный запас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 основном соответствующий поставленной задаче, однако наблюдается некоторое затруднение при подборе слов и отдельные неточности в их употреблен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ет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ы, в целом соответствующи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ставленной задаче; допускает ошибки, не затрудняющие поним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 понятна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ает правильный интонационный рисунок; не допускает фонематических ошибок; практически все звуки в потоке речи произносит правиль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7320"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стрирует ограниченный словарный запас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 некоторых случаях недостаточный для выполнения поставленной задач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ет многочисленные ошибк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или допускает ошибки, затрудняющие понима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 основном речь понят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 не допускает грубых фонематических ошибок; звуки в потоке речи в большинстве случаев произносит правильно, интонационный рисунок в основном правильны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7560"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рный запас недостаточ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 для выполнения поставленной задач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ое использование грамматических структур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ет невозможным выполнение поставленной задач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 почти не воспринимается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слух из-за большого количества фонематических ошибок и неправильного произнесения многих зву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250920" y="1052640"/>
          <a:ext cx="8642160" cy="5548320"/>
        </p:xfrm>
        <a:graphic>
          <a:graphicData uri="http://schemas.openxmlformats.org/drawingml/2006/table">
            <a:tbl>
              <a:tblPr/>
              <a:tblGrid>
                <a:gridCol w="2089080"/>
                <a:gridCol w="2952720"/>
                <a:gridCol w="3600360"/>
              </a:tblGrid>
              <a:tr h="24588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ИА                          С2, С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ГЭ                     С3,С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 выполнения задания С2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5-2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-3,5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 выполнения задания С3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3 мину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-4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96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kills to be tested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he student is expected to demonstrate his/her ability t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speak at length elaborating on a top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produce coherent uttera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give reas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use appropriate grammar and a good range of vocabul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speak at length elaborating on a top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organize his/her speech using cohesive de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show his/her control of grammatical structures and a good range of vocabulary appropriate to the context and fun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048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kills to be tested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he student is expected to demonstrate his/her ability t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•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ke a request/an invi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•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ovide the information requ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•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ccept/reject an invi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•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intain and conclude the conver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•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e active and p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initiate and maintain conver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come up with sugg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give good reas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invite the partner to come up with sugges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find out the partner’s at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reach an agreement by taking into account the partner’s attitu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agree or disagree wirh the partner’s opin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Rectangle 1"/>
          <p:cNvSpPr/>
          <p:nvPr/>
        </p:nvSpPr>
        <p:spPr>
          <a:xfrm>
            <a:off x="730440" y="621000"/>
            <a:ext cx="72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1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личительные особенности устной части ГИА и ЕГ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24000" y="692280"/>
          <a:ext cx="8640720" cy="5551200"/>
        </p:xfrm>
        <a:graphic>
          <a:graphicData uri="http://schemas.openxmlformats.org/drawingml/2006/table">
            <a:tbl>
              <a:tblPr/>
              <a:tblGrid>
                <a:gridCol w="1511280"/>
                <a:gridCol w="4248000"/>
                <a:gridCol w="2881440"/>
              </a:tblGrid>
              <a:tr h="24620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нологическая реч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2   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Реш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чи(0-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Лекс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аммат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формление речи(0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Произноси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рона речи(0-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Решение коммуникативной задачи (содержание)(0-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Взаимодействие с собеседником(0-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91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алогическая реч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3    С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шение коммуни-кативной задачи(0-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заимодействие с собеседником(0-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ксико-грамматичес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е оформление речи(0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износительная сторона речи(0-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Решение коммуникативной задачи (содержание)(0-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Взаимодействие с собеседником(0-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Лексическое оформление речи(0-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Грамматическое оформление речи(0-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514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Произношение(0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дификатор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лементов содержания и требований к уровню подготовки выпускников общеобразовательных учреждений для проведения единого государственного экзамена по АНГЛИЙСКОМУ ЯЗЫКУ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смотря на отсутствие раздела «Говорение» в КИМ ЕГЭ 2013 г.. кодификатор включает требования к уровню подготовки выпускников по говорению в соответствии со стандартом среднего (полного) общего образования 2004 г. и перечень соответствующих элементов содержания в целях сохранения отработанной структуры кодификатора и установленных код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кругленный прямоугольник 3"/>
          <p:cNvSpPr/>
          <p:nvPr/>
        </p:nvSpPr>
        <p:spPr>
          <a:xfrm>
            <a:off x="2340000" y="907920"/>
            <a:ext cx="4535640" cy="93672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овор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кругленный прямоугольник 4"/>
          <p:cNvSpPr/>
          <p:nvPr/>
        </p:nvSpPr>
        <p:spPr>
          <a:xfrm>
            <a:off x="395280" y="2349360"/>
            <a:ext cx="3672000" cy="3743640"/>
          </a:xfrm>
          <a:custGeom>
            <a:avLst/>
            <a:gdLst>
              <a:gd name="textAreaLeft" fmla="*/ 178920 w 3672000"/>
              <a:gd name="textAreaRight" fmla="*/ 3493080 w 3672000"/>
              <a:gd name="textAreaTop" fmla="*/ 178920 h 3743640"/>
              <a:gd name="textAreaBottom" fmla="*/ 3564720 h 3743640"/>
            </a:gdLst>
            <a:ahLst/>
            <a:rect l="textAreaLeft" t="textAreaTop" r="textAreaRight" b="textAreaBottom"/>
            <a:pathLst>
              <a:path w="21600" h="22021">
                <a:moveTo>
                  <a:pt x="3600" y="0"/>
                </a:moveTo>
                <a:arcTo wR="3600" hR="3600" stAng="16200000" swAng="-5400000"/>
                <a:lnTo>
                  <a:pt x="0" y="18421"/>
                </a:lnTo>
                <a:arcTo wR="3600" hR="3600" stAng="10800000" swAng="-5400000"/>
                <a:lnTo>
                  <a:pt x="18000" y="220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кругленный прямоугольник 5"/>
          <p:cNvSpPr/>
          <p:nvPr/>
        </p:nvSpPr>
        <p:spPr>
          <a:xfrm>
            <a:off x="4716360" y="2421000"/>
            <a:ext cx="3672000" cy="3744720"/>
          </a:xfrm>
          <a:custGeom>
            <a:avLst/>
            <a:gdLst>
              <a:gd name="textAreaLeft" fmla="*/ 178920 w 3672000"/>
              <a:gd name="textAreaRight" fmla="*/ 3493080 w 3672000"/>
              <a:gd name="textAreaTop" fmla="*/ 178920 h 3744720"/>
              <a:gd name="textAreaBottom" fmla="*/ 3565800 h 3744720"/>
            </a:gdLst>
            <a:ahLst/>
            <a:rect l="textAreaLeft" t="textAreaTop" r="textAreaRight" b="textAreaBottom"/>
            <a:pathLst>
              <a:path w="21600" h="22028">
                <a:moveTo>
                  <a:pt x="3600" y="0"/>
                </a:moveTo>
                <a:arcTo wR="3600" hR="3600" stAng="16200000" swAng="-5400000"/>
                <a:lnTo>
                  <a:pt x="0" y="18428"/>
                </a:lnTo>
                <a:arcTo wR="3600" hR="3600" stAng="10800000" swAng="-5400000"/>
                <a:lnTo>
                  <a:pt x="18000" y="220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684360" y="2649960"/>
            <a:ext cx="331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Тематическое монологическое высказывани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3 – 3,5 мин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ние базового/ повышенного уровн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 бал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4859280" y="2794320"/>
            <a:ext cx="331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Диалог с целью обмена оценочной информацие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4 – 5 мин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ние высокого уровн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4 бал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Скругленный прямоугольник 1"/>
          <p:cNvSpPr/>
          <p:nvPr/>
        </p:nvSpPr>
        <p:spPr>
          <a:xfrm>
            <a:off x="755640" y="836640"/>
            <a:ext cx="7561440" cy="72072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1116000" y="10245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3        «Тематическое монологическое высказыван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Скругленный прямоугольник 3"/>
          <p:cNvSpPr/>
          <p:nvPr/>
        </p:nvSpPr>
        <p:spPr>
          <a:xfrm>
            <a:off x="611280" y="1773360"/>
            <a:ext cx="3384360" cy="194292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казывание по теме (тематической проблемной ситуации, 3-3,5 минуты, не менее 10—15 фраз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4"/>
          <p:cNvSpPr/>
          <p:nvPr/>
        </p:nvSpPr>
        <p:spPr>
          <a:xfrm>
            <a:off x="3203640" y="3429000"/>
            <a:ext cx="5256000" cy="30956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"/>
          <p:cNvSpPr/>
          <p:nvPr/>
        </p:nvSpPr>
        <p:spPr>
          <a:xfrm flipH="1">
            <a:off x="3203640" y="3441600"/>
            <a:ext cx="525600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ник должен уметь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сказаться по теме (ситуации) в виде монолога, логично построить своё высказывание, продемонстрировать владение грамматическими структурами и хороший словарный запас в соответствии с поставленной задач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Скругленный прямоугольник 1"/>
          <p:cNvSpPr/>
          <p:nvPr/>
        </p:nvSpPr>
        <p:spPr>
          <a:xfrm>
            <a:off x="324000" y="836640"/>
            <a:ext cx="8569080" cy="8636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успешного выполнения заданий продемонстрировать ум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кругленный прямоугольник 2"/>
          <p:cNvSpPr/>
          <p:nvPr/>
        </p:nvSpPr>
        <p:spPr>
          <a:xfrm>
            <a:off x="468360" y="2133720"/>
            <a:ext cx="8280360" cy="424800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лностью и самостоятельно решить поставленную коммуникативную задачу;</a:t>
            </a:r>
            <a:br>
              <a:rPr sz="2000"/>
            </a:b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2. продемонстрировать владение продуктивными лексическими и грамматическими навыками, достаточными для решения поставленной коммуникативной задач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самостоятельно строить развернутое высказывание;</a:t>
            </a:r>
            <a:br>
              <a:rPr sz="2000"/>
            </a:b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4. логично и связно строить высказывание, адекватно используя средства логической связи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выбирать и использовать адекватный стиль речи (соответственно ситуации общения, поставленной коммуникативной задаче, статусу партнера по общению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55640" y="115920"/>
          <a:ext cx="8064360" cy="6423120"/>
        </p:xfrm>
        <a:graphic>
          <a:graphicData uri="http://schemas.openxmlformats.org/drawingml/2006/table">
            <a:tbl>
              <a:tblPr/>
              <a:tblGrid>
                <a:gridCol w="576360"/>
                <a:gridCol w="2649600"/>
                <a:gridCol w="734760"/>
                <a:gridCol w="2490840"/>
                <a:gridCol w="1612800"/>
              </a:tblGrid>
              <a:tr h="571320"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оммуникативной задачи (содерж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 собеседни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4680" rIns="4680" tIns="4680" bIns="46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6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13080">
                <a:tc>
                  <a:txBody>
                    <a:bodyPr lIns="4680" rIns="4680" tIns="4680" bIns="46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680" rIns="4680" tIns="4680" bIns="46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 полностью выполнен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 цель общения успешно достигнута, тема раскрыта в заданном объеме, социокультурные знания использованы в соответствии с ситуацией общ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80" rIns="4680" tIns="4680" bIns="46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стрирует способность логично и связно вести беседу: начинает, при необходимости, и поддерживает ее с соблюдением очередности при обмене репликами, проявляет инициативу при смене темы, восстанавливает беседу в случае сбо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4400">
                <a:tc>
                  <a:txBody>
                    <a:bodyPr lIns="4680" rIns="4680" tIns="4680" bIns="46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680" rIns="4680" tIns="4680" bIns="46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 выполнен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 цель общения достигнута, однако тема раскрыта не в полном объеме, в основном социокультурные знания использованы в соответствии с ситуацией общ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80" rIns="4680" tIns="4680" bIns="46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 целом демонстрирует способность логично и связно вести беседу: начинает, при необходимости, и в большинстве случаев поддерживает ее с соблюдением очередности при обмене репликами, не всегда проявляет инициативу при смене темы, демонстрирует наличие проблемы в понимании собеседни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3920">
                <a:tc>
                  <a:txBody>
                    <a:bodyPr lIns="4680" rIns="4680" tIns="4680" bIns="46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680" rIns="4680" tIns="4680" bIns="46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 выполнено частичн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 цель общения достигнута не полностью, тема раскрыта в ограниченном объеме, социокультурные знания мало использованы в соответствии с ситуацией общ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80" rIns="4680" tIns="4680" bIns="46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стрирует неспособность логично и связно вести беседу: не начинает и не стремится поддерживать ее, не проявляет инициативы при смене темы, передает наиболее общие идеи в ограниченном контексте; в значительной степени зависит от помощи со стороны собеседни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0040">
                <a:tc>
                  <a:txBody>
                    <a:bodyPr lIns="4680" rIns="4680" tIns="4680" bIns="46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680" rIns="4680" tIns="4680" bIns="46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 не выполнен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цель общения не достигну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80" rIns="4680" tIns="4680" bIns="46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 может поддерживать бесед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Скругленный прямоугольник 2"/>
          <p:cNvSpPr/>
          <p:nvPr/>
        </p:nvSpPr>
        <p:spPr>
          <a:xfrm>
            <a:off x="324000" y="836640"/>
            <a:ext cx="8569080" cy="58323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468360" y="846360"/>
            <a:ext cx="817092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успешного выполнения задания необходим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Внимательно читать зада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е уходить от заданных аспектов темы, пытаясь подменить высказывание выученной дома «темой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Давать развернутый четкий конкретный ответ по каждому из пунктов зад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Давать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ернут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ответы на все тестовые вопросы, пусть даже самые простые (всегда иметь в виду вопрос Why?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 Давать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вязные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ы, используя средства логической связ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. Равномерно распределить время между высказываниями по всем пунктам зад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95280" y="981000"/>
            <a:ext cx="8497800" cy="554364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468360" y="1098360"/>
            <a:ext cx="835164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Give a talk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on public transpo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Remember to discus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whether public transport is important to everyday life, and wh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how reliable public transport is in serving your community, give examp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whether public transport is a better way to travel than using your own vehicle, give reas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how using public transport is related to environmental iss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You will have to talk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,5-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minutes. The examiner will listen until you have finished. Then he will ask you some ques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332000" y="981000"/>
            <a:ext cx="6769080" cy="1295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учение монологической ре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2"/>
          <p:cNvSpPr/>
          <p:nvPr/>
        </p:nvSpPr>
        <p:spPr>
          <a:xfrm>
            <a:off x="611280" y="2708280"/>
            <a:ext cx="3889440" cy="14414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кругленный прямоугольник 3"/>
          <p:cNvSpPr/>
          <p:nvPr/>
        </p:nvSpPr>
        <p:spPr>
          <a:xfrm>
            <a:off x="4932360" y="2708280"/>
            <a:ext cx="3887640" cy="151272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дуктивный мето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вертывание высказывания от предложения к текс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900000" y="285624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дуктивный мет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кст - образе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4932360" y="4437000"/>
            <a:ext cx="3816360" cy="223200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НОЛО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6"/>
          <p:cNvSpPr/>
          <p:nvPr/>
        </p:nvSpPr>
        <p:spPr>
          <a:xfrm>
            <a:off x="5003640" y="4581360"/>
            <a:ext cx="1729080" cy="71928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икромоноло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7"/>
          <p:cNvSpPr/>
          <p:nvPr/>
        </p:nvSpPr>
        <p:spPr>
          <a:xfrm>
            <a:off x="6948360" y="4581360"/>
            <a:ext cx="1727280" cy="71928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икромоноло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кругленный прямоугольник 8"/>
          <p:cNvSpPr/>
          <p:nvPr/>
        </p:nvSpPr>
        <p:spPr>
          <a:xfrm>
            <a:off x="5076720" y="5805360"/>
            <a:ext cx="1727280" cy="71928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икромоноло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кругленный прямоугольник 9"/>
          <p:cNvSpPr/>
          <p:nvPr/>
        </p:nvSpPr>
        <p:spPr>
          <a:xfrm>
            <a:off x="7020000" y="5805360"/>
            <a:ext cx="1728720" cy="71928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икромоноло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3:09:09Z</dcterms:created>
  <dc:creator>Наташа</dc:creator>
  <dc:description/>
  <dc:language>en-US</dc:language>
  <cp:lastModifiedBy>Наташа</cp:lastModifiedBy>
  <dcterms:modified xsi:type="dcterms:W3CDTF">2013-02-20T14:42:45Z</dcterms:modified>
  <cp:revision>14</cp:revision>
  <dc:subject/>
  <dc:title>Слайд 1</dc:title>
</cp:coreProperties>
</file>