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A30-41F0-473A-8536-06B93F41A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F920-B5A4-41DA-9477-C1D68EAD0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4C4-66CC-45F6-B769-1EEAE377AB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2DE3-1C8E-48EA-A1F6-94B2CC2EB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021B-7B1F-4CEE-B699-676EB9692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74F-D279-4FCD-9B7F-BB46B36704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052-FB6A-4204-A8CE-C408731F5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0C9-6D29-45E4-8784-48471FF7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F28-290A-4B47-AC66-0C5B1BCD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464-8591-4CBD-AE58-ED89540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539-6626-4AE9-8505-26BD788E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263-6E21-4D33-B1F1-9457B1B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4DC-E207-4592-AA44-041B267A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89F-8655-4AA9-A7D7-2820A28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0F4-2078-4A60-8109-DC806C9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7A6-684F-4992-A2DD-F5198CB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059-1B7B-4B55-ACA2-34CD02F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F9F-4D50-4275-93C1-8E8DBFC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0AF-9D31-4CF9-B398-A8060C2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2F01-D496-4063-91CB-599D3F27D62E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5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546422"/>
                </a:solidFill>
                <a:latin typeface="Segoe Script"/>
              </a:rPr>
              <a:t>City</a:t>
            </a:r>
            <a:br>
              <a:rPr sz="12900"/>
            </a:br>
            <a:r>
              <a:rPr b="1" lang="en-US" sz="12900" spc="-1" strike="noStrike">
                <a:solidFill>
                  <a:srgbClr val="546422"/>
                </a:solidFill>
                <a:latin typeface="Segoe Script"/>
              </a:rPr>
              <a:t>Country</a:t>
            </a:r>
            <a:endParaRPr b="0" lang="en-US" sz="129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87" name="Text Placeholder 2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6913440" cy="5100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89" name="Text Placeholder 2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840720" cy="455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It’s fun to be this,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It’s fun to be that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leap like a lamb, 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climb like a cat,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swim like a fish 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hop like a frog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trot like a horse</a:t>
            </a:r>
            <a:br>
              <a:rPr sz="4000"/>
            </a:br>
            <a:r>
              <a:rPr b="1" lang="en-US" sz="4000" spc="-1" strike="noStrike">
                <a:solidFill>
                  <a:srgbClr val="e97d23"/>
                </a:solidFill>
                <a:latin typeface="Comic Sans MS"/>
              </a:rPr>
              <a:t>To jump like a dog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Segoe Script"/>
              </a:rPr>
              <a:t>Animals in the streets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2084400"/>
            <a:ext cx="4038480" cy="3487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114880" y="4156200"/>
            <a:ext cx="310356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Segoe Script"/>
              </a:rPr>
              <a:t>Animals in the ZOO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1928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25600" y="4054320"/>
            <a:ext cx="3470040" cy="268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61080" y="398772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01" name="Text Placeholder 2" descr=""/>
          <p:cNvPicPr/>
          <p:nvPr/>
        </p:nvPicPr>
        <p:blipFill>
          <a:blip r:embed="rId5"/>
          <a:stretch/>
        </p:blipFill>
        <p:spPr>
          <a:xfrm>
            <a:off x="250920" y="105264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Segoe Script"/>
              </a:rPr>
              <a:t>Animals in the country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47760" y="1197000"/>
            <a:ext cx="4079880" cy="5545080"/>
          </a:xfrm>
          <a:prstGeom prst="rect">
            <a:avLst/>
          </a:prstGeom>
          <a:ln w="0">
            <a:noFill/>
          </a:ln>
        </p:spPr>
      </p:pic>
      <p:pic>
        <p:nvPicPr>
          <p:cNvPr id="105" name="Text Placeholder 2" descr=""/>
          <p:cNvPicPr/>
          <p:nvPr/>
        </p:nvPicPr>
        <p:blipFill>
          <a:blip r:embed="rId4"/>
          <a:stretch/>
        </p:blipFill>
        <p:spPr>
          <a:xfrm>
            <a:off x="4859280" y="3951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d23"/>
                </a:solidFill>
                <a:latin typeface="Comic Sans MS"/>
              </a:rPr>
              <a:t>I love all kinds of animals,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d23"/>
                </a:solidFill>
                <a:latin typeface="Comic Sans MS"/>
              </a:rPr>
              <a:t>Dogs and cats and rabbits,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d23"/>
                </a:solidFill>
                <a:latin typeface="Comic Sans MS"/>
              </a:rPr>
              <a:t>I love all kinds of animals,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d23"/>
                </a:solidFill>
                <a:latin typeface="Comic Sans MS"/>
              </a:rPr>
              <a:t>I know their little habits.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03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Segoe Script"/>
              </a:rPr>
              <a:t>City            Country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62360" y="1268280"/>
            <a:ext cx="4157640" cy="518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7760" y="1268280"/>
            <a:ext cx="4106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789360"/>
            <a:ext cx="1079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7d23"/>
                </a:solidFill>
                <a:latin typeface="Comic Sans MS"/>
              </a:rPr>
              <a:t>City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156000" y="3860280"/>
            <a:ext cx="1942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ountry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</p:txBody>
      </p:sp>
      <p:cxnSp>
        <p:nvCxnSpPr>
          <p:cNvPr id="56" name=""/>
          <p:cNvCxnSpPr/>
          <p:nvPr/>
        </p:nvCxnSpPr>
        <p:spPr>
          <a:xfrm flipV="1">
            <a:off x="2050560" y="3141000"/>
            <a:ext cx="361080" cy="648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124000" y="242100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7d23"/>
                </a:solidFill>
                <a:latin typeface="Comic Sans MS"/>
              </a:rPr>
              <a:t>museums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62864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d23"/>
                </a:solidFill>
                <a:latin typeface="Comic Sans MS"/>
              </a:rPr>
              <a:t>tall houses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59" name=""/>
          <p:cNvCxnSpPr/>
          <p:nvPr/>
        </p:nvCxnSpPr>
        <p:spPr>
          <a:xfrm flipH="1" flipV="1">
            <a:off x="1186560" y="2275920"/>
            <a:ext cx="361080" cy="1440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059280" y="350028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d23"/>
                </a:solidFill>
                <a:latin typeface="Comic Sans MS"/>
              </a:rPr>
              <a:t>theatr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61" name=""/>
          <p:cNvCxnSpPr/>
          <p:nvPr/>
        </p:nvCxnSpPr>
        <p:spPr>
          <a:xfrm flipV="1">
            <a:off x="2411280" y="3860280"/>
            <a:ext cx="504000" cy="2167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1692000" y="4437000"/>
            <a:ext cx="1080" cy="4327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755640" y="494172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d23"/>
                </a:solidFill>
                <a:latin typeface="Comic Sans MS"/>
              </a:rPr>
              <a:t>cinemas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64" name=""/>
          <p:cNvCxnSpPr>
            <a:endCxn id="65" idx="2"/>
          </p:cNvCxnSpPr>
          <p:nvPr/>
        </p:nvCxnSpPr>
        <p:spPr>
          <a:xfrm flipH="1" flipV="1">
            <a:off x="6264000" y="2491560"/>
            <a:ext cx="613440" cy="1297800"/>
          </a:xfrm>
          <a:prstGeom prst="straightConnector1">
            <a:avLst/>
          </a:prstGeom>
          <a:ln w="38160">
            <a:solidFill>
              <a:srgbClr val="e97d23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788000" y="1844640"/>
            <a:ext cx="295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mall houses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66" name=""/>
          <p:cNvCxnSpPr/>
          <p:nvPr/>
        </p:nvCxnSpPr>
        <p:spPr>
          <a:xfrm flipV="1">
            <a:off x="7523280" y="2923920"/>
            <a:ext cx="434160" cy="792720"/>
          </a:xfrm>
          <a:prstGeom prst="straightConnector1">
            <a:avLst/>
          </a:prstGeom>
          <a:ln w="38160">
            <a:solidFill>
              <a:srgbClr val="e97d23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343640" y="2349360"/>
            <a:ext cx="15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ivers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68" name=""/>
          <p:cNvCxnSpPr/>
          <p:nvPr/>
        </p:nvCxnSpPr>
        <p:spPr>
          <a:xfrm flipH="1">
            <a:off x="5363640" y="4292640"/>
            <a:ext cx="721440" cy="289440"/>
          </a:xfrm>
          <a:prstGeom prst="straightConnector1">
            <a:avLst/>
          </a:prstGeom>
          <a:ln w="38160">
            <a:solidFill>
              <a:srgbClr val="e97d23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780000" y="458136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ardens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5166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7380360" y="4581360"/>
            <a:ext cx="505440" cy="937440"/>
          </a:xfrm>
          <a:prstGeom prst="straightConnector1">
            <a:avLst/>
          </a:prstGeom>
          <a:ln w="38160">
            <a:solidFill>
              <a:srgbClr val="e97d23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932360" y="537372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cxnSp>
        <p:nvCxnSpPr>
          <p:cNvPr id="73" name=""/>
          <p:cNvCxnSpPr/>
          <p:nvPr/>
        </p:nvCxnSpPr>
        <p:spPr>
          <a:xfrm flipH="1">
            <a:off x="6012000" y="4581000"/>
            <a:ext cx="576360" cy="794520"/>
          </a:xfrm>
          <a:prstGeom prst="straightConnector1">
            <a:avLst/>
          </a:prstGeom>
          <a:ln w="38160">
            <a:solidFill>
              <a:srgbClr val="e97d2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5" name="Text Placeholder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769080" cy="482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7" name="Text Placeholder 2" descr=""/>
          <p:cNvPicPr/>
          <p:nvPr/>
        </p:nvPicPr>
        <p:blipFill>
          <a:blip r:embed="rId2"/>
          <a:stretch/>
        </p:blipFill>
        <p:spPr>
          <a:xfrm>
            <a:off x="1069920" y="1125360"/>
            <a:ext cx="7004160" cy="500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9" name="Text Placeholder 2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624720" cy="492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81" name="Text Placeholder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32800" cy="476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83" name="Text Placeholder 2" descr=""/>
          <p:cNvPicPr/>
          <p:nvPr/>
        </p:nvPicPr>
        <p:blipFill>
          <a:blip r:embed="rId2"/>
          <a:stretch/>
        </p:blipFill>
        <p:spPr>
          <a:xfrm>
            <a:off x="1000080" y="1125360"/>
            <a:ext cx="7143840" cy="486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624720" cy="492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9-25T17:39:22Z</dcterms:modified>
  <cp:revision>1</cp:revision>
  <dc:subject/>
  <dc:title>City Country</dc:title>
</cp:coreProperties>
</file>