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F25-C08F-4AE6-ABB1-DB837326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0F7-3DC7-4755-BD36-051A6E8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4F5-A4F2-4446-8B7C-E167E438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ED4-9158-4B6E-844F-B8A484CB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F9E-C814-44EB-AA96-7AA75A24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9A2-4174-4FE3-9033-3D162E0F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7D6-E59D-47B2-9F68-613997B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D1B-DB00-4BD2-833C-BAD79994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024-5B9E-4235-9730-6D79F89A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C21-940A-47E0-96F0-2AC1E88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A2B-88A1-4910-9231-99CB2C89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7C9-0488-4A0E-BDEA-4D9D185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B75-640F-4398-AD15-BB58E7F10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5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857320"/>
            <a:ext cx="7072560" cy="185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торение и обобщение изученного о причастии и деепричаст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643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Произвести морфемный  и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 словообразовательный  разбор слов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абота  в тетрадях)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 ряд –  подума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 ряд -   сидевш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тройте  словосочетания так, чтобы приставка НЕ стала частицей,  т.е. писалась бы раздельно со слов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выполняем уст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исследованная мес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шенная т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ешенная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ыполненно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остоявшееся соревн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полнить таблицу: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первую колонку   - глаголы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о вторую – деепричастия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самостоятельная работ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трудясь, (не)найдешь счасть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посеяв, (не)соберешь урож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убив медведя, шкуры (не)продаю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взявшись за топор, избы (не) сруб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Глаго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Деепричас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йд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рудя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ода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б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бер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сея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руб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зявш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ошибки в написании Н и НН в суффиксах причастий и отглагольных прилагательных. Исправить их.</a:t>
            </a:r>
            <a:br>
              <a:rPr sz="28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(устно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20" y="160020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ороженная ры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мороженная рыб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джареное мя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ванные сапог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жаренное на масле фи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решен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00720" y="1600200"/>
            <a:ext cx="435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орож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я рыба – отглагольно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лагательно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морож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я рыба 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радательное  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жар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е мясо-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ова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ые сапоги- отглагольно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лагательно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жаренное на масле филе –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радательное причаст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дача реш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 –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раткое страдательное 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ведение итогов уро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Вспомните цел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Как вы думаете, достигнуты ли он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Какие этапы работы вызвали трудности,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Как вы оценили результаты своей работы на уро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Я все понял(а), могу этот материал объяснить друго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Я сам (а) все понял(а), но объяснить другому не берус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для полного понимания мне нужно повторить т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еня оказалось трудным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) Я ничего не понял(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о экспертам-помощника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правила, на которые были  допущены ош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фологический разбор 1 причастия и деепричас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ся к сочинению по кар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 Григорьева «Вратарь» (с использованием причастий и деепричастий) (см. упр. 18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71720" y="1499760"/>
            <a:ext cx="7215120" cy="3786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ределить уровень знаний по темам “Причастие” и “Деепричастие”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тизировать полученные знания о причастии и деепричастии (общее грамматическое значение, морфологические, синтаксические признаки; орфографические правила, изученные в данных разделах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спитывать умение слушать товарища, формировать навык самостоятельной рабо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вать навык самоконтроля и взаимоконтрол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Художник Борис Иванович в туман… по…кравшись к л…бедям  стал целит…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…думав он решил стр…лять мелкой дробью надеясь убить побольше птиц с…девших на озер…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Зар…див ружье приготовился выстр…л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Но стало казат…ся ему  что не  в лебедя а в человека  он стреля..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В…помнилась поэтическая сказка о девушк… превраще…ой в лебед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Опустив ружье он долго любовался гордыми птицами потом п…пятившись отош…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  Заворожившие красотой лебеди так и (не ) узнали о страшной опасности гр…зивш… 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8) Такова власть крас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ьный вариант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1) Художник Борис Иванович, в туман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вшись к л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дям, стал целит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2) П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умав, он решил ст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ять мелкой дробью, надеясь убить побольше птиц, с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вших на озе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3) За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в ружье, приготовился выст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4) Но стало казат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я ему, что не в лебедя, а в человека  он стреля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5) В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нилась поэтическая сказка о девушк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евраще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й в лебед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6) Опустив ружье, он долго любовался гордыми птицами, потом, п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ятившись, отош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7) )  Заворожившие красотой лебеди так и не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_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знали о страшной опасности, г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ивш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8) Такова власть крас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ли эти предложения объединить в текст?  Почем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О чем этот текст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Озаглавить текст. Дать несколько вариантов заглав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Определить основную мысль тек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Определить тип речи. Пояснить свой отв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колько абзацев можно выделить в этом тексте? Значит сколько микротем в этом текст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Объяснить графически пропущенные орфограммы, расставить знаки препин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. Графически объяснить  причастные и деепричастные обор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исать из текста   причастия и деепричастия в таблицу </a:t>
            </a:r>
            <a:br>
              <a:rPr sz="24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(работа в карточках  с дальнейшей взаимопроверк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43040" y="2214720"/>
          <a:ext cx="6143760" cy="3566880"/>
        </p:xfrm>
        <a:graphic>
          <a:graphicData uri="http://schemas.openxmlformats.org/drawingml/2006/table">
            <a:tbl>
              <a:tblPr/>
              <a:tblGrid>
                <a:gridCol w="3071880"/>
                <a:gridCol w="3071880"/>
              </a:tblGrid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8ed5"/>
                          </a:solidFill>
                          <a:latin typeface="Arial"/>
                          <a:ea typeface="Times New Roman"/>
                        </a:rPr>
                        <a:t>Причас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8ed5"/>
                          </a:solidFill>
                          <a:latin typeface="Arial"/>
                          <a:ea typeface="Times New Roman"/>
                        </a:rPr>
                        <a:t>Деепричас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ев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кравшис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вращен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ум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ороживш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дея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озивш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яд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ус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ятивш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Графический диктант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йти предложения, соответствующие схемам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643040"/>
            <a:ext cx="6400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Documents and Settings\Admin.USER-58946434E4\Мои документы\Мои рисунки\Изображение\Изображение 181.jpg"/>
          <p:cNvPicPr/>
          <p:nvPr/>
        </p:nvPicPr>
        <p:blipFill>
          <a:blip r:embed="rId1"/>
          <a:stretch/>
        </p:blipFill>
        <p:spPr>
          <a:xfrm>
            <a:off x="1857240" y="1714680"/>
            <a:ext cx="5214960" cy="642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Documents and Settings\Admin.USER-58946434E4\Мои документы\Мои рисунки\Изображение\Изображение 184.jpg"/>
          <p:cNvPicPr/>
          <p:nvPr/>
        </p:nvPicPr>
        <p:blipFill>
          <a:blip r:embed="rId2"/>
          <a:stretch/>
        </p:blipFill>
        <p:spPr>
          <a:xfrm>
            <a:off x="1785960" y="2500200"/>
            <a:ext cx="5214960" cy="57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Documents and Settings\Admin.USER-58946434E4\Мои документы\Мои рисунки\Изображение\Изображение 185.jpg"/>
          <p:cNvPicPr/>
          <p:nvPr/>
        </p:nvPicPr>
        <p:blipFill>
          <a:blip r:embed="rId3"/>
          <a:stretch/>
        </p:blipFill>
        <p:spPr>
          <a:xfrm>
            <a:off x="1785960" y="3143160"/>
            <a:ext cx="5286240" cy="7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Admin.USER-58946434E4\Мои документы\Мои рисунки\Изображение\Изображение 186.jpg"/>
          <p:cNvPicPr/>
          <p:nvPr/>
        </p:nvPicPr>
        <p:blipFill>
          <a:blip r:embed="rId4"/>
          <a:stretch/>
        </p:blipFill>
        <p:spPr>
          <a:xfrm>
            <a:off x="1785960" y="4143240"/>
            <a:ext cx="5357880" cy="64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Admin.USER-58946434E4\Мои документы\Мои рисунки\Изображение\Изображение 187.jpg"/>
          <p:cNvPicPr/>
          <p:nvPr/>
        </p:nvPicPr>
        <p:blipFill>
          <a:blip r:embed="rId5"/>
          <a:stretch/>
        </p:blipFill>
        <p:spPr>
          <a:xfrm>
            <a:off x="1714680" y="4929120"/>
            <a:ext cx="54291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Перестроить предложения так, чтобы обособленный причастный оборот стал  необособленным.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 Записать полученные  предложения</a:t>
            </a:r>
            <a:br>
              <a:rPr sz="2400"/>
            </a:br>
            <a:r>
              <a:rPr b="1" lang="ru-RU" sz="1800" spc="-1" strike="noStrike" u="sng">
                <a:solidFill>
                  <a:srgbClr val="558ed5"/>
                </a:solidFill>
                <a:uFillTx/>
                <a:latin typeface="Calibri"/>
              </a:rPr>
              <a:t>(работа по парам в тетради)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71552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одумав, он решил стрелять мелкой дробью, надеясь убить побольше птиц, сидевших на озе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спомнилась поэтическая сказка о девушке, превращенной в лебед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ворожившие красотой лебеди так и не  узнали о страшной опасности, грозившей 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Ключ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думав, он решил стрелять мелкой дробью, надеясь убить побольше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сидевших на озе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спомнилась поэтическая сказка о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енной в лебедя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уш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Заворожившие красот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бед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к и не  узнали о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грозившей 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рашн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9:43:43Z</dcterms:modified>
  <cp:revision>22</cp:revision>
  <dc:subject/>
  <dc:title>Тема урока</dc:title>
</cp:coreProperties>
</file>