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0D93-5F42-4DAB-B950-79FF4A8B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280A-A088-42B2-BF01-C10F278A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5D64-9946-4328-AE1A-B3F2885F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FFBB-1826-40BC-8BDB-EEF4C023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7AF6-FDB2-449A-AB6C-8DBB6E36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9F0C-A809-43F0-B57C-9F3A646E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EA57-D009-4BA5-8437-143A77DF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E8E5-3CA7-4A5B-B0A8-AF6F5849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B5CA-8538-4A4E-ACC8-641228A1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FAAB-7F97-4DC8-83F7-07A22A94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50F0-FB56-4DCB-8795-67CA75D0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F84F-462F-47A2-93CE-199DE612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05C0-AF32-446B-881E-F5574FEA2C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15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2857320"/>
            <a:ext cx="7072560" cy="1857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вторение и обобщение изученного о причастии и деепричаст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1720" y="213840"/>
            <a:ext cx="76435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Произвести морфемный  и</a:t>
            </a:r>
            <a:br>
              <a:rPr sz="2800"/>
            </a:b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 словообразовательный  разбор слов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работа  в тетрадях)</a:t>
            </a: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1 ряд –  подума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2 ряд -   сидевш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стройте  словосочетания так, чтобы приставка НЕ стала частицей,  т.е. писалась бы раздельно со слово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 выполняем устн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исследованная мест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кошенная тр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решенная пробл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выполненное зад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остоявшееся соревн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аполнить таблицу: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первую колонку   - глаголы,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во вторую – деепричастия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самостоятельная работа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Не)трудясь, (не)найдешь счасть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не)посеяв, (не)соберешь урожа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не)убив медведя, шкуры (не)продаю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не)взявшись за топор, избы (не) срубиш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ю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600200"/>
          <a:ext cx="8229600" cy="3200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Глагол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Деепричаст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найде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трудя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одаю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би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обере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осея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руби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зявши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 ошибки в написании Н и НН в суффиксах причастий и отглагольных прилагательных. Исправить их.</a:t>
            </a:r>
            <a:br>
              <a:rPr sz="28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(устно)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7120" y="1600200"/>
            <a:ext cx="385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ороженная рыб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замороженная рыба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джареное мяс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ванные сапог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жаренное на масле фил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задача решен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00720" y="1600200"/>
            <a:ext cx="435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орож</a:t>
            </a:r>
            <a:r>
              <a:rPr b="0" i="1" lang="ru-RU" sz="1600" spc="-1" strike="noStrike">
                <a:solidFill>
                  <a:srgbClr val="ff0000"/>
                </a:solidFill>
                <a:latin typeface="Calibri"/>
              </a:rPr>
              <a:t>ен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ая рыба – отглагольное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рилагательно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заморож</a:t>
            </a:r>
            <a:r>
              <a:rPr b="0" i="1" lang="ru-RU" sz="1600" spc="-1" strike="noStrike">
                <a:solidFill>
                  <a:srgbClr val="ff0000"/>
                </a:solidFill>
                <a:latin typeface="Calibri"/>
              </a:rPr>
              <a:t>енн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ая рыба 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страдательное  причаст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оджар</a:t>
            </a:r>
            <a:r>
              <a:rPr b="0" i="1" lang="ru-RU" sz="1600" spc="-1" strike="noStrike">
                <a:solidFill>
                  <a:srgbClr val="ff0000"/>
                </a:solidFill>
                <a:latin typeface="Calibri"/>
              </a:rPr>
              <a:t>енн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е мясо-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ричаст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ова</a:t>
            </a:r>
            <a:r>
              <a:rPr b="0" i="1" lang="ru-RU" sz="1600" spc="-1" strike="noStrike">
                <a:solidFill>
                  <a:srgbClr val="ff0000"/>
                </a:solidFill>
                <a:latin typeface="Calibri"/>
              </a:rPr>
              <a:t>н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ые сапоги- отглагольное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рилагательно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жаренное на масле филе –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страдательное причаст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задача реш</a:t>
            </a:r>
            <a:r>
              <a:rPr b="0" i="1" lang="ru-RU" sz="1600" spc="-1" strike="noStrike">
                <a:solidFill>
                  <a:srgbClr val="ff0000"/>
                </a:solidFill>
                <a:latin typeface="Calibri"/>
              </a:rPr>
              <a:t>ен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а –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краткое страдательное причаст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ведение итогов уро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Вспомните цели ур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Как вы думаете, достигнуты ли он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Какие этапы работы вызвали трудности, почем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Как вы оценили результаты своей работы на урок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) Я все понял(а), могу этот материал объяснить другом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) Я сам (а) все понял(а), но объяснить другому не берус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) для полного понимания мне нужно повторить тем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меня оказалось трудным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) Я ничего не понял(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лово экспертам-помощника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торить правила, на которые были  допущены оши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рфологический разбор 1 причастия и деепричаст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иться к сочинению по карт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. Григорьева «Вратарь» (с использованием причастий и деепричастий) (см. упр. 187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71720" y="1499760"/>
            <a:ext cx="7215120" cy="3786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пределить уровень знаний по темам “Причастие” и “Деепричастие”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истематизировать полученные знания о причастии и деепричастии (общее грамматическое значение, морфологические, синтаксические признаки; орфографические правила, изученные в данных разделах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оспитывать умение слушать товарища, формировать навык самостоятельной работ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звивать навык самоконтроля и взаимоконтрол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абота с текст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Художник Борис Иванович в туман… по…кравшись к л…бедям  стал целит…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П…думав он решил стр…лять мелкой дробью надеясь убить побольше птиц с…девших на озер…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Зар…див ружье приготовился выстр…ли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Но стало казат…ся ему  что не  в лебедя а в человека  он стреля..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В…помнилась поэтическая сказка о девушк… превраще…ой в лебед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6. Опустив ружье он долго любовался гордыми птицами потом п…пятившись отош…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7.   Заворожившие красотой лебеди так и (не ) узнали о страшной опасности гр…зивш… и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8) Такова власть красот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ильный вариант тек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1) Художник Борис Иванович, в туман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по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авшись к л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едям, стал целит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ь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2) П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умав, он решил стр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ять мелкой дробью, надеясь убить побольше птиц, с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евших на озер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3) Зар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ив ружье, приготовился выстр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4) Но стало казат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ь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я ему, что не в лебедя, а в человека  он стреля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5) В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мнилась поэтическая сказка о девушк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превраще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нн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й в лебед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6) Опустив ружье, он долго любовался гордыми птицами, потом, п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ятившись, отош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7) )  Заворожившие красотой лебеди так и не 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_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знали о страшной опасности, гр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ивш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ей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и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8) Такова власть красот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ализ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но ли эти предложения объединить в текст?  Почему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О чем этот текст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Озаглавить текст. Дать несколько вариантов заглав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Определить основную мысль текс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Определить тип речи. Пояснить свой ответ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6. Сколько абзацев можно выделить в этом тексте? Значит сколько микротем в этом текст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7. Объяснить графически пропущенные орфограммы, расставить знаки препин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8. Графически объяснить  причастные и деепричастные оборо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исать из текста   причастия и деепричастия в таблицу </a:t>
            </a:r>
            <a:br>
              <a:rPr sz="24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(работа в карточках  с дальнейшей взаимопроверко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643040" y="2214720"/>
          <a:ext cx="6143760" cy="3566880"/>
        </p:xfrm>
        <a:graphic>
          <a:graphicData uri="http://schemas.openxmlformats.org/drawingml/2006/table">
            <a:tbl>
              <a:tblPr/>
              <a:tblGrid>
                <a:gridCol w="3071880"/>
                <a:gridCol w="3071880"/>
              </a:tblGrid>
              <a:tr h="509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58ed5"/>
                          </a:solidFill>
                          <a:latin typeface="Arial"/>
                          <a:ea typeface="Times New Roman"/>
                        </a:rPr>
                        <a:t>Причаст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58ed5"/>
                          </a:solidFill>
                          <a:latin typeface="Arial"/>
                          <a:ea typeface="Times New Roman"/>
                        </a:rPr>
                        <a:t>Деепричаст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девш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кравшис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вращен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ум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ороживш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дея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озивш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яд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уст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пятивши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Графический диктант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йти предложения, соответствующие схемам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1643040"/>
            <a:ext cx="64008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C:\Documents and Settings\Admin.USER-58946434E4\Мои документы\Мои рисунки\Изображение\Изображение 181.jpg"/>
          <p:cNvPicPr/>
          <p:nvPr/>
        </p:nvPicPr>
        <p:blipFill>
          <a:blip r:embed="rId1"/>
          <a:stretch/>
        </p:blipFill>
        <p:spPr>
          <a:xfrm>
            <a:off x="1857240" y="1714680"/>
            <a:ext cx="5214960" cy="642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C:\Documents and Settings\Admin.USER-58946434E4\Мои документы\Мои рисунки\Изображение\Изображение 184.jpg"/>
          <p:cNvPicPr/>
          <p:nvPr/>
        </p:nvPicPr>
        <p:blipFill>
          <a:blip r:embed="rId2"/>
          <a:stretch/>
        </p:blipFill>
        <p:spPr>
          <a:xfrm>
            <a:off x="1785960" y="2500200"/>
            <a:ext cx="5214960" cy="571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C:\Documents and Settings\Admin.USER-58946434E4\Мои документы\Мои рисунки\Изображение\Изображение 185.jpg"/>
          <p:cNvPicPr/>
          <p:nvPr/>
        </p:nvPicPr>
        <p:blipFill>
          <a:blip r:embed="rId3"/>
          <a:stretch/>
        </p:blipFill>
        <p:spPr>
          <a:xfrm>
            <a:off x="1785960" y="3143160"/>
            <a:ext cx="5286240" cy="785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Documents and Settings\Admin.USER-58946434E4\Мои документы\Мои рисунки\Изображение\Изображение 186.jpg"/>
          <p:cNvPicPr/>
          <p:nvPr/>
        </p:nvPicPr>
        <p:blipFill>
          <a:blip r:embed="rId4"/>
          <a:stretch/>
        </p:blipFill>
        <p:spPr>
          <a:xfrm>
            <a:off x="1785960" y="4143240"/>
            <a:ext cx="5357880" cy="642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C:\Documents and Settings\Admin.USER-58946434E4\Мои документы\Мои рисунки\Изображение\Изображение 187.jpg"/>
          <p:cNvPicPr/>
          <p:nvPr/>
        </p:nvPicPr>
        <p:blipFill>
          <a:blip r:embed="rId5"/>
          <a:stretch/>
        </p:blipFill>
        <p:spPr>
          <a:xfrm>
            <a:off x="1714680" y="4929120"/>
            <a:ext cx="54291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8ed5"/>
                </a:solidFill>
                <a:latin typeface="Calibri"/>
              </a:rPr>
              <a:t>Перестроить предложения так, чтобы обособленный причастный оборот стал  необособленным.</a:t>
            </a:r>
            <a:br>
              <a:rPr sz="2400"/>
            </a:br>
            <a:r>
              <a:rPr b="1" lang="ru-RU" sz="2400" spc="-1" strike="noStrike">
                <a:solidFill>
                  <a:srgbClr val="558ed5"/>
                </a:solidFill>
                <a:latin typeface="Calibri"/>
              </a:rPr>
              <a:t> Записать полученные  предложения</a:t>
            </a:r>
            <a:br>
              <a:rPr sz="2400"/>
            </a:br>
            <a:r>
              <a:rPr b="1" lang="ru-RU" sz="1800" spc="-1" strike="noStrike" u="sng">
                <a:solidFill>
                  <a:srgbClr val="558ed5"/>
                </a:solidFill>
                <a:uFillTx/>
                <a:latin typeface="Calibri"/>
              </a:rPr>
              <a:t>(работа по парам в тетради)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14240" y="1714680"/>
            <a:ext cx="7715520" cy="39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Подумав, он решил стрелять мелкой дробью, надеясь убить побольше птиц, сидевших на озер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спомнилась поэтическая сказка о девушке, превращенной в лебед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Заворожившие красотой лебеди так и не  узнали о страшной опасности, грозившей 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Ключ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одумав, он решил стрелять мелкой дробью, надеясь убить побольше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сидевших на озер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ти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Вспомнилась поэтическая сказка о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превращенной в лебедя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вушк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Заворожившие красотой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ебед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ак и не  узнали о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грозившей и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трашной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ас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20T19:43:43Z</dcterms:modified>
  <cp:revision>22</cp:revision>
  <dc:subject/>
  <dc:title>Тема урока</dc:title>
</cp:coreProperties>
</file>