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B68-7B0F-4B94-8134-5283F3B5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658-2F41-4F95-AA13-974283ED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BA2-56D2-4CA0-902A-7CD73E33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81D-A757-478C-8C96-984FA331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911-158D-40A2-8E01-DCCC10DE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542-BE68-4A5A-9213-A5945CE8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D37-39C2-4B88-88C1-7792E19B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7BA-502E-4491-93F9-022C894D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3F6C-4744-4477-9BF7-251B2899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0B6-34CC-49CC-B47E-9FA63261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82C-3582-4613-9D29-CCE05152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32E-7C43-4A0D-97DA-3FA0F719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1748-113D-44D4-A7A8-C173AA5D52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15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857320"/>
            <a:ext cx="7072560" cy="1857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торение и обобщение изученного о причастии и деепричаст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7643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Произвести морфемный  и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 словообразовательный  разбор слов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абота  в тетрадях)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 ряд –  подума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 ряд -   сидевш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стройте  словосочетания так, чтобы приставка НЕ стала частицей,  т.е. писалась бы раздельно со слов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выполняем уст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исследованная мест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кошенная т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решенная 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выполненно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остоявшееся соревн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аполнить таблицу: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первую колонку   - глаголы,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во вторую – деепричастия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самостоятельная работ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Не)трудясь, (не)найдешь счасть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не)посеяв, (не)соберешь урож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не)убив медведя, шкуры (не)продаю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не)взявшись за топор, избы (не) сруби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0200"/>
          <a:ext cx="8229600" cy="320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Глаго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Деепричаст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йд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трудя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одаю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би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бер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сея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руб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зявши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ошибки в написании Н и НН в суффиксах причастий и отглагольных прилагательных. Исправить их.</a:t>
            </a:r>
            <a:br>
              <a:rPr sz="28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(устно)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7120" y="1600200"/>
            <a:ext cx="38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ороженная ры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мороженная рыба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джареное мяс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ванные сапог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жаренное на масле фи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дача решен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00720" y="1600200"/>
            <a:ext cx="435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орож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ен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ая рыба – отглагольное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илагательно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заморож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енн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ая рыба 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радательное  причаст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джар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енн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е мясо-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ичаст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ова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ые сапоги- отглагольное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илагательно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жаренное на масле филе –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радательное причаст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задача реш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ен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а –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краткое страдательное причаст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ведение итогов уро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Вспомните цели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Как вы думаете, достигнуты ли он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Какие этапы работы вызвали трудности, почем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Как вы оценили результаты своей работы на уро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Я все понял(а), могу этот материал объяснить другом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Я сам (а) все понял(а), но объяснить другому не берус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) для полного понимания мне нужно повторить тем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меня оказалось трудным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) Я ничего не понял(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ово экспертам-помощника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торить правила, на которые были  допущены оши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рфологический разбор 1 причастия и деепричаст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ься к сочинению по карт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. Григорьева «Вратарь» (с использованием причастий и деепричастий) (см. упр. 18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71720" y="1499760"/>
            <a:ext cx="7215120" cy="3786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пределить уровень знаний по темам “Причастие” и “Деепричастие”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истематизировать полученные знания о причастии и деепричастии (общее грамматическое значение, морфологические, синтаксические признаки; орфографические правила, изученные в данных разделах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спитывать умение слушать товарища, формировать навык самостоятельной рабо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вивать навык самоконтроля и взаимоконтрол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абота с текст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Художник Борис Иванович в туман… по…кравшись к л…бедям  стал целит…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П…думав он решил стр…лять мелкой дробью надеясь убить побольше птиц с…девших на озер…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Зар…див ружье приготовился выстр…л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Но стало казат…ся ему  что не  в лебедя а в человека  он стреля..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В…помнилась поэтическая сказка о девушк… превраще…ой в лебед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Опустив ружье он долго любовался гордыми птицами потом п…пятившись отош…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.   Заворожившие красотой лебеди так и (не ) узнали о страшной опасности гр…зивш… и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8) Такова власть красо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ьный вариант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1) Художник Борис Иванович, в туман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о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авшись к л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едям, стал целит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2) П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умав, он решил стр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ять мелкой дробью, надеясь убить побольше птиц, с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вших на озер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3) Зар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ив ружье, приготовился выстр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4) Но стало казат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я ему, что не в лебедя, а в человека  он стреля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5) В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мнилась поэтическая сказка о девушк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ревраще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нн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й в лебед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6) Опустив ружье, он долго любовался гордыми птицами, потом, п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ятившись, отош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7) )  Заворожившие красотой лебеди так и не 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_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знали о страшной опасности, гр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ивш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8) Такова власть красо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ли эти предложения объединить в текст?  Почему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О чем этот текст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Озаглавить текст. Дать несколько вариантов заглав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Определить основную мысль текс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Определить тип речи. Пояснить свой отве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Сколько абзацев можно выделить в этом тексте? Значит сколько микротем в этом текст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. Объяснить графически пропущенные орфограммы, расставить знаки препин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8. Графически объяснить  причастные и деепричастные оборо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исать из текста   причастия и деепричастия в таблицу </a:t>
            </a:r>
            <a:br>
              <a:rPr sz="24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(работа в карточках  с дальнейшей взаимопроверк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43040" y="2214720"/>
          <a:ext cx="6143760" cy="3566880"/>
        </p:xfrm>
        <a:graphic>
          <a:graphicData uri="http://schemas.openxmlformats.org/drawingml/2006/table">
            <a:tbl>
              <a:tblPr/>
              <a:tblGrid>
                <a:gridCol w="3071880"/>
                <a:gridCol w="3071880"/>
              </a:tblGrid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58ed5"/>
                          </a:solidFill>
                          <a:latin typeface="Arial"/>
                          <a:ea typeface="Times New Roman"/>
                        </a:rPr>
                        <a:t>Причас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58ed5"/>
                          </a:solidFill>
                          <a:latin typeface="Arial"/>
                          <a:ea typeface="Times New Roman"/>
                        </a:rPr>
                        <a:t>Деепричас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дев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кравшис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вращен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ум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ороживш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дея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озивш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яд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ус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ятивши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Графический диктант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йти предложения, соответствующие схемам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1643040"/>
            <a:ext cx="6400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Documents and Settings\Admin.USER-58946434E4\Мои документы\Мои рисунки\Изображение\Изображение 181.jpg"/>
          <p:cNvPicPr/>
          <p:nvPr/>
        </p:nvPicPr>
        <p:blipFill>
          <a:blip r:embed="rId1"/>
          <a:stretch/>
        </p:blipFill>
        <p:spPr>
          <a:xfrm>
            <a:off x="1857240" y="1714680"/>
            <a:ext cx="5214960" cy="642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Documents and Settings\Admin.USER-58946434E4\Мои документы\Мои рисунки\Изображение\Изображение 184.jpg"/>
          <p:cNvPicPr/>
          <p:nvPr/>
        </p:nvPicPr>
        <p:blipFill>
          <a:blip r:embed="rId2"/>
          <a:stretch/>
        </p:blipFill>
        <p:spPr>
          <a:xfrm>
            <a:off x="1785960" y="2500200"/>
            <a:ext cx="5214960" cy="571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:\Documents and Settings\Admin.USER-58946434E4\Мои документы\Мои рисунки\Изображение\Изображение 185.jpg"/>
          <p:cNvPicPr/>
          <p:nvPr/>
        </p:nvPicPr>
        <p:blipFill>
          <a:blip r:embed="rId3"/>
          <a:stretch/>
        </p:blipFill>
        <p:spPr>
          <a:xfrm>
            <a:off x="1785960" y="3143160"/>
            <a:ext cx="5286240" cy="785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Documents and Settings\Admin.USER-58946434E4\Мои документы\Мои рисунки\Изображение\Изображение 186.jpg"/>
          <p:cNvPicPr/>
          <p:nvPr/>
        </p:nvPicPr>
        <p:blipFill>
          <a:blip r:embed="rId4"/>
          <a:stretch/>
        </p:blipFill>
        <p:spPr>
          <a:xfrm>
            <a:off x="1785960" y="4143240"/>
            <a:ext cx="5357880" cy="642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C:\Documents and Settings\Admin.USER-58946434E4\Мои документы\Мои рисунки\Изображение\Изображение 187.jpg"/>
          <p:cNvPicPr/>
          <p:nvPr/>
        </p:nvPicPr>
        <p:blipFill>
          <a:blip r:embed="rId5"/>
          <a:stretch/>
        </p:blipFill>
        <p:spPr>
          <a:xfrm>
            <a:off x="1714680" y="4929120"/>
            <a:ext cx="54291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Перестроить предложения так, чтобы обособленный причастный оборот стал  необособленным.</a:t>
            </a:r>
            <a:br>
              <a:rPr sz="2400"/>
            </a:b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 Записать полученные  предложения</a:t>
            </a:r>
            <a:br>
              <a:rPr sz="2400"/>
            </a:br>
            <a:r>
              <a:rPr b="1" lang="ru-RU" sz="1800" spc="-1" strike="noStrike" u="sng">
                <a:solidFill>
                  <a:srgbClr val="558ed5"/>
                </a:solidFill>
                <a:uFillTx/>
                <a:latin typeface="Calibri"/>
              </a:rPr>
              <a:t>(работа по парам в тетради)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14240" y="1714680"/>
            <a:ext cx="771552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Подумав, он решил стрелять мелкой дробью, надеясь убить побольше птиц, сидевших на озе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спомнилась поэтическая сказка о девушке, превращенной в лебед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Заворожившие красотой лебеди так и не  узнали о страшной опасности, грозившей 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Ключ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думав, он решил стрелять мелкой дробью, надеясь убить побольше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сидевших на озер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т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спомнилась поэтическая сказка о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превращенной в лебедя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ушк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Заворожившие красото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бед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ак и не  узнали о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грозившей 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рашно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20T19:43:43Z</dcterms:modified>
  <cp:revision>22</cp:revision>
  <dc:subject/>
  <dc:title>Тема урока</dc:title>
</cp:coreProperties>
</file>