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876-7C4C-459A-B5E9-A8E3388A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793-2702-42BE-A78C-FC5BD8B3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B82-BE20-42B4-B689-CA6E2132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567-6A11-4201-9FC2-3C6841E3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98C-2A10-413A-AB2D-77200DA9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7027-9752-447D-8FA2-C24320C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F2D-7A6E-480B-8384-F7234585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707E-62C5-49BD-8C14-A4CA6C08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38EA-3610-4A7E-9BE9-C38C2C07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CBE9-3F0B-4B29-93E0-4A1543B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9DFF-1A32-4042-BD0C-1CAF49C4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720-440E-481C-B1D6-1EFD7B8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413B-CD95-4772-ADC1-CF386C1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1C2C-05FC-4A00-B992-83403C1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010-A090-4181-8BA6-211BE8C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DD9-76A3-4EF8-B3C9-CCB41F3E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ACF8-8620-4086-A28C-764F2E01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F9D-2ABC-4F90-946A-9F5FE3E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EB0-3725-4057-AC06-12A15F9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F71-E09F-4EDA-9A30-06EFD0F1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D08-FA37-440E-B579-556D020D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98F-62EA-4265-A3AF-8E9A551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2B6-9B56-4174-B4F4-1CB0A42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321-DD41-4076-B8CC-FA9800A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1D82-2249-4441-B424-895EA85F14E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435-D5E1-45F3-A8CE-3D77AAFE6101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182880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b0928"/>
                </a:solidFill>
                <a:latin typeface="Arial Black"/>
              </a:rPr>
              <a:t>Обобщающие слова при однородных членах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441972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089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90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106236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А помните, что происходило в сказке о Мойдодыре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«Утюги за сапогами, сапоги за пирогами, пироги за утюгами, кочерга з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ушаком – всё вертится, и кружится, и несётся кувырком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3462480"/>
            <a:ext cx="338436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42960" y="2382840"/>
            <a:ext cx="6058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зентацию подготови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русского язык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литературы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ранова Т.С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7524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704a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41680" y="5257800"/>
            <a:ext cx="40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6576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b0928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7800" y="1004760"/>
            <a:ext cx="619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ва есть в русской речи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 очень-то внешне похожие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о полномочия на ни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ровну возложен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И подчеркнуть в строке их нужно </a:t>
            </a:r>
            <a:r>
              <a:rPr b="1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одинаково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И между ними правильн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олжны расставить знаки м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Шагают вереницею они за словом главным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о ими командует и за собой их тянет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аверное, вы поняли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ва те благородны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се называют в языке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ечно,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днородные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3320" y="319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520" y="1121400"/>
            <a:ext cx="84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b5249"/>
              </a:buClr>
              <a:buFont typeface="Times New Roman"/>
              <a:buAutoNum type="romanU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5249"/>
                </a:solidFill>
                <a:latin typeface="Times New Roman"/>
              </a:rPr>
              <a:t>Повторение сведений об однородных членах предложен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27280" y="198000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1,2,5,6,9,10,11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8238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5249"/>
                </a:solidFill>
                <a:latin typeface="Times New Roman"/>
              </a:rPr>
              <a:t>На поляне росли колокольчики, васильки, ромашки, незабудки, одуванчи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3484800" cy="496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93420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т перед нами ряд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днородных членов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олокольчики,</a:t>
            </a:r>
            <a:r>
              <a:rPr b="1" i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асильки, ромашки, незабудки, одуванчик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ак можно назват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се эти слов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дним словом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9556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124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892680" cy="343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 rot="10800000">
            <a:off x="1257480" y="1231200"/>
            <a:ext cx="439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во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цветы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вмещает в себя и  </a:t>
            </a: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локольчики, и васильки, и ромашки, и незабудки,  и одуванчик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 Это слово – как будто общий домик для всех остальных слов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5517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331a"/>
                </a:solidFill>
                <a:latin typeface="Times New Roman"/>
              </a:rPr>
              <a:t>Внимание!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Такой общий домик для однородных членов называется по-научному </a:t>
            </a:r>
            <a:r>
              <a:rPr b="1" lang="ru-RU" sz="2400" spc="-1" strike="noStrike" u="sng">
                <a:solidFill>
                  <a:srgbClr val="1932ed"/>
                </a:solidFill>
                <a:uFillTx/>
                <a:latin typeface="Times New Roman"/>
              </a:rPr>
              <a:t>обобщающим словом</a:t>
            </a:r>
            <a:r>
              <a:rPr b="1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Оно действительно обобщает, вмещая в себя все остальные слова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304812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1243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7066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осмотрите на ряды однородных членов и найдите среди них обобщающие слов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04400"/>
            <a:ext cx="12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Берез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си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ерево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1871640" cy="150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56000" y="1861560"/>
            <a:ext cx="16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Тапоч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Ботин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ален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був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1760400"/>
            <a:ext cx="2664000" cy="1551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4372560"/>
            <a:ext cx="13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дежд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лать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убаш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жинс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уртк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20653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27080" y="1295280"/>
            <a:ext cx="546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720080"/>
            <a:ext cx="6610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Щука, карась, окунь, пескарь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лки, медведи, зайцы, лис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тол, стул, диван, шкаф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аслята, опята, рыжики, сыроежк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олоток, топор, пила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111708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Самое интересное, что существуют коротенькие обобщающие слова, которые вмещают в себя самое большое количество однородных членов. Это слова ВСЕ, ВСЁ, ВСЮДУ. НИКТО, НИЧТО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1181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 доктору Айболиту приходили лечиться все: и ворона, и лисица, и жучок, и червячок, и медведиц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669780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6:23:21Z</dcterms:created>
  <dc:creator>Admin</dc:creator>
  <dc:description/>
  <dc:language>en-US</dc:language>
  <cp:lastModifiedBy>-</cp:lastModifiedBy>
  <dcterms:modified xsi:type="dcterms:W3CDTF">2011-04-18T12:00:48Z</dcterms:modified>
  <cp:revision>9</cp:revision>
  <dc:subject/>
  <dc:title>Презентация PowerPoint</dc:title>
</cp:coreProperties>
</file>