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C11-9C3D-43EE-9DF5-6B1C0E7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0C3-49EE-44EF-8F08-6D280DEE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7D8-4457-4D8D-B83B-751B4825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A1B-84E5-47B9-B8A3-474E2078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C4A-2338-42CE-A7D0-4DB46249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F74-B699-4637-8DD9-F627A66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FA9-A186-414B-ACC6-C328B972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A91-2147-4ECF-A82B-84940D1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F08-1111-4D60-9EB9-B3C6541E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761-D397-4820-918C-9112189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B50-E739-4AC1-B188-98325A99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DFA-0485-4431-8820-1210E26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2E3-E3B9-4D7E-9B27-C4974528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United States of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ew Zea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United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380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38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9:41:42Z</dcterms:created>
  <dc:creator>Admin</dc:creator>
  <dc:description/>
  <dc:language>en-US</dc:language>
  <cp:lastModifiedBy>Admin</cp:lastModifiedBy>
  <dcterms:modified xsi:type="dcterms:W3CDTF">2013-09-23T19:43:12Z</dcterms:modified>
  <cp:revision>2</cp:revision>
  <dc:subject/>
  <dc:title>Слайд 1</dc:title>
</cp:coreProperties>
</file>