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1BF-3022-43B1-84D5-0156D652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EDC-58FA-4105-BF61-71B98E4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08E-62D2-4D7D-950A-F1B9B958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95E-6E23-4701-8382-0A0D1AB7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04E-3D5F-41BA-B902-E314146E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DB5-6CC1-40AD-8A2C-70BA5AA0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9A5-054C-4A59-AB37-03F79BDC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CDC-A403-4F0B-97ED-AF69902D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E9B-C23D-4CA2-9592-28C57A8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029-C0F7-4014-B9EA-7442638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5A9-B97C-4D15-9F79-87782D9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CD3-757B-4050-838D-034C9F7E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93D-631F-4EC5-A741-BB8D63D86A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69840">
            <a:solidFill>
              <a:srgbClr val="00ff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914400" y="-36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Урок-проект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ff"/>
                </a:solidFill>
                <a:latin typeface="Arial"/>
              </a:rPr>
              <a:t>«Наши любимые домашние животные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1 The dog is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smarter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than the c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 The monkey is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funnier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than the parro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3 The lion is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stronger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than the wo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4 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The elephant is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the biggest 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anim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The dolphin is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the most beautiful 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anim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Thank you for the less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66920" y="3716280"/>
            <a:ext cx="12574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549360"/>
            <a:ext cx="900108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ffff"/>
                </a:solidFill>
                <a:uFillTx/>
                <a:latin typeface="Arial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ffff"/>
                </a:solidFill>
                <a:latin typeface="Arial"/>
              </a:rPr>
              <a:t>Обобщить знания по теме«Мои любимые домашние животны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1840"/>
            <a:ext cx="8893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ffff"/>
                </a:solidFill>
                <a:uFillTx/>
                <a:latin typeface="Times New Roman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ffff"/>
              </a:buClr>
              <a:buFont typeface="Arial"/>
              <a:buAutoNum type="arabicPeriod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Выявить наиболее популярных домашних животных в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Описать их особенности с научной точки 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3. Научиться писать сочинения о своих домашних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4. Поиск  с помощью Интернета и литературы пословиц, поговорок об эт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6. Научиться хорошо декламировать стихи, переводить их в стихотворной форме, сочинять ст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8200"/>
            <a:ext cx="447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Elephant"/>
              </a:rPr>
              <a:t>-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What does the word “pet” me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-  What pets do you kn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- What exotic pets do you kn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- What unusual pets do you kn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- Have you got a pe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- What pet have you g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- What is your pet’s nam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- Does your pet answer his name?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716360" cy="4753080"/>
          </a:xfrm>
          <a:prstGeom prst="rect">
            <a:avLst/>
          </a:prstGeom>
          <a:ln w="349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206640"/>
            <a:ext cx="7012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тап 2. Защита проекта на тем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«Мы любим наших кошек»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G: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And what is the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f the project about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c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32280"/>
            <a:ext cx="38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And what do you know about c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273672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80000" y="2852640"/>
            <a:ext cx="517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6560" y="333360"/>
            <a:ext cx="828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Этап 3. Защита проекта 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«Собаки наши лучшие друз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G: Now let’s speak about dogs. What is the name of your project about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2571480" cy="3857760"/>
          </a:xfrm>
          <a:prstGeom prst="rect">
            <a:avLst/>
          </a:prstGeom>
          <a:ln w="82440">
            <a:solidFill>
              <a:srgbClr val="00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00680" y="2781360"/>
            <a:ext cx="5143320" cy="3857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7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214200"/>
            <a:ext cx="6516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ess the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letter of the word “pe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cond letter of the word “supp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urth letter of the word “elephan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letter of the word “pig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venth letter of the word “crocodi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fth letter of the word “clev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ird letter of the word “nose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395280" y="177336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1500120"/>
          <a:ext cx="8229600" cy="4529160"/>
        </p:xfrm>
        <a:graphic>
          <a:graphicData uri="http://schemas.openxmlformats.org/drawingml/2006/table">
            <a:tbl>
              <a:tblPr/>
              <a:tblGrid>
                <a:gridCol w="2890800"/>
                <a:gridCol w="2952720"/>
                <a:gridCol w="238608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omestic 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p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d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c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rab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ho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Wild 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ti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mon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cam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b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f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n eleph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crocod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sn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c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parr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 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WordArt 27"/>
          <p:cNvSpPr txBox="1"/>
          <p:nvPr/>
        </p:nvSpPr>
        <p:spPr>
          <a:xfrm>
            <a:off x="1908000" y="0"/>
            <a:ext cx="55436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imal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Line 33"/>
          <p:cNvSpPr/>
          <p:nvPr/>
        </p:nvSpPr>
        <p:spPr>
          <a:xfrm>
            <a:off x="4572000" y="907920"/>
            <a:ext cx="266400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4"/>
          <p:cNvSpPr/>
          <p:nvPr/>
        </p:nvSpPr>
        <p:spPr>
          <a:xfrm>
            <a:off x="4572000" y="90792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5"/>
          <p:cNvSpPr/>
          <p:nvPr/>
        </p:nvSpPr>
        <p:spPr>
          <a:xfrm flipH="1">
            <a:off x="1908000" y="907920"/>
            <a:ext cx="266400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e the right 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1 The dog is (smart) than the c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 The monkey is (funny) than the parro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3 The lion is (strong) than the wo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The elephant is the (big) of all anim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5 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The dolphin is the(beautiful)anim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03:28:37Z</dcterms:created>
  <dc:creator>USER</dc:creator>
  <dc:description/>
  <dc:language>en-US</dc:language>
  <cp:lastModifiedBy>Аксинья</cp:lastModifiedBy>
  <dcterms:modified xsi:type="dcterms:W3CDTF">2012-10-26T02:27:17Z</dcterms:modified>
  <cp:revision>52</cp:revision>
  <dc:subject/>
  <dc:title>Тема: Animals and Pets</dc:title>
</cp:coreProperties>
</file>