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28BB9-150D-48BC-9B65-17E7FE6BDCF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Автор презентации Бахарева Т.А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Родители поэ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3C4C-E5F3-45C5-BCF8-110E73D2F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ED24-4875-4A9F-816D-2D1AFC9AA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B446-F289-4CA5-ADE7-4BBA1B8CF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FF4E-C360-4EB4-8EAB-4D2F291DE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E1286-CF61-49E5-9A4B-BB5A91A21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9550F-E321-48E3-A06A-28C9D5670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CE7F4-7622-4AD3-8CC5-101830AFF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D9969-A92A-4AC2-AF19-9430FAD8B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4A6C3-B25C-426C-B0A3-FA2EA4A6F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479CF-0C6E-4ACB-B23D-096CF0550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5447D-CAB5-48A7-AC59-0A2AA45F6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2AF8-34A2-4ED0-9BD1-69F603F70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41D6E-B58A-4457-8CB4-E03DC1420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AF21C-341D-4052-AD67-F39984DE2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A8711-1D6E-4A11-A755-DB943E51E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CB2BD-378C-4120-9B65-DF6584E61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1DEBB-487F-420D-844A-72A6C9420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5D9E-F2EF-4683-B943-7D37821B8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CC30-4F72-41B5-96BF-260BE3E7B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FE17-D0C0-43A1-A454-37087E75C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839A-A6BD-41FF-A00E-3FCF7C881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DA6B-9867-4612-B03D-480A04DF0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2144-29AC-43DD-BD0C-FA118CF14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4AA2-E494-4181-8582-08373EC81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C7F0F-906D-4D2D-B85C-C091239E1EA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563DB-A8D0-4CA1-B82E-F2D4A5A5987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478320" y="5661000"/>
            <a:ext cx="5094000" cy="10083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e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Bookman Old Style"/>
              </a:rPr>
              <a:t>А.С. Пушкин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79280" y="3141720"/>
            <a:ext cx="3313080" cy="3716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0" name=""/>
          <p:cNvSpPr/>
          <p:nvPr/>
        </p:nvSpPr>
        <p:spPr>
          <a:xfrm>
            <a:off x="0" y="0"/>
            <a:ext cx="8893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99ff66"/>
                </a:solidFill>
                <a:uFillTx/>
                <a:latin typeface="Tahoma"/>
              </a:rPr>
              <a:t>Тема «маленького человека» в поэме А.С.Пушки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99ff66"/>
                </a:solidFill>
                <a:uFillTx/>
                <a:latin typeface="Tahoma"/>
              </a:rPr>
              <a:t> </a:t>
            </a:r>
            <a:r>
              <a:rPr b="1" i="1" lang="en-US" sz="2400" spc="-1" strike="noStrike" u="sng">
                <a:solidFill>
                  <a:srgbClr val="99ff66"/>
                </a:solidFill>
                <a:uFillTx/>
                <a:latin typeface="Tahoma"/>
              </a:rPr>
              <a:t>«Медный всадник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635280" y="1484280"/>
            <a:ext cx="44481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ff66"/>
                </a:solidFill>
                <a:latin typeface="Tahoma"/>
              </a:rPr>
              <a:t>…</a:t>
            </a:r>
            <a:r>
              <a:rPr b="0" lang="en-US" sz="1800" spc="-1" strike="noStrike">
                <a:solidFill>
                  <a:srgbClr val="99ff66"/>
                </a:solidFill>
                <a:latin typeface="Tahoma"/>
              </a:rPr>
              <a:t>чьей волей роково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ff66"/>
                </a:solidFill>
                <a:latin typeface="Tahoma"/>
              </a:rPr>
              <a:t>Над морем город основался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ff66"/>
                </a:solidFill>
                <a:latin typeface="Tahoma"/>
              </a:rPr>
              <a:t>                    </a:t>
            </a:r>
            <a:r>
              <a:rPr b="0" lang="en-US" sz="1800" spc="-1" strike="noStrike">
                <a:solidFill>
                  <a:srgbClr val="99ff66"/>
                </a:solidFill>
                <a:latin typeface="Tahoma"/>
              </a:rPr>
              <a:t>А.С.Пушки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0" y="2781360"/>
          <a:ext cx="9144000" cy="640836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423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17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ff66"/>
                          </a:solidFill>
                          <a:latin typeface="Tahoma"/>
                        </a:rPr>
                        <a:t>А.С.Пушки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35280" y="2781360"/>
            <a:ext cx="5508720" cy="489564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ahoma"/>
              </a:rPr>
              <a:t>Петербург сегодн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0" y="1413000"/>
            <a:ext cx="5651640" cy="48956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3276720" y="1989000"/>
            <a:ext cx="5867280" cy="453564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"/>
          <p:cNvGraphicFramePr/>
          <p:nvPr/>
        </p:nvGraphicFramePr>
        <p:xfrm>
          <a:off x="457200" y="380880"/>
          <a:ext cx="8229600" cy="679284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124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ff66"/>
                          </a:solidFill>
                          <a:latin typeface="Tahoma"/>
                        </a:rPr>
                        <a:t>Образ Петербурга в рассказе Гоголя «Шинель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ff66"/>
                          </a:solidFill>
                          <a:latin typeface="Tahoma"/>
                        </a:rPr>
                        <a:t>Как вы понимаете авторскую позицию в «Шинели» - только как просьбу о милосердии или одновременно как выражение резкого протеста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539640" y="2637000"/>
            <a:ext cx="7993080" cy="388908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 flipH="1">
            <a:off x="324000" y="404640"/>
            <a:ext cx="8604000" cy="1152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66"/>
                </a:solidFill>
                <a:latin typeface="Tahoma"/>
              </a:rPr>
              <a:t>Образ Петербурга в повести Ф.М.Достоевского «Белые ночи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95280" y="1989000"/>
            <a:ext cx="8497800" cy="48690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611280" y="2708280"/>
            <a:ext cx="4897440" cy="41497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24000" y="206064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ahoma"/>
              </a:rPr>
              <a:t>…</a:t>
            </a:r>
            <a:r>
              <a:rPr b="0" lang="en-US" sz="1800" spc="-1" strike="noStrike">
                <a:solidFill>
                  <a:srgbClr val="080808"/>
                </a:solidFill>
                <a:latin typeface="Tahoma"/>
              </a:rPr>
              <a:t>все между нами холодно, угрюмо, сердит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5867280" y="2133720"/>
            <a:ext cx="4033800" cy="47242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 flipH="1" flipV="1" rot="10800000">
            <a:off x="6877080" y="3213000"/>
            <a:ext cx="3240000" cy="1656000"/>
          </a:xfrm>
          <a:prstGeom prst="ellipse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216920" y="3357720"/>
            <a:ext cx="253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020000" y="3467160"/>
            <a:ext cx="2808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Город пышный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Город бедный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Дух неволи, стройный ви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ahoma"/>
              </a:rPr>
              <a:t>Можно ли сказать, что одиночество, уединение героя «Белых ночей» - это неприятие окружающего мира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539640" y="1844640"/>
            <a:ext cx="8280360" cy="501336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00"/>
                </a:solidFill>
                <a:latin typeface="Tahoma"/>
              </a:rPr>
              <a:t>Трагические картины жизни большого город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…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этот омут хорош для людей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Расставляющих ближнему сети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Но не жалко ли бедных детей!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Н.А.Некрасо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3348000" y="3284640"/>
            <a:ext cx="5616720" cy="35733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250920" y="3716280"/>
            <a:ext cx="2881080" cy="314172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00"/>
                </a:solidFill>
                <a:latin typeface="Tahoma"/>
              </a:rPr>
              <a:t>Как раскрывается тема «маленького человека» в поэме «Медный всадник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Анализ вступл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Tahoma"/>
              </a:rPr>
              <a:t>«краса и дива полнощных стран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0" y="3429000"/>
            <a:ext cx="5003640" cy="3429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4572000" y="3068640"/>
            <a:ext cx="4572000" cy="378936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Три исторические эпох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Эпоха Петра Первого – создание Петербург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Эпоха Александра 1 – наводне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Эпоха Николая 1 – пушкинская современност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опро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чем смысл композиции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Как соединяются в отрывке хвала и порицание Петру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66"/>
                </a:solidFill>
                <a:latin typeface="Tahoma"/>
              </a:rPr>
              <a:t>И место, где потоп играл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66"/>
                </a:solidFill>
                <a:latin typeface="Tahoma"/>
              </a:rPr>
              <a:t>И львов, и площадь, и того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66"/>
                </a:solidFill>
                <a:latin typeface="Tahoma"/>
              </a:rPr>
              <a:t>Кто неподвижно возвышалс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66"/>
                </a:solidFill>
                <a:latin typeface="Tahoma"/>
              </a:rPr>
              <a:t>Во мраке медною главой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66"/>
                </a:solidFill>
                <a:latin typeface="Tahoma"/>
              </a:rPr>
              <a:t>Того, чьей волей роково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66"/>
                </a:solidFill>
                <a:latin typeface="Tahoma"/>
              </a:rPr>
              <a:t>Под морем город основался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66"/>
                </a:solidFill>
                <a:latin typeface="Tahoma"/>
              </a:rPr>
              <a:t>Ужасен он в окрестной мгле!..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66"/>
                </a:solidFill>
                <a:latin typeface="Tahoma"/>
              </a:rPr>
              <a:t>О мощный властелин судьбы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66"/>
                </a:solidFill>
                <a:latin typeface="Tahoma"/>
              </a:rPr>
              <a:t>Не так ли ты над самой бездной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66"/>
                </a:solidFill>
                <a:latin typeface="Tahoma"/>
              </a:rPr>
              <a:t>На высоте, уздой железно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66"/>
                </a:solidFill>
                <a:latin typeface="Tahoma"/>
              </a:rPr>
              <a:t>Россию поднял на дыб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66"/>
                </a:solidFill>
                <a:latin typeface="Tahoma"/>
              </a:rPr>
              <a:t>Кто виновен в бедах Евгения: Петр 1 или стихия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8T18:40:35Z</dcterms:created>
  <dc:creator>Neith</dc:creator>
  <dc:description/>
  <dc:language>en-US</dc:language>
  <cp:lastModifiedBy>техносеть</cp:lastModifiedBy>
  <dcterms:modified xsi:type="dcterms:W3CDTF">2005-12-31T21:39:57Z</dcterms:modified>
  <cp:revision>40</cp:revision>
  <dc:subject/>
  <dc:title>Слайд 1</dc:title>
</cp:coreProperties>
</file>