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798-170F-4F1C-95AC-274A4911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687-56F8-4E2F-A59E-2A0F76D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84B-61C9-40A7-8F61-31A81410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514-6517-4609-A847-1E6076F0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C6D4-E333-49CE-B259-95D4CCCD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85F-41FC-4ECF-B044-ADB224DA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521D-127F-4B46-95B7-269D65F2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B95-CCD9-4519-B029-7521496C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E61-C36F-4F97-9367-BCFE6D70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A886-2548-4075-B80D-88F64FA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4ECB-6F6A-418D-8658-F80FCCF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D5E-2D32-44C8-AAF6-00C912B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6B0-68E5-452F-8202-950412C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6DE-8980-4399-BD29-AF0BFF6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18E-83DB-4365-8932-6959B36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1CC7-D5B3-4279-9538-661AE89D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682A-1075-4C8E-9EC7-02F4E223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F8A-DC57-4952-85D6-B79C10A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7F6-BA82-4E5E-94FE-6584D509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613-1856-4547-9654-9F635BF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A98-FFC9-440E-A906-7BB181E4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85E-9F71-47D8-A807-B787AD9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23F-DA22-438E-8C6B-65FD14D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692-CD2F-4353-82AC-F6A92FC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656-EACB-4E7E-8354-7920153654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15F-EF08-4B9B-81A1-E16C283EA3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bdullatukay.ru/rus/index.php?option=com_content&amp;task=view&amp;id=777&amp;Itemid=5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abdullatukay.ru/rus/index.php?option=com_content&amp;task=view&amp;id=777&amp;Itemid=51" TargetMode="External"/><Relationship Id="rId4" Type="http://schemas.openxmlformats.org/officeDocument/2006/relationships/hyperlink" Target="http://www.gabdullatukay.ru/rus/index.php?option=com_content&amp;task=view&amp;id=777&amp;Itemid=51" TargetMode="External"/><Relationship Id="rId5" Type="http://schemas.openxmlformats.org/officeDocument/2006/relationships/hyperlink" Target="http://www.gabdullatukay.ru/rus/index.php?option=com_content&amp;task=view&amp;id=777&amp;Itemid=51" TargetMode="External"/><Relationship Id="rId6" Type="http://schemas.openxmlformats.org/officeDocument/2006/relationships/hyperlink" Target="http://www.gabdullatukay.ru/rus/index.php?option=com_content&amp;task=view&amp;id=777&amp;Itemid=51" TargetMode="External"/><Relationship Id="rId7" Type="http://schemas.openxmlformats.org/officeDocument/2006/relationships/hyperlink" Target="http://www.gabdullatukay.ru/rus/index.php?option=com_content&amp;task=view&amp;id=777&amp;Itemid=51" TargetMode="External"/><Relationship Id="rId8" Type="http://schemas.openxmlformats.org/officeDocument/2006/relationships/hyperlink" Target="http://www.gabdullatukay.ru/rus/index.php?option=com_content&amp;task=view&amp;id=777&amp;Itemid=51" TargetMode="External"/><Relationship Id="rId9" Type="http://schemas.openxmlformats.org/officeDocument/2006/relationships/hyperlink" Target="http://www.gabdullatukay.ru/rus/index.php?option=com_content&amp;task=view&amp;id=777&amp;Itemid=51" TargetMode="External"/><Relationship Id="rId10" Type="http://schemas.openxmlformats.org/officeDocument/2006/relationships/hyperlink" Target="http://www.gabdullatukay.ru/rus/index.php?option=com_content&amp;task=view&amp;id=777&amp;Itemid=51" TargetMode="External"/><Relationship Id="rId11" Type="http://schemas.openxmlformats.org/officeDocument/2006/relationships/hyperlink" Target="http://www.gabdullatukay.ru/rus/index.php?option=com_content&amp;task=view&amp;id=777&amp;Itemid=51" TargetMode="External"/><Relationship Id="rId12" Type="http://schemas.openxmlformats.org/officeDocument/2006/relationships/hyperlink" Target="http://www.gabdullatukay.ru/rus/index.php?option=com_content&amp;task=view&amp;id=777&amp;Itemid=51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66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987640" cy="388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56000" y="404640"/>
            <a:ext cx="3825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бдулла Тука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5516640"/>
            <a:ext cx="66196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Тукаев Габдулла Мухаммедгарифович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708280"/>
            <a:ext cx="2333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886 -19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88000" y="620280"/>
            <a:ext cx="40320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085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55952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род без песни – это не наро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род без песни дня не прож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 писал Кулиев, которому суждено было стать певцом многострадального, не раз униженного, но воспрявшего, возродившегося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-4629240" y="1012680"/>
          <a:ext cx="833400" cy="6088320"/>
        </p:xfrm>
        <a:graphic>
          <a:graphicData uri="http://schemas.openxmlformats.org/drawingml/2006/table">
            <a:tbl>
              <a:tblPr/>
              <a:tblGrid>
                <a:gridCol w="617400"/>
                <a:gridCol w="216000"/>
              </a:tblGrid>
              <a:tr h="78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br>
                        <a:rPr sz="68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7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824280" y="1979640"/>
            <a:ext cx="47520" cy="113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467240" y="3541680"/>
            <a:ext cx="914400" cy="9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-3824280" y="1979640"/>
            <a:ext cx="4752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4467240" y="3541680"/>
            <a:ext cx="914400" cy="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3673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6308640"/>
            <a:ext cx="65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88960" y="404640"/>
            <a:ext cx="3130560" cy="468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222880" y="404640"/>
            <a:ext cx="3502080" cy="468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5228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мятники Габдулле Тукаю в Казани, на площади Ту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в Санкт-Петербурге, на Зверинской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Станция метро "/>
          <p:cNvPicPr/>
          <p:nvPr/>
        </p:nvPicPr>
        <p:blipFill>
          <a:blip r:embed="rId1"/>
          <a:stretch/>
        </p:blipFill>
        <p:spPr>
          <a:xfrm>
            <a:off x="0" y="0"/>
            <a:ext cx="6372360" cy="256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танция метро "/>
          <p:cNvPicPr/>
          <p:nvPr/>
        </p:nvPicPr>
        <p:blipFill>
          <a:blip r:embed="rId2"/>
          <a:stretch/>
        </p:blipFill>
        <p:spPr>
          <a:xfrm>
            <a:off x="3382920" y="4284720"/>
            <a:ext cx="5761080" cy="2573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17720" y="2450520"/>
            <a:ext cx="530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ция метро "Площадь Тукая" в Казан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стенах картины по мотивам сказок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44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133720"/>
            <a:ext cx="3313080" cy="2651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21040" y="685440"/>
            <a:ext cx="51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2011 год объявлен Годом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Times New Roman"/>
                <a:hlinkClick r:id="rId4"/>
              </a:rPr>
              <a:t>Габдуллы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Times New Roman"/>
                <a:hlinkClick r:id="rId5"/>
              </a:rPr>
              <a:t> Ту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69476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В целях увековечения памяти и творческого наследия великого татарского поэта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Габдуллы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 Тукая Президент Республики Татарстан Рустам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Минниханов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 11 февраля подписал Указ об объявлении 2011 года Годом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Габдуллы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 Тукая в Республике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00360" y="4802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урале» поэма-сказк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376640"/>
            <a:ext cx="77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урале – персонаж сказочный (не злобный), любящий пошалить, но не знающий меры. Может и защекотать до смерти. Он поджидает простачков в лесу, одурачивает их. Щекотку, о которой говорит сам персонаж, можно представить не только как физическое щекотание, но и как приколы, розыгрыши, «развод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7020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71600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61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88000" y="54504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ђкъ Казан артында бардыр бер авыл - Кырлай, дилђ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Ќырлаганда, кљй љчен, "тавыклары ќырлай", дилђ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ђрчђ анда тугмасам да, мин бераз торган иде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Ќирне ђз-мђз тырмалап, чђчкђн идем, урган ид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 авылныћ, џич онытмыйм, џђр ягы урман ид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 болын, яшел њлђннђр хђтфђдђн юрган ид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урмы? - дисђћ, зур тњгелдер, бу авыл бик кечкенђ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кыныћ эчкђн суы бик кечкенђ - инеш кенђ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а бик салкын вђ бик эссе тњгел, урта џа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Ќил дђ вактында исеп, яћгыр да вактында я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-316440"/>
            <a:ext cx="404352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3960" cy="623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76720" y="-56160"/>
            <a:ext cx="4067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аул вблизи Казани, по названию Кырла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же куры в том Кырлае петь умеют...Дивный край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ь я родом не оттуда, но любовь к нему храни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емле его работал - сеял, жал и борони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 сторона лесная вечно в памяти жи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рхатистым одеялом расстилается тра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слывет большим аулом? Нет напротив невели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река, народа гордость, -просто маленький родни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м ни холода, ни зноя никогда не знал народ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ой черед подует ветер, в свой черед и дождь п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664640"/>
            <a:ext cx="83534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НО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ной язык - святой язык, отца и матери язы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ты прекрасен! Целый мир в твоем богатстве я пости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чая колыбель, тебя мне в песне открывала м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сказки бабушки потом я научился пони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ной язык, родной язык, с тобою смело шел я вда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ы радость возвышал мою, ты просветлял мою печ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ной язык, с тобой вдвоем я в первый раз молил твор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боже, мать прости, прости меня, прости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590920" cy="379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47640" y="476280"/>
            <a:ext cx="5943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йсын Шуваевич Кулие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917-1985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52072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75520" y="1341360"/>
            <a:ext cx="2617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0:32:18Z</dcterms:created>
  <dc:creator>User1</dc:creator>
  <dc:description/>
  <dc:language>en-US</dc:language>
  <cp:lastModifiedBy>-</cp:lastModifiedBy>
  <dcterms:modified xsi:type="dcterms:W3CDTF">2011-04-16T18:17:17Z</dcterms:modified>
  <cp:revision>114</cp:revision>
  <dc:subject/>
  <dc:title>В. Распутин  «Уроки французского»</dc:title>
</cp:coreProperties>
</file>