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FF0-63C9-4E1F-844C-7F3A914D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74F-88FA-44F6-9DD8-4EE1B55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CD-2A29-41FA-B448-5BA9737B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AF6-9CBA-4445-9158-A0B62889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E66-CC55-4299-8A77-B6DF582F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B16-6004-4F11-9828-B5A9152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C59-27D2-4036-90DB-A30DC08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C16-8B90-498E-B0FC-89D1FA7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6A0-6B40-4B5A-9C86-02FD312F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AD8-5665-4A50-8B10-A253F28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739-44FA-4279-8081-A8B993C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DBE-B0DB-49DA-B976-0D4D37E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AE2-25C1-4AC1-B316-E947DAE1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5280" y="1412640"/>
            <a:ext cx="604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 Black"/>
              </a:rPr>
              <a:t>ВЕСЁЛЫЙ АНГЛИЙСК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907920"/>
            <a:ext cx="3889080" cy="308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76327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" dur="1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" dur="1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азки – замечательное средство приобщения детей к культуре народов, к развитию речи. Сказки на английском языке превращают процесс обучения ребенка в привлекательную игру.  Программа построена на сказках разных народов мира. Во многих из них встречается типичный для фольклора композиционный приём – повтор. Каждый эпизод, обогащаясь новой деталью, повторяет почти дословно предыдущий, что помогает узнаванию слов и постепенно образует навык восприятия текста. Чтение формирует интеллект, обостряет чувства, способствует развитию познавательных интересов, а также общей культуры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74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Формы проведения занят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урочная деятельность по английскому языку традиционно основана на трёх формах: индивидуальная, групповая и массовая работа (выступления, спектакли, утренники и пр.). Ведущей формой организации занятий является групповая работа. Во время занятий осуществляется индивидуальный и дифференцированный подход к детя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24360" y="1125360"/>
            <a:ext cx="3059280" cy="48945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бования к результатам обуч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реализации программы кружка «Веселый английский», обучающиеся получают возможность для формирования устойчивой учебно-познавательной мотивации к изучению английского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503280"/>
            <a:ext cx="60483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грамма «Веселый Английский» имеет научно-познавательную (общеинтеллектуальную) направленность и представляет собой вариант программы организации внеурочной деятельности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ческая целесообразность  данной программы внеурочной деятельности обусловлена важностью создания условий для формирования у младших школьников коммуникативных и социальных навыков, которые необходимы для успешного интеллектуального развития ребенка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327636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497844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ом данной программы стали такие слов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нглийский язык – окно в мир: мир разных культур, мир общения, мир стихов, мир сказок, мир игр, мир теа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обеспечивает  развитие  интеллектуальных общеучебных умений, творческих способностей у учащихся, необходимых для дальнейшей самореализации и формирования личности ребенка, позволяет ребёнку проявить себя, преодолеть языковой барьер, выявить свой творческий потенци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4140000" cy="40053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грамма составлена с учетом требований федеральных государственных стандартов второго поколения и соответствует возрастным особенностям младше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95640" cy="4525920"/>
          </a:xfrm>
          <a:prstGeom prst="rect">
            <a:avLst/>
          </a:prstGeom>
          <a:ln w="6660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240000" cy="4464000"/>
          </a:xfrm>
          <a:prstGeom prst="rect">
            <a:avLst/>
          </a:prstGeom>
          <a:ln w="73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я выбрала этот 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курс обеспечивает формирование личностных, метапредметных и предметных компетенций, предопределяющих дальнейшее успешное обучение в начальной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Цели программ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48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для интеллектуального развития ребенка и формирования его коммуникативных и социальных навыков через игровую и проектную деятельность посредством английского язы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эмоциональной сферы, воспитание нравственных качеств, развитие артистических способностей, творческого воображения и фантаз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комство с элементами традиционной детской  англоязыч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864240" cy="3024360"/>
          </a:xfrm>
          <a:prstGeom prst="rect">
            <a:avLst/>
          </a:prstGeom>
          <a:ln w="66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а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68720" y="1557360"/>
            <a:ext cx="4175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стоит из трёх относительно самостоятельных разделов, каждый из которых предполагает организацию определённого вида внеурочной деятельности обучающихся и направлен на решение своих собственных педагог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643280" cy="3311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500720" cy="3529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5364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4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ир игр и стихов» - 2 кла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данном этапе в игровой форме идет развитие всех видов речевой деятельности, но особое внимание уделяется буквам и звукам, расширению лексического запаса, чтению простых и интересных детских сти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348000" cy="27082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ир сказки и театра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4 класс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рамат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 внеурочной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упает в качестве эффективного средства повышения мотивации к овладению иноязычным общением. Именно драматизация помогает детям «окунуться в язык», преодолеть речево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77000" y="2421000"/>
            <a:ext cx="3267000" cy="41241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5:40:26Z</dcterms:created>
  <dc:creator>Аксинья</dc:creator>
  <dc:description/>
  <dc:language>en-US</dc:language>
  <cp:lastModifiedBy>Аксинья</cp:lastModifiedBy>
  <dcterms:modified xsi:type="dcterms:W3CDTF">2013-03-26T19:22:43Z</dcterms:modified>
  <cp:revision>5</cp:revision>
  <dc:subject/>
  <dc:title>Внеурочная деятельность </dc:title>
</cp:coreProperties>
</file>