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419-3B62-41CD-AB39-AF18609E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1D2-CCB7-42AD-B87D-8D17625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46226-41FF-4CE5-8D2F-3179F224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42F2C-1190-455A-A4EA-E36C3E2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8934E-7DE7-4823-B994-AFBDC347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875E9-21BC-4DE8-9565-373D8711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9E9D5-0876-48B7-A323-CCA67EA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E0F43-0A27-4497-8A65-EA3D0F1B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BAE56-0350-43C7-A846-F66BC50A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B6138-74ED-4E84-A64C-23064E26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E1A5E-2DC1-4D46-A7E9-DB60A8EF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EBC18-9514-4A05-9575-6A5C4494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4D7-8510-4D58-94E0-371E897B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1D58F-2355-47FA-9638-20CFED6D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722F3-CED2-4D0B-A8F4-AD72A0F3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3A12F-5743-4CB6-831F-8EB835E5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1EC66-15EC-49DC-AEA0-117D9763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3AB64-4240-42C1-BBFF-33D3F6DE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118FE-FE97-4F0E-8FC0-D48B48B3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070B0-85C6-4A5C-9F79-A165443E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C1FC4-3B7A-4BC4-9A8D-434CD55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EA985-EF3E-4CDA-BDE9-59C9614A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693C2-D45E-4EB4-A2E5-E09401C9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767-DA9E-48AD-83AB-14703DD4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C6FD6-D691-4435-B153-F520AE43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F521F-8198-4F1E-BC54-AD233117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0E037-209E-40AF-89D0-79F1C088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F8BFB-B76B-4B9D-AFFB-27C45DB2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C87F2-12F6-4E4A-A882-FE3C1E0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B7DEB-C6C6-49F0-99BA-6867494D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9CEA6-05A0-4458-B107-59FB21CA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226F8-FAF1-47FD-930A-2637F7C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E3F20-73D7-4BAD-9F2B-D0B4C27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1D39A-F1AD-4656-817D-A4843939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DA6A-15CB-40DB-A814-A20E72EA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4385-2813-425E-AFF2-E12A9A3F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D9455-D099-43FF-B87D-32ABC2CD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2FE2E-4EB2-4F1F-8D71-DE85C8F0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2AB6D-328B-416D-887D-12D2959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CDF54-57C9-4D3B-BB31-11F7DED3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14F79-4876-42D7-A374-6F1B0997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59719-4C5E-4563-9CD5-9FDF5A9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03713-F7DE-4DA1-AD0C-F31A09E3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E447D-1D39-48D1-81F4-D1DBD480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5DFEA-EEDA-438E-A7E8-AA2064E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2E0-57C7-4DF3-810D-C771F1E6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73358-D5A3-460A-8766-3AE5A3ED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BB9A6-F186-45B8-AD5E-9DE45D14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31249-800C-49C4-9F61-4A5DDF55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680E1-1444-45F5-84A3-1CB8D347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250A7-EC0C-4510-9B5A-7DE5D3EF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4327-BDDC-44E0-990F-4E276C8B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BB72-92CB-4B3F-A149-72D47AC4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04B8-947F-489F-A732-51E4533E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901B-AE3E-43C0-9E1E-C24F0A8C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C495-8FCB-4E41-8502-FE84C59E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ACE-FDBC-4E95-959C-5E5547AC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BB2A-914A-4FD3-9202-39E23B5F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3662-6879-4616-95E7-DAAE861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DA51-CC6A-489F-A133-428D254D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88F8-D721-433D-9608-782EEACD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538C-18AC-40B8-90EC-A94D2333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6B77-604E-4105-8A96-4926664D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3AD6-720E-4D4B-82D8-A32F077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F4DE-EB37-485E-99A6-83ACF8B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13E1-8393-4358-9C34-C25AC167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BAA3-4F57-4E81-86A8-26FA049B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F34-6DD7-44E7-80A3-8C56D28B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07D6-8BB5-4315-9F5A-8365F2F1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5C1A-B880-4BE4-8728-FC17481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96F0-279C-4C3F-9E2C-24DC1E4B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0CD8-A6DD-433E-9629-D5443B7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7B2F-0F7A-45B2-8423-B3E4D82E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CA44-D698-431F-B795-BFB4CF9C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3808-AAC7-4252-AA23-ADCE3BD6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CE5F-855D-42FB-960F-B2E3892A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5F87-C9C1-4552-8388-7999CA04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5754-FE27-41A0-9316-6A4CB753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C1A-8AC6-4746-A0A4-4D4D04C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29BD-0383-4DE4-A7A3-5F0F62B5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FC68-83B0-4AF4-86CC-2371900C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2E3C5-A023-47CF-8657-B2AA3E1D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6645-ABA7-45ED-9C9C-982AD654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2007-A8BB-46F7-8CEC-809A2748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740F-2FEF-42A9-9BF7-95E72E1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3010-B7A0-4598-8FA1-3F1C0917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6AEB-E7D3-4DC3-9361-0D8171FB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6542-B58E-4780-9612-C9AFB612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22467-3A02-48BF-9215-E2CCDB51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4B4-8D27-4781-A1B7-8F5C8B98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30C8E-1571-4D71-BF74-3C04E78B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B37E-E40A-403A-AB9B-1A8F5CA6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47F79-F3EC-40CB-99FA-5A233B89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37F51-8505-45E5-B98E-BAB276E7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CE81E-00CF-4891-8966-C81F5DF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E0B5F-A146-498E-BDD9-DFC16F7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705B-8043-4F42-8B27-FF86A6E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B8B27-11D9-4630-ADC7-0902713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3B8D2-1933-4F3C-AFEC-D4239352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1730-E85F-4470-9450-32C9C1F8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8FD-FE1A-4535-81DF-FC53621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8258E-D408-43BA-BF3E-C305530F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B9309-A44D-4CEF-8A64-3F178320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2E003-FC07-4CFB-8AE4-4E3F6096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2B230-0BBE-47FD-B690-6B3F25E7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1075-1617-4FEB-A9F6-DCB0208A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3DC0-C9EC-491E-9502-10BF21A0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F2FBC-5B02-4152-8162-B83E7DF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5F11E-42CB-400F-9FDC-DA877D9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14CD4-CBFD-4DE3-894E-3200366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C1625-9F6D-44F0-9CAF-33670C9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1E2-CEE0-4E5B-8A72-BBD6C072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5435-9B9F-4DB8-915E-FE7EAB8A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9528-3273-4EA5-B744-F2447FCD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A4F44-8CFC-42AF-A0F6-1E2172AC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1B6AA-8171-4034-9C1E-85235F4A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FD1D-2260-4F2F-8015-B9FDAA8A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0F5CE-BD4F-4B38-886C-C182C398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FB2BA-62A4-4102-B1B7-93220936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8386F-D0B7-4EF5-A9EF-A30C573D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7464-4815-4769-BE6D-AB6DFD09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494AF-4BBF-48AA-8140-256C8A4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E80-FD5D-44CD-BD4F-10CF202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92693-630D-47B5-B318-FF806C1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942A-1867-4513-BE41-080C2B4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52FEB-C2E9-449C-8E39-CFD7BA33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C1BB-55B1-415B-A15F-75CA4921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D45EE-8B6C-4082-BFED-D984ED91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28CC0-2ABB-4881-9683-8B239C89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DDB1C-19C5-4453-A125-A83E0BA6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60A9F-5D31-41DD-861C-C65FBB5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CB2D9-7CE4-4FAC-8D3F-0697EA8B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DD89B-86E8-4676-9EFE-79BF8C6A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1CB-2393-42C3-9FD5-488DCF17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241F2-002C-4BDD-929D-666FABE4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AA6CF-F070-4C8D-98AF-F6B0587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B602C-D11B-4F42-A8D9-954513E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1D9D2-F420-429C-A104-224D475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5FDD2-751C-43F2-A83B-101C9E74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1EF7-61E1-48A8-8479-701B26FB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026CE-DFA6-4A6A-8F4C-D9DD758A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43A89-210E-4ADD-BC23-A8058B34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805C6-75F3-49EA-BA63-847AE6E7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5A47F-2D40-457A-B631-B5DCC75D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5F1C-C445-4116-AB07-1C1FCE987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4B6-B4EE-4C56-943D-A38B6486E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B124-A713-491D-82D9-44D5C5A83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0224-4C30-436E-8054-7118ABCB9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4EC3-3DD9-404A-A43C-CF1274991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1D32-6C7C-4D76-BD73-CAF71EB99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4DC9-2D83-4D8B-BE4B-8C293E554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976E-4723-4BA7-8FF6-7C50218A1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5B84-7EB3-41B2-B73E-20F8C337D2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5183-C267-40B0-B0FD-2F0298301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BC6-AAFB-4327-A10A-115F09113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F436-2938-4E33-91E5-96E72406D8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4" name="Picture 2" descr="C:\Documents and Settings\Admin\Рабочий стол\13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C:\Documents and Settings\Admin\Рабочий стол\1 сентября\471311-78aa32faac6e57e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8" name="Picture 2" descr="C:\Documents and Settings\Admin\Рабочий стол\13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Documents and Settings\Admin\Рабочий стол\1 сентября\471359-1a879eaf042f7ef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225-8EF4-4043-BEF9-A1EB452CF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95280" y="1483920"/>
            <a:ext cx="36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тоит дом, сотни ребят в н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постоянно его посещает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дами знания приобре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5149080" y="1412640"/>
            <a:ext cx="33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В черном небе Заяц бел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л, бегал, петли дел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 за ним был тоже б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же этот заяц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2160" y="2852640"/>
            <a:ext cx="48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Палочка волшебная есть у меня, друз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ою этой могу построить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шню, дом, и самол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громный парох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5148360" y="292356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Если ей работу дашь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я трудился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613800" y="4292280"/>
            <a:ext cx="23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По черному бе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шут то и д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ут тряпицей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а стра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219280" y="42922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Есть, друзья, такая птиц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ядет на страниц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рад бываю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о мною вс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10D6-2496-4AD5-B96A-BAE3C73278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540720" y="1773000"/>
            <a:ext cx="32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Есть совсем другая птиц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ядет на страниц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с поникшей го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щаюсь 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5222160" y="1836360"/>
            <a:ext cx="299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Разноцвет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кучали без вод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ядя длинный и ху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ит воду бор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468360" y="3728880"/>
            <a:ext cx="34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Я все знаю, всех уч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а всегда мол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е я — помощник т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 же бережным со м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4499640" y="3925440"/>
            <a:ext cx="44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Кулик не велик, сотне ребят вели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сядь да учись, то встань, разойд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4" name="Picture 2" descr="C:\Documents and Settings\Admin\Рабочий стол\13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179280" y="2060640"/>
            <a:ext cx="8785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с… Взгляд… Одежда… Походка… Лоб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ческа… Его … остроумие сводят всех с ума. Жизнь класса не пирог с капуст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…друг. Пусть наши… сердца и… поздравления будут выражением любви к не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желаем нашему классу… здоровья, … радости, …дней успеха и …сплоченност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 здравствует наш… клас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8" name="Picture 2" descr="C:\Documents and Settings\Admin\Рабочий стол\13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C:\Documents and Settings\Admin\Рабочий стол\1 сентября\471351-ee081307883e763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05:42:12Z</dcterms:created>
  <dc:creator>Admin</dc:creator>
  <dc:description/>
  <dc:language>en-US</dc:language>
  <cp:lastModifiedBy>Олег</cp:lastModifiedBy>
  <dcterms:modified xsi:type="dcterms:W3CDTF">2011-05-22T19:41:59Z</dcterms:modified>
  <cp:revision>17</cp:revision>
  <dc:subject/>
  <dc:title>Слайд 1</dc:title>
</cp:coreProperties>
</file>