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C2CF-F2FB-4C65-979F-53E4B587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23A3-4728-4F2D-87F5-3A7B88F3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432F-6958-4473-B40A-E3042CC3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3F08-19C7-478F-8257-BCF6808D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783-B447-4DBC-AA30-931E4D96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13CC-3FE1-4126-8E75-7FC6CA22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B68F-2C3B-4636-8EC7-FB48F01F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3A2C-4BC6-41E0-A765-52C7803A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E16C-ABDE-4326-9996-51534350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72AF-7C49-4166-873A-89198E3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D6D7-7BB6-477B-B3A4-5A69EAD8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AB15-3951-48E5-9303-EC379EF2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3E2D-3E62-4116-91DB-82BD93E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5FB0-998A-4770-B39E-65D6FAA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F412-778A-4712-9AAA-52C9D2D3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0E85-28E7-46A1-BFC2-6F606BA2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8AF4-9DC4-4C7E-A3E5-7402B375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983B-4BF6-4C7A-BB2B-73093F58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172C-E4CE-4751-B02A-5BDC4A21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9EB6-94BB-47F2-8B21-597FD883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1F60-4FC8-41FA-9B72-17A2DA62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F6EA-D785-4FBD-AC63-7E21BB7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0D00-E2E1-4E21-A2DC-C197B31D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EC60-CA42-41F1-BBAB-E1491AD4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34A-4687-4EBB-B378-CE5EE7083A5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1929-2D7A-4D3D-865D-33CD15B136C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ffff"/>
                </a:solidFill>
                <a:uFillTx/>
                <a:latin typeface="Tahoma"/>
              </a:rPr>
              <a:t>Художественное творчество</a:t>
            </a:r>
            <a:br>
              <a:rPr sz="46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Лепка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учной труд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исование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06560" cy="244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40360" y="1484280"/>
            <a:ext cx="4244760" cy="3097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27640" y="4653000"/>
            <a:ext cx="3889440" cy="203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3524400" cy="264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54936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Чтение художественной литер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376520" cy="3283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727520" y="1125360"/>
            <a:ext cx="4416480" cy="331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x_a88cb56b"/>
          <p:cNvPicPr/>
          <p:nvPr/>
        </p:nvPicPr>
        <p:blipFill>
          <a:blip r:embed="rId3"/>
          <a:stretch/>
        </p:blipFill>
        <p:spPr>
          <a:xfrm>
            <a:off x="826920" y="4508640"/>
            <a:ext cx="3095640" cy="195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ffff"/>
                </a:solidFill>
                <a:uFillTx/>
                <a:latin typeface="Tahoma"/>
              </a:rPr>
              <a:t>Социализация</a:t>
            </a:r>
            <a:br>
              <a:rPr sz="2900"/>
            </a:b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260880" cy="331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92360" y="836640"/>
            <a:ext cx="3468960" cy="3240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4221000"/>
            <a:ext cx="2951280" cy="25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Физическое развитие</a:t>
            </a:r>
            <a:br>
              <a:rPr sz="28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402000" cy="25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384720" cy="244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3348000" cy="2378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03640" y="4221000"/>
            <a:ext cx="2801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012000" y="4221000"/>
            <a:ext cx="3017880" cy="23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321</cp:lastModifiedBy>
  <dcterms:modified xsi:type="dcterms:W3CDTF">2013-09-26T19:39:18Z</dcterms:modified>
  <cp:revision>71</cp:revision>
  <dc:subject/>
  <dc:title>PowerPoint Presentation</dc:title>
</cp:coreProperties>
</file>