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5FC5-2B16-4946-BCC8-64389C03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4EAC-6FCE-427F-A73E-B0AF08E7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E1E3-C842-414B-8CC7-9BF20D79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0D88-152C-4BB1-A7C9-412F0B97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E6D5-B310-4F72-8EAD-D9F3CE9D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A950-E189-42F7-86C7-85D3D16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657-F253-4BE0-9DD7-83BD3BA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997-E10B-44F7-9060-A161CAE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90C1-7402-455B-B6D1-BEA52FA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CBBE-FFD0-424A-BFB7-C4180FD0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609C-0476-404A-946D-26E343C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E8B6-8B3F-48E6-A64E-EC77EC26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811A-9B40-4348-9D2E-C1B62E9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0661-837D-4D28-A4C1-C09C6A5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7478-5119-4156-8DC2-512D352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768-7EA2-47CA-BD34-5A6C7359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2264-6620-4D2C-8AA9-6D2840D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9D95-4D6B-4CC5-A8D9-D3F6D25A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00BE-5F7A-418A-9344-3617A02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4780-A6AE-4E44-8276-40B971E7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ED2A-0B71-4757-B3E1-DDC0187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8C1C-DC1A-4F8B-87D0-F10E78A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2318-7916-469E-8B3F-959D1B3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83B3-0EBE-4DD1-A1B4-6F3791C3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BA9-B220-4C23-ADA9-4DA9E6984D5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C57-915B-4A36-87A1-573096B99BC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МУЗЫКАЛЬНО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395360"/>
            <a:ext cx="3097080" cy="23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40560" y="1341360"/>
            <a:ext cx="3403440" cy="231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2713320" cy="1798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809800" cy="179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276720" y="1413000"/>
            <a:ext cx="2519280" cy="21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059280" y="3357720"/>
            <a:ext cx="2444760" cy="28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трудничество с семь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76360" y="1628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формление альбомов: «Театр и дети»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нсультация : «Кукольный театр на вашей кухни»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зработали маршруты выходного дня (поход в театр)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екомендовали родителям изготовить вместе с детьми театральные куклы из бросового матери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621240" cy="271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330720" cy="26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3936960" cy="403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3887640" cy="374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3262320" cy="230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3292560" cy="232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276720" y="3573360"/>
            <a:ext cx="2249280" cy="29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000" y="1557360"/>
            <a:ext cx="7488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им </a:t>
            </a:r>
            <a:endParaRPr b="1" lang="en-US" sz="24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1" lang="en-US" sz="24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рыбка2" descr=""/>
          <p:cNvPicPr/>
          <p:nvPr/>
        </p:nvPicPr>
        <p:blipFill>
          <a:blip r:embed="rId1"/>
          <a:stretch/>
        </p:blipFill>
        <p:spPr>
          <a:xfrm>
            <a:off x="3059280" y="4724280"/>
            <a:ext cx="16380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2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321</cp:lastModifiedBy>
  <dcterms:modified xsi:type="dcterms:W3CDTF">2013-09-26T19:39:07Z</dcterms:modified>
  <cp:revision>72</cp:revision>
  <dc:subject/>
  <dc:title>PowerPoint Presentation</dc:title>
</cp:coreProperties>
</file>