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3698-24D8-4248-88D3-21AACDDEC1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15CC-84F3-4F8F-B103-8FEE744405B4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055-2FDA-4232-AD5B-05CE0C3B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251-7057-4FE7-A3CA-A37C0A48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D98-ABA5-4169-9A43-80E40935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740-67F6-4DD5-A98F-CB0E4967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61C-D46C-4C93-A977-504DE3E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242-A391-46A9-A240-EB0F8F5C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DB4-C136-4A12-BC22-E6E13F64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0BB-010B-4506-B085-99F3642B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D41-9229-43DC-B224-5EA9D2BB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453-8A4A-4A21-97A0-6C17AD6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130-766D-410D-8A3E-5E1F6320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199-42EE-4E3B-9970-EF081AE0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0B6D-8F20-4DC1-8519-123324F0A892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341C-995B-4167-BE3F-79CFB4D27E6B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9BB1-03A8-456D-A953-4FD38A4DC854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2CBA-D81C-4585-AC8E-2CE83CCA7E48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333360"/>
            <a:ext cx="8640720" cy="633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20857" r="0" b="6905"/>
          <a:stretch/>
        </p:blipFill>
        <p:spPr>
          <a:xfrm>
            <a:off x="324000" y="1125360"/>
            <a:ext cx="4392360" cy="4383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720" y="4149720"/>
            <a:ext cx="437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Работу выполнила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воспитатель </a:t>
            </a: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кв.категори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Попова Алёна Александровна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112536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nstantia"/>
              </a:rPr>
              <a:t>Проект на тему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nstantia"/>
              </a:rPr>
              <a:t>«Мы жители планеты - здоровье»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Подзаголовок 2"/>
          <p:cNvSpPr/>
          <p:nvPr/>
        </p:nvSpPr>
        <p:spPr>
          <a:xfrm>
            <a:off x="611280" y="5877000"/>
            <a:ext cx="7854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Constantia"/>
              </a:rPr>
              <a:t>Пермь</a:t>
            </a: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 – 2013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4.«Веселись детвора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ЗАДАЧИ: Воспитывать бережное отношение к своему и чужому здоровью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Развивать двигательную активность детей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Создавать психологический и эмоциональный комфорт в группе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1. День здоровья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2. Игровая деятельность: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Дидактические игры «Вредное-полезное», «Где живут витамины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Сюжетно-ролевые «Поликлиника», «Аптека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Подвижные «Делай как я», «Школа мяча», «Ловишка в кругу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3. Конкурс рисунков «Путешествие в страну Здоровья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4. Беседы «Витамины я люблю – быть здоровым я хочу», «Уроки безопасности», «Чистота – залог здоровья», «Друзья Мойдодыра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247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2484360" y="5445000"/>
            <a:ext cx="87480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7759800" y="5013360"/>
            <a:ext cx="1179360" cy="155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1403280" y="5805360"/>
            <a:ext cx="846360" cy="88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 flipH="1">
            <a:off x="179280" y="5084640"/>
            <a:ext cx="113184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6"/>
          <a:stretch/>
        </p:blipFill>
        <p:spPr>
          <a:xfrm>
            <a:off x="0" y="0"/>
            <a:ext cx="4491000" cy="124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5796000" y="5950080"/>
            <a:ext cx="1008000" cy="70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6877080" y="6165720"/>
            <a:ext cx="79200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3708360" y="6165720"/>
            <a:ext cx="7923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476280"/>
            <a:ext cx="79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Тип проекта: Информационно-образовательный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Участники проекта: Воспитанники старшего дошкольного возраста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Срок реализации проекта: краткосрочный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Цель проекта: создать условия для сознательного отношения к здоровому образу жизни, сохранять и укреплять здоровье детей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                                    </a:t>
            </a: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Проблемный вопрос: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                                   </a:t>
            </a: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Как сохранить свое здоровье и не                           навредить ему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                                        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nstantia"/>
              </a:rPr>
              <a:t>Задачи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nstantia"/>
              </a:rPr>
              <a:t>Создать условия для гармоничного развития личности каждого ребенка, путем создания здоровье сберегающего пространств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nstantia"/>
              </a:rPr>
              <a:t>Формировать бережное отношение к здоровью и потребности в здоровом образе жизни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nstantia"/>
              </a:rPr>
              <a:t>Обогащать и расширять представление детей о пользе витаминов, овощей и фруктов для организм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5000" y="399600"/>
            <a:ext cx="978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СОДЕРЖАНИЕ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«Если хочешь быть здоров…» (физкультурно-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оздоровительная работа, КГН, закаливание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2. «Я такой» (занятия по развитию представлений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о мире и о себе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3. «Творческая мастерская» (изодеятельность детей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4. «На книжной полке» (чтение детской литературы,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заучивание стихотворений, потешек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5. «Веселись, детвора!» (оздоровительные досуги,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праздники, развлечения, игровая деятельность,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день здоровья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6. «Для мам и пап» (информация, фотовыставки, опросы,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nstantia"/>
              </a:rPr>
              <a:t>консультации.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nstantia"/>
              </a:rPr>
              <a:t>Продукт проекта: коллаж «Мы жители планеты – здоровье!»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Constantia"/>
              </a:rPr>
              <a:t>Первый этап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-353520" y="3140280"/>
            <a:ext cx="995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1.«Если хочешь быть здоров…»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ЗАДАЧИ: Использование различных методов оздоровления детей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в соответствии с возрастом, индивидуальными особенностями детей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и пожеланиями родителе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8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Консультация для родителей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«Закаливание детей в дошкольном  возрасте»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2. Методы закаливания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nstantia"/>
              </a:rPr>
              <a:t>Второй этап: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Constantia"/>
              </a:rPr>
              <a:t>Метод трех вопросов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71" name="Вертикальный свиток 3"/>
          <p:cNvGrpSpPr/>
          <p:nvPr/>
        </p:nvGrpSpPr>
        <p:grpSpPr>
          <a:xfrm>
            <a:off x="0" y="1341360"/>
            <a:ext cx="3412800" cy="5175360"/>
            <a:chOff x="0" y="1341360"/>
            <a:chExt cx="3412800" cy="5175360"/>
          </a:xfrm>
        </p:grpSpPr>
        <p:pic>
          <p:nvPicPr>
            <p:cNvPr id="72" name="Вертикальный свиток 3" descr=""/>
            <p:cNvPicPr/>
            <p:nvPr/>
          </p:nvPicPr>
          <p:blipFill>
            <a:blip r:embed="rId2"/>
            <a:stretch/>
          </p:blipFill>
          <p:spPr>
            <a:xfrm>
              <a:off x="0" y="1341360"/>
              <a:ext cx="3412800" cy="51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4"/>
            <p:cNvSpPr/>
            <p:nvPr/>
          </p:nvSpPr>
          <p:spPr>
            <a:xfrm>
              <a:off x="464040" y="1774800"/>
              <a:ext cx="233604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Что мы знаем?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Arial"/>
                </a:rPr>
                <a:t>Чтобы быть здоровым нужно есть витамины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Arial"/>
                </a:rPr>
                <a:t>Молоко полезно для костей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Arial"/>
                </a:rPr>
                <a:t>Нужно мыть руки чтобы не заболеть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74" name="Вертикальный свиток 3"/>
          <p:cNvGrpSpPr/>
          <p:nvPr/>
        </p:nvGrpSpPr>
        <p:grpSpPr>
          <a:xfrm>
            <a:off x="2916360" y="1341360"/>
            <a:ext cx="3412800" cy="5175360"/>
            <a:chOff x="2916360" y="1341360"/>
            <a:chExt cx="3412800" cy="5175360"/>
          </a:xfrm>
        </p:grpSpPr>
        <p:pic>
          <p:nvPicPr>
            <p:cNvPr id="75" name="Вертикальный свиток 3" descr=""/>
            <p:cNvPicPr/>
            <p:nvPr/>
          </p:nvPicPr>
          <p:blipFill>
            <a:blip r:embed="rId3"/>
            <a:stretch/>
          </p:blipFill>
          <p:spPr>
            <a:xfrm>
              <a:off x="2916360" y="1341360"/>
              <a:ext cx="3412800" cy="51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4"/>
            <p:cNvSpPr/>
            <p:nvPr/>
          </p:nvSpPr>
          <p:spPr>
            <a:xfrm>
              <a:off x="3380400" y="1774800"/>
              <a:ext cx="233604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Calibri"/>
                </a:rPr>
                <a:t>Что хотим узнать?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Calibri"/>
                </a:rPr>
                <a:t>Где живут витамины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Calibri"/>
                </a:rPr>
                <a:t>Зачем нам нужны витамины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Calibri"/>
                </a:rPr>
                <a:t>Что полезней овощи или фрукты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Calibri"/>
                </a:rPr>
                <a:t>Что вредит организму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77" name="Вертикальный свиток 3"/>
          <p:cNvGrpSpPr/>
          <p:nvPr/>
        </p:nvGrpSpPr>
        <p:grpSpPr>
          <a:xfrm>
            <a:off x="5730840" y="1341360"/>
            <a:ext cx="3412800" cy="5175360"/>
            <a:chOff x="5730840" y="1341360"/>
            <a:chExt cx="3412800" cy="5175360"/>
          </a:xfrm>
        </p:grpSpPr>
        <p:pic>
          <p:nvPicPr>
            <p:cNvPr id="78" name="Вертикальный свиток 3" descr=""/>
            <p:cNvPicPr/>
            <p:nvPr/>
          </p:nvPicPr>
          <p:blipFill>
            <a:blip r:embed="rId4"/>
            <a:stretch/>
          </p:blipFill>
          <p:spPr>
            <a:xfrm>
              <a:off x="5730840" y="1341360"/>
              <a:ext cx="3412800" cy="51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4"/>
            <p:cNvSpPr/>
            <p:nvPr/>
          </p:nvSpPr>
          <p:spPr>
            <a:xfrm>
              <a:off x="6194880" y="1774800"/>
              <a:ext cx="233604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Calibri"/>
                </a:rPr>
                <a:t>Откуда узнать?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Calibri"/>
                </a:rPr>
                <a:t>Спросить у родителей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Calibri"/>
                </a:rPr>
                <a:t>Расскажет воспитатель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Calibri"/>
                </a:rPr>
                <a:t>Прочитать в книге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00"/>
                  </a:solidFill>
                  <a:latin typeface="Calibri"/>
                </a:rPr>
                <a:t>Посмотреть телепередачу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1. «Я такой»(развитие представлений о мире и о себе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ЗАДАЧИ: Дать детям представление о себе: о своем теле, здоровье, безопасности и эмоциях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2.«Творческая мастерская»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ЗАДАЧИ:  Проведение оздоровительной работы с детьми и обогащение развивающей среды в группе при взаимодействии воспитателей, детей и их родителей. 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1. Пополнение уголка Здоровья в групп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2. Коллективные и индивидуальные работы детей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tantia"/>
              </a:rPr>
              <a:t>3. Размещение информации для родителей о здоровье и его сохранени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3.«На книжной полке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(чтение детской литературы, заучивание стихотворений, потешек)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ЗАДАЧИ:  Воспитывать бережное отношение к своему здоровью через чтение детской литературы. Использование русских народных потешек, приговорок, пестушек.  Заучить стихотворения о здоровье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1. Чтение детской литературы «Закаляйся» Лебедев-Кумач, «Дрема и зевота» Маршак С.Я., «Про девочку которая плохо кушала», «Прививка», «Прогулка» Михалков С., «Прогулка» Барто А., «Запрещается-разрешается» Семернин В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2. Заучивание потешек, приговорок, пестушек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3. Заучивание стихотворений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4. Рассматривание иллюстраций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10:16:47Z</dcterms:created>
  <dc:creator>Admin</dc:creator>
  <dc:description>http://aida.ucoz.ru</dc:description>
  <dc:language>en-US</dc:language>
  <cp:lastModifiedBy>Admin</cp:lastModifiedBy>
  <dcterms:modified xsi:type="dcterms:W3CDTF">2013-07-29T17:01:24Z</dcterms:modified>
  <cp:revision>5</cp:revision>
  <dc:subject/>
  <dc:title>Слайд 1</dc:title>
</cp:coreProperties>
</file>