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D04-CEDB-491D-BF4D-1763CD201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5C5-E391-42F8-9DC0-1A3024E8E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B7B-7968-4FF4-9772-418A525F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EA4-5623-4B95-9141-A5B4862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3F1-A15F-4E1C-B760-E8ABA41D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B2D-BC50-4BE3-B61C-9BBFE7F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452-4A2A-4672-85E9-2D6848E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42B-3F7C-4E9C-98CF-68471BC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ED5-6D2D-45AA-B597-B272240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A81-9969-4279-85C9-1FD1532E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366-71B4-4338-8A26-A299088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7BF-931F-42BF-91B6-36F94EE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E51-1F32-4E3A-9F22-410AC55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83A-F799-4A82-ADB2-CFF079A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9B3-775E-4883-92A2-2CFD67390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1560600" y="907920"/>
            <a:ext cx="12076200" cy="3938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3"/>
          <a:stretch/>
        </p:blipFill>
        <p:spPr>
          <a:xfrm>
            <a:off x="-615960" y="5748480"/>
            <a:ext cx="101617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5"/>
          <p:cNvSpPr/>
          <p:nvPr/>
        </p:nvSpPr>
        <p:spPr>
          <a:xfrm>
            <a:off x="179280" y="189000"/>
            <a:ext cx="8713800" cy="82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рушения правил и недисциплинированное поведение иг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рушения правил, выразившиеся в применении запрещенных приемов и недисциплинированном поведении, наказываются следующим образом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0322.jpg"/>
          <p:cNvPicPr/>
          <p:nvPr/>
        </p:nvPicPr>
        <p:blipFill>
          <a:blip r:embed="rId1"/>
          <a:stretch/>
        </p:blipFill>
        <p:spPr>
          <a:xfrm>
            <a:off x="826920" y="1268280"/>
            <a:ext cx="3532320" cy="2648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1060274-16966538-640-360.jpg"/>
          <p:cNvPicPr/>
          <p:nvPr/>
        </p:nvPicPr>
        <p:blipFill>
          <a:blip r:embed="rId2"/>
          <a:stretch/>
        </p:blipFill>
        <p:spPr>
          <a:xfrm>
            <a:off x="4859280" y="1484280"/>
            <a:ext cx="3776760" cy="2124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1459961_20120401090216.gif"/>
          <p:cNvPicPr/>
          <p:nvPr/>
        </p:nvPicPr>
        <p:blipFill>
          <a:blip r:embed="rId3"/>
          <a:stretch/>
        </p:blipFill>
        <p:spPr>
          <a:xfrm>
            <a:off x="468360" y="4149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iconic_photos_30.jpg"/>
          <p:cNvPicPr/>
          <p:nvPr/>
        </p:nvPicPr>
        <p:blipFill>
          <a:blip r:embed="rId4"/>
          <a:stretch/>
        </p:blipFill>
        <p:spPr>
          <a:xfrm>
            <a:off x="4572000" y="378936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6"/>
          <p:cNvSpPr/>
          <p:nvPr/>
        </p:nvSpPr>
        <p:spPr>
          <a:xfrm>
            <a:off x="179280" y="2852640"/>
            <a:ext cx="8713800" cy="371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Штрафной удар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аво выполнения штрафного удара предоставляется противоположной команде в случае совершения игроком любого из следующих шести нарушений, в которых судья расценил его действия как небрежные, безрассудные или чрезмерно физически агрессивные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удар или попытка ударить соперника ногой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одножка или попытка сделать сопернику подножку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рыжок на соперник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атака соперник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удар или попытка ударить соперника рукой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толчок соперника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аво выполнения штрафного удара также дается противоположной команде, если игрок совершит любые из следующих четырех нарушений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ри отборе мяча у соперника соприкоснется с ним до того, как дотронуться до мяч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задержит соперник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люнет в соперника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умышленно сыграет мяч рукой (кроме вратаря в своей штрафной площади)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Штрафной удар выполняется с места, где произошло нарушение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7" descr="1996_1.jpg"/>
          <p:cNvPicPr/>
          <p:nvPr/>
        </p:nvPicPr>
        <p:blipFill>
          <a:blip r:embed="rId1"/>
          <a:stretch/>
        </p:blipFill>
        <p:spPr>
          <a:xfrm>
            <a:off x="2843280" y="404640"/>
            <a:ext cx="3235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6"/>
          <p:cNvSpPr/>
          <p:nvPr/>
        </p:nvSpPr>
        <p:spPr>
          <a:xfrm>
            <a:off x="5076720" y="333360"/>
            <a:ext cx="3240360" cy="3503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наль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-метровый удар назначается в ворота команды, игроки которой совершили одно из десяти нарушений, наказуемых штрафным ударом, в пределах своей штрафной площади в то время, когда мяч находился в игре. Гол, забитый с 11-метрового удара, засчитывается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окончании каждого из таймов основного или добавочного времени добавляется время, необходимое для выполнения 11-метрового удар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611280" y="2565360"/>
            <a:ext cx="3456000" cy="4143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естонахождение мяча и игрок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яч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устанавливается на 11-метровую отметку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олняющий удар игрок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олжным образом идентифицирован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ратарь защищающейся команды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остается на линии своих ворот, лицом к выполняющему удар игроку, между стойками ворот, до тех пор, пока по мячу не будет произведен удар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гроки, кроме выполняющего удар, находятся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в пределах пол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за пределами штрафной площад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позади 11-метровой отметк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на расстоянии не менее 9,15 м (10 ярдов) от 11-метровой отметки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baggio-blog480.jpg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2200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108064976.jpg"/>
          <p:cNvPicPr/>
          <p:nvPr/>
        </p:nvPicPr>
        <p:blipFill>
          <a:blip r:embed="rId2"/>
          <a:stretch/>
        </p:blipFill>
        <p:spPr>
          <a:xfrm>
            <a:off x="4716360" y="3933720"/>
            <a:ext cx="39560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611280" y="2637000"/>
            <a:ext cx="7848360" cy="371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брасывание мя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брасывание мяча является способом возобновления игр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л, забитый непосредственно после вбрасывания, не засчитывается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 Вбрасывание назначается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когда мяч полностью пересекает боковую линию – по земле или по воздуху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 места, где мяч пересек боковую линию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в пользу команды-соперницы игрока, последним коснувшегося мяч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 Процедура вбрасывания мяча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омент вбрасывания мяча игрок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находится лицом к полю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часть его ступней находится либо на боковой линии, либо на земле за пределами боковой лин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производит вбрасывание обеими рукам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вбрасывает мяч движением из-за головы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олняющий вбрасывание игрок не может, вновь коснуться мяча, прежде чем мяч коснется другого игрок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яч находится в игре сразу же после его попадания в пределы поля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image005.jpg"/>
          <p:cNvPicPr/>
          <p:nvPr/>
        </p:nvPicPr>
        <p:blipFill>
          <a:blip r:embed="rId1"/>
          <a:stretch/>
        </p:blipFill>
        <p:spPr>
          <a:xfrm>
            <a:off x="2411280" y="260280"/>
            <a:ext cx="4324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post6825.jpg"/>
          <p:cNvPicPr/>
          <p:nvPr/>
        </p:nvPicPr>
        <p:blipFill>
          <a:blip r:embed="rId1"/>
          <a:stretch/>
        </p:blipFill>
        <p:spPr>
          <a:xfrm>
            <a:off x="1692360" y="476280"/>
            <a:ext cx="5751360" cy="31654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50920" y="4076640"/>
            <a:ext cx="8569080" cy="2531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утбо́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(от англ. foot — нога, ball — мяч) — командный вид спорта, в котором целью является забить мяч в ворота соперника ногами или другими частями тела (кроме рук) большее количество раз, чем команда 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39640" y="4076640"/>
            <a:ext cx="7920000" cy="25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е для игры имеет форму прямоугольни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оковая линия должна быть длиннее линии воро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: минимум 90 м (100 ярдов) – максимум 120 м (130 ярдов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ирина: минимум 45 м (50 ярдов) – максимум 90 м (100 ярдов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ждународные матч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: минимум 100 м (110 ярдов) – максимум 110 м (120 ярдов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ирина: минимум 64 м (70 ярдов) – максимум 75 м (80 ярдов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01_gazon-areny-lvov-zakonservirovali.jpg"/>
          <p:cNvPicPr/>
          <p:nvPr/>
        </p:nvPicPr>
        <p:blipFill>
          <a:blip r:embed="rId1"/>
          <a:stretch/>
        </p:blipFill>
        <p:spPr>
          <a:xfrm>
            <a:off x="2340000" y="260280"/>
            <a:ext cx="4572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39640" y="3860640"/>
            <a:ext cx="7920000" cy="2770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орот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рота должны размещаться по центру каждой из линий воро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ни состоят из двух вертикальных стоек, находящихся на равном расстоянии от угловых флагов и соединенных вверху горизонтальной перекладин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стояние между стойками – 7,32 м (8 ярдов), а расстояние от нижнего контура перекладины до поверхности земли – 2,44 м (8 футов)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ирина и высота сечения обеих стоек и перекладины одинаковы и не превышают 12 см (5 дюймов). Ширина линии ворот равна ширине стоек и перекладины. К воротам и грунту за воротами могут прикрепляться сетки, которые должны быть надежно закреплены и расположены так, чтобы не мешать вратар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йки и перекладины ворот должны быть белого цвет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8899.jpg"/>
          <p:cNvPicPr/>
          <p:nvPr/>
        </p:nvPicPr>
        <p:blipFill>
          <a:blip r:embed="rId1"/>
          <a:stretch/>
        </p:blipFill>
        <p:spPr>
          <a:xfrm>
            <a:off x="1908000" y="189000"/>
            <a:ext cx="5328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279165161_soccer_balls_5.jpg"/>
          <p:cNvPicPr/>
          <p:nvPr/>
        </p:nvPicPr>
        <p:blipFill>
          <a:blip r:embed="rId1"/>
          <a:stretch/>
        </p:blipFill>
        <p:spPr>
          <a:xfrm>
            <a:off x="3560760" y="328680"/>
            <a:ext cx="3205080" cy="1884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soccerball.jpg"/>
          <p:cNvPicPr/>
          <p:nvPr/>
        </p:nvPicPr>
        <p:blipFill>
          <a:blip r:embed="rId2"/>
          <a:stretch/>
        </p:blipFill>
        <p:spPr>
          <a:xfrm>
            <a:off x="6724800" y="396720"/>
            <a:ext cx="206532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adidas-cafuso_enl.jpg"/>
          <p:cNvPicPr/>
          <p:nvPr/>
        </p:nvPicPr>
        <p:blipFill>
          <a:blip r:embed="rId3"/>
          <a:stretch/>
        </p:blipFill>
        <p:spPr>
          <a:xfrm>
            <a:off x="317520" y="328680"/>
            <a:ext cx="2065320" cy="2060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684360" y="2852640"/>
            <a:ext cx="7920000" cy="3386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яч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меет сферическую форм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зготовлен из кожи или другого пригодного для этих целей материа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меет длину окружности не более 70 см (28 дюймов) и не менее 68 см (27 дюймов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на момент начала матча весит не более 450 г (16 унций) и не менее 410 г (14 унций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меет давление, равное 0,6 -1,1 атмосферы (600 – 1100 г/кв. см) на уровне моря (от 8,5 фунта/кв. дюйм до 15,6 фунта/кв. дюйм) 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611280" y="3068640"/>
            <a:ext cx="7921440" cy="3448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исло иг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гроки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тч проводится с участием двух команд, с числом игроков в каждой – не более одиннадцати, включая вратаря. Матч не может начинаться, если в состав любой из команд входит менее семи игроков. 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Официальные соревнова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любом матче официального соревнования, организуемого под эгидой ФИФА, конфедераций или национальных федераций, разрешается замена не более трех игрок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регламенте соревнований должно быть оговорено количество заявляемых запасных – от трех до семи, но не боле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B4Pmex8SdliLstXb.jpg"/>
          <p:cNvPicPr/>
          <p:nvPr/>
        </p:nvPicPr>
        <p:blipFill>
          <a:blip r:embed="rId1"/>
          <a:stretch/>
        </p:blipFill>
        <p:spPr>
          <a:xfrm>
            <a:off x="2700360" y="189000"/>
            <a:ext cx="37479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189000"/>
            <a:ext cx="7920000" cy="1554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гровое врем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должительность игры – два равных тайма по 45 минут (если судья и две команды-участницы матча не согласовали иного варианта). Любая договоренность об изменении продолжительности игрового времени (к примеру, о сокращении каждого тайма до 40 минут из-за недостаточности освещения) должна быть достигнута до начала игры и должна отвечать правилам соревн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9640" y="4869000"/>
            <a:ext cx="7920000" cy="1797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ерерыв между таймам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гроки имеют право на перерыв между двумя таймам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ерыв между таймами не должен превышать 15 мину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регламенте соревнования должна указываться продолжительность перерыва между таймам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должительность перерыва между таймами может изменяться только с согласия судь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Tablo_DK-SM.jpg"/>
          <p:cNvPicPr/>
          <p:nvPr/>
        </p:nvPicPr>
        <p:blipFill>
          <a:blip r:embed="rId1"/>
          <a:stretch/>
        </p:blipFill>
        <p:spPr>
          <a:xfrm>
            <a:off x="2771640" y="1916280"/>
            <a:ext cx="367200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11640" y="1125360"/>
            <a:ext cx="4753080" cy="131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ол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яч считается забитым в ворота, если он полностью пересек линию ворот между стойками и под перекладиной, при условии, что перед этим забившая гол команда не нарушила Правила игр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image712.jpg"/>
          <p:cNvPicPr/>
          <p:nvPr/>
        </p:nvPicPr>
        <p:blipFill>
          <a:blip r:embed="rId1"/>
          <a:stretch/>
        </p:blipFill>
        <p:spPr>
          <a:xfrm>
            <a:off x="395280" y="333360"/>
            <a:ext cx="3516480" cy="2637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1348091814_extras_albumes_0.jpg"/>
          <p:cNvPicPr/>
          <p:nvPr/>
        </p:nvPicPr>
        <p:blipFill>
          <a:blip r:embed="rId2"/>
          <a:stretch/>
        </p:blipFill>
        <p:spPr>
          <a:xfrm>
            <a:off x="4067280" y="3141720"/>
            <a:ext cx="4859280" cy="3311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39640" y="3284640"/>
            <a:ext cx="3024360" cy="2770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оманда-победител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оманда, забившая в течение матча большее количество голов, считается победителем. Если обеими командами забито равное количество голов или не было забито ни одного гола, то матч заканчивается с ничейным результатом.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24000" y="3357720"/>
            <a:ext cx="8569080" cy="3257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ение игрока "вне игры" не является само по себе нарушением правил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грок находится в положении "вне игры", есл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- он ближе к линии ворот соперника, чем мяч и предпоследний игрок соперника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грок не находится в положении "вне игры", есл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- он на своей половине пол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- он на одной линии с соперником, находящимся в предпоследней позици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- он на одной линии с двумя последними игроками противоположной команд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ли (новая поправка. внесена в ноябре 2003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- он находится в так называемом пассивном положении "вне игры" и не влияет на развитие эпизода — не касается мяча и не блокирует его видимость игрокам обороняющейся команды, а также не мешает их перемещ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ofsaid.jpg"/>
          <p:cNvPicPr/>
          <p:nvPr/>
        </p:nvPicPr>
        <p:blipFill>
          <a:blip r:embed="rId1"/>
          <a:stretch/>
        </p:blipFill>
        <p:spPr>
          <a:xfrm>
            <a:off x="2050920" y="476280"/>
            <a:ext cx="5067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16:18:20Z</dcterms:created>
  <dc:creator>Дрюша</dc:creator>
  <dc:description/>
  <dc:language>en-US</dc:language>
  <cp:lastModifiedBy>Андрюша</cp:lastModifiedBy>
  <dcterms:modified xsi:type="dcterms:W3CDTF">2013-09-26T17:50:29Z</dcterms:modified>
  <cp:revision>35</cp:revision>
  <dc:subject/>
  <dc:title>Слайд 1</dc:title>
</cp:coreProperties>
</file>